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wmf" ContentType="image/x-wmf"/>
  <Override PartName="/ppt/media/image27.jpeg" ContentType="image/jpeg"/>
  <Override PartName="/ppt/media/image23.jpeg" ContentType="image/jpeg"/>
  <Override PartName="/ppt/media/image26.png" ContentType="image/png"/>
  <Override PartName="/ppt/media/image17.jpeg" ContentType="image/jpeg"/>
  <Override PartName="/ppt/media/image3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jpeg" ContentType="image/jpeg"/>
  <Override PartName="/ppt/media/image9.wmf" ContentType="image/x-wmf"/>
  <Override PartName="/ppt/media/image30.jpeg" ContentType="image/jpeg"/>
  <Override PartName="/ppt/media/image22.jpeg" ContentType="image/jpeg"/>
  <Override PartName="/ppt/media/image32.png" ContentType="image/png"/>
  <Override PartName="/ppt/media/image2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9.png" ContentType="image/pn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8AA96-7C00-4C7F-A0AD-CB869BC59A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920" y="394884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7D37D-8911-4D92-8562-1712FD0556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928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29EE9-8EA3-4380-ACC8-4D8481EBF1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304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92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304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480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5C3A5-0C90-4BFE-8E12-00E4A512EA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98389-DF9D-42FB-9533-761432B4C1E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7F97F-9CA2-4566-B320-835A68A6710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1CA55-6FE7-47EE-A607-C72C7732CAA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B0075-8879-4604-BC6C-BB4F519CB67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B13E6-7AEF-49C9-B152-2F86835A2CD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8920" y="102960"/>
            <a:ext cx="8713800" cy="37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75C89-E1FE-42CF-974D-D6AFF62AE79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4BB7F-54B8-4C34-96A7-D9BFE892A6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F3BF5-5BCD-44A8-8464-007A1F1D09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928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7DE28-DAC5-422D-89A8-C4CBB1CA53E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35969-09ED-4F58-B003-471024DDB6E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50920" y="394884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FD28A-F984-4460-83BC-B9FA5243ADF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928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E9479-DB1B-4508-B3C9-664C0C89B97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7304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9480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5092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7304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9480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778FA-AE42-4E2E-9616-4D5E9BE0AA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0A4B9-A2EF-4A77-8D15-DFAB2056FE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AAD28-B2CF-480B-99C6-4BB61312F0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EEA9D-D8C2-42D1-B436-790883F7DF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8920" y="102960"/>
            <a:ext cx="8713800" cy="37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F9168-F72E-4EA4-ACC7-33CF36CB40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7531E-9A76-4A87-9168-FF5846C62E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928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711B2-129B-4945-A33A-B6806F910A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45481-65DF-4B95-8627-AC638AEF35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8840" y="-93600"/>
            <a:ext cx="2772720" cy="6950160"/>
            <a:chOff x="-7884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ead5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5600" y="3922560"/>
              <a:ext cx="889560" cy="719640"/>
              <a:chOff x="7560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2492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8440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792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5084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6840" y="2601000"/>
              <a:ext cx="2687040" cy="3117960"/>
              <a:chOff x="684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9456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1196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6576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9100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1540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60040" y="4055040"/>
                <a:ext cx="1833840" cy="1663920"/>
                <a:chOff x="86004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972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3604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992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75560" y="6174000"/>
              <a:ext cx="790560" cy="634680"/>
              <a:chOff x="47556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2132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932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9420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25080" y="1775880"/>
              <a:ext cx="785160" cy="693360"/>
              <a:chOff x="32508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4708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70128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2392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301760" y="0"/>
              <a:ext cx="546480" cy="581400"/>
              <a:chOff x="130176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30176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5196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9220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4616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9168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3020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b2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556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792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92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ab2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92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924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9168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908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8232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3636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792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9648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1"/>
          </p:nvPr>
        </p:nvSpPr>
        <p:spPr>
          <a:xfrm>
            <a:off x="8100720" y="6243480"/>
            <a:ext cx="86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57514-8251-4814-8991-FFA9D71E63FB}" type="slidenum"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4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98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2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6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0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4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4" name="PlaceHolder 1"/>
          <p:cNvSpPr>
            <a:spLocks noGrp="1"/>
          </p:cNvSpPr>
          <p:nvPr>
            <p:ph type="sldNum" idx="2"/>
          </p:nvPr>
        </p:nvSpPr>
        <p:spPr>
          <a:xfrm>
            <a:off x="7956720" y="6243480"/>
            <a:ext cx="86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20B5B-8FEB-47BD-963E-62C620B1B524}" type="slidenum"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Click to edit the title text format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SzPct val="85000"/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23.jpeg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28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Rocks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547280" y="4221000"/>
            <a:ext cx="61470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They are made in a variety of ways, but …</a:t>
            </a: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47998-4798-4662-9A58-955A730860C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78920" y="103320"/>
            <a:ext cx="8713800" cy="11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What is the difference between weathering and erosion?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421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Erosion is the wearing away of rock by wind, water or ice (which means also that is taken away too). We will come back to that another day!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Weathering is the breaking down of rock by weather, plants and animals (which means it tend to stay where it is) – a bit more about this in a minute.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737C9-EA39-45A6-A923-4B602F605C5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66"/>
                </a:solidFill>
                <a:latin typeface="Comic Sans MS"/>
              </a:rPr>
              <a:t>Sedimentary rocks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539640" y="907920"/>
            <a:ext cx="3600720" cy="2980800"/>
            <a:chOff x="539640" y="907920"/>
            <a:chExt cx="3600720" cy="2980800"/>
          </a:xfrm>
        </p:grpSpPr>
        <p:pic>
          <p:nvPicPr>
            <p:cNvPr id="284" name="" descr=""/>
            <p:cNvPicPr/>
            <p:nvPr/>
          </p:nvPicPr>
          <p:blipFill>
            <a:blip r:embed="rId1"/>
            <a:stretch/>
          </p:blipFill>
          <p:spPr>
            <a:xfrm>
              <a:off x="539640" y="907920"/>
              <a:ext cx="3600720" cy="24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1042920" y="3429000"/>
              <a:ext cx="244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6699"/>
                  </a:solidFill>
                  <a:latin typeface="Comic Sans MS"/>
                  <a:ea typeface="Arial"/>
                </a:rPr>
                <a:t>Sandstone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826920" y="4221000"/>
            <a:ext cx="5905800" cy="2489400"/>
            <a:chOff x="826920" y="4221000"/>
            <a:chExt cx="5905800" cy="2489400"/>
          </a:xfrm>
        </p:grpSpPr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3132000" y="4221000"/>
              <a:ext cx="3600720" cy="248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826920" y="5516640"/>
              <a:ext cx="244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6699"/>
                  </a:solidFill>
                  <a:latin typeface="Comic Sans MS"/>
                  <a:ea typeface="Arial"/>
                </a:rPr>
                <a:t>Conglomerate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5724360" y="907920"/>
            <a:ext cx="3024360" cy="2909520"/>
            <a:chOff x="5724360" y="907920"/>
            <a:chExt cx="3024360" cy="2909520"/>
          </a:xfrm>
        </p:grpSpPr>
        <p:pic>
          <p:nvPicPr>
            <p:cNvPr id="290" name="" descr=""/>
            <p:cNvPicPr/>
            <p:nvPr/>
          </p:nvPicPr>
          <p:blipFill>
            <a:blip r:embed="rId3"/>
            <a:stretch/>
          </p:blipFill>
          <p:spPr>
            <a:xfrm>
              <a:off x="5724360" y="907920"/>
              <a:ext cx="3024360" cy="24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6084720" y="3357720"/>
              <a:ext cx="244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6699"/>
                  </a:solidFill>
                  <a:latin typeface="Comic Sans MS"/>
                  <a:ea typeface="Arial"/>
                </a:rPr>
                <a:t>Limestone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F7303-7AD1-43D0-8F51-58A3AA08FE6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Sedimentary rocks are the only ones …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24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… </a:t>
            </a: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that may have plant or animal remains trapped in them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Metamorphic and igneous rocks were too hot or too squashed to allow them to survive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1979640" y="3357720"/>
            <a:ext cx="4298400" cy="3200040"/>
            <a:chOff x="1979640" y="3357720"/>
            <a:chExt cx="4298400" cy="3200040"/>
          </a:xfrm>
        </p:grpSpPr>
        <p:pic>
          <p:nvPicPr>
            <p:cNvPr id="295" name="" descr=""/>
            <p:cNvPicPr/>
            <p:nvPr/>
          </p:nvPicPr>
          <p:blipFill>
            <a:blip r:embed="rId3"/>
            <a:stretch/>
          </p:blipFill>
          <p:spPr>
            <a:xfrm>
              <a:off x="1979640" y="3357720"/>
              <a:ext cx="4298400" cy="32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1979640" y="3357720"/>
              <a:ext cx="4298400" cy="3200040"/>
            </a:xfrm>
            <a:prstGeom prst="rect">
              <a:avLst/>
            </a:prstGeom>
            <a:noFill/>
            <a:ln w="255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75084-5281-42D6-BAA1-98C8FF8A986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More about weathering …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62658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Physical weathering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(a) Freeze-thaw weathering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Water may enter cracks in rocks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In areas where the temperature falls below the freezing point of water, the water will turn into ice when it is cold enough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Water expands as it freezes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e ice now exerts pressure on the walls of the crack, pushing them further apart and widening the crack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Over time, the crack becomes wider and the rock may break apart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8"/>
          <a:stretch/>
        </p:blipFill>
        <p:spPr>
          <a:xfrm>
            <a:off x="6413400" y="981000"/>
            <a:ext cx="2170080" cy="453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6D4AD-2350-456D-B6FC-19CBC392E78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More about weathering …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856908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Physical weathering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(b) Onion-skin weathering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Large changes in temperature</a:t>
            </a:r>
            <a:r>
              <a:rPr b="1" lang="en-US" sz="2800" spc="-1" strike="noStrike">
                <a:solidFill>
                  <a:srgbClr val="006699"/>
                </a:solidFill>
                <a:latin typeface="Comic Sans MS"/>
              </a:rPr>
              <a:t>:</a:t>
            </a: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Changes in temperature cause the surface of the rock to expand and contract more than the interior of the rock.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his weakens the rock and causes cracks to form.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6"/>
          <a:stretch/>
        </p:blipFill>
        <p:spPr>
          <a:xfrm>
            <a:off x="971640" y="4869000"/>
            <a:ext cx="3276360" cy="129528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7"/>
          <a:stretch/>
        </p:blipFill>
        <p:spPr>
          <a:xfrm>
            <a:off x="4284720" y="4869000"/>
            <a:ext cx="3276720" cy="129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16C56-1B1E-4D36-83BF-7306A461F61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More about weathering …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7527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Biological weathering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Plant roots and animal burrows can destabilise rocks. 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Lichen that grows on rock surfaces gradually wears it away.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4"/>
          <a:stretch/>
        </p:blipFill>
        <p:spPr>
          <a:xfrm>
            <a:off x="5076720" y="1484280"/>
            <a:ext cx="3527640" cy="338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D7A11-ED13-491B-95CC-E2DD5354ABE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More about weathering …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250560" y="836280"/>
            <a:ext cx="85690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Chemical weathering occurs when rocks are exposed to water.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Rainfall is naturally acidic due to the carbon dioxide dissolved in it.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Chemical reactions taking place between the water and the rock cause the rock to break down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4"/>
          <a:stretch/>
        </p:blipFill>
        <p:spPr>
          <a:xfrm>
            <a:off x="2771640" y="3500280"/>
            <a:ext cx="4327560" cy="280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775A7-AF3B-4EC9-A053-E9843246D9C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Three types of rocks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7075440" cy="20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Igneous: </a:t>
            </a: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65%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Metamorphic:</a:t>
            </a: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27%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Sedimentary:</a:t>
            </a: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8%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1049400" y="3189240"/>
          <a:ext cx="6929280" cy="36594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49400" y="3189240"/>
                    <a:ext cx="6929280" cy="365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C29C2-6193-48B6-AD8F-343EBC17AA9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Summary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304920" y="1066680"/>
          <a:ext cx="8458200" cy="5561280"/>
        </p:xfrm>
        <a:graphic>
          <a:graphicData uri="http://schemas.openxmlformats.org/drawingml/2006/table">
            <a:tbl>
              <a:tblPr/>
              <a:tblGrid>
                <a:gridCol w="2819160"/>
                <a:gridCol w="2819520"/>
                <a:gridCol w="281952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Igneous or metamorphic or sedimentary?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Comic Sans MS"/>
                        </a:rPr>
                        <a:t>How they were formed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Appearance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(e.g. sandstone, limestone, chalk)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Comic Sans MS"/>
                        </a:rPr>
                        <a:t>Small pieces of sediment were stuck together by salt and pressure from rocks above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Usually soft, can contain fossils, easily eroded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31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(e.g. basalt, granite)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Comic Sans MS"/>
                        </a:rPr>
                        <a:t>Liquid rock (magma or lava) cooled down and turned back into a solid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Contain crystals, very hard, never contain fossils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(e.g. marble, slate)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Comic Sans MS"/>
                        </a:rPr>
                        <a:t>Other rocks were acted on by heat and pressure over a long time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Sometimes have tiny crystals, no fossils, always hard and sometimes arranged in layers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6" name=""/>
          <p:cNvSpPr/>
          <p:nvPr/>
        </p:nvSpPr>
        <p:spPr>
          <a:xfrm>
            <a:off x="609480" y="5867280"/>
            <a:ext cx="221004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09480" y="4343400"/>
            <a:ext cx="221004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09480" y="2590920"/>
            <a:ext cx="221004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BD828-624D-429C-88D4-D4E9DF7DA7F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The rock cycle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The rock cycle describes the perpetual recycling of minerals by 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weathering and erosion processes on the surface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ransport and deposition processes involving water, ice, waves or wind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rock creation and transformation involving crust and tectonic processes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Landscape creation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421D8-384D-4605-8E85-3D6FC3BFEA7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… </a:t>
            </a: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most of them start out in the mantle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508720" y="3213000"/>
            <a:ext cx="2809800" cy="26193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68360" y="1197000"/>
            <a:ext cx="4324320" cy="28386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979640" y="4606920"/>
            <a:ext cx="3384360" cy="891000"/>
          </a:xfrm>
          <a:prstGeom prst="wedgeRoundRectCallout">
            <a:avLst>
              <a:gd name="adj1" fmla="val 88500"/>
              <a:gd name="adj2" fmla="val -26333"/>
              <a:gd name="adj3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And this is how they get out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39CCF-4514-49A7-88E1-B56C288FEC3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78920" y="103320"/>
            <a:ext cx="87138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The Rock Cycle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533520" y="800280"/>
            <a:ext cx="8076960" cy="605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CC082-D52A-4A62-BA9E-1E9EE1CA67B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This is a bit easier to understand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1403280" y="606600"/>
            <a:ext cx="6840720" cy="6094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54E7B-8C4E-47A7-96CA-7B33D5E9C55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Rocks revision quiz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1143000"/>
            <a:ext cx="91440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What are the 3 types of rock?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66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Comic Sans MS"/>
                <a:ea typeface="Times New Roman"/>
              </a:rPr>
              <a:t>What type of rock are the following: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66"/>
                </a:solidFill>
                <a:latin typeface="Comic Sans MS"/>
                <a:ea typeface="Times New Roman"/>
              </a:rPr>
              <a:t>Sandstone, limestone, granite, basalt, slate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What type of rock would a mountain probably be made out of?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66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Comic Sans MS"/>
                <a:ea typeface="Times New Roman"/>
              </a:rPr>
              <a:t>What are the two conditions needed for a metamorphic rock to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6666"/>
                </a:solidFill>
                <a:latin typeface="Comic Sans MS"/>
                <a:ea typeface="Times New Roman"/>
              </a:rPr>
              <a:t>form?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Which metamorphic rock is formed from limestone?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66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Comic Sans MS"/>
                <a:ea typeface="Times New Roman"/>
              </a:rPr>
              <a:t>Why wouldn’t you find any fossils in igneous or metamorphic rocks?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You find a rock containing crystals.  What type of rock would it most probably be?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66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Comic Sans MS"/>
                <a:ea typeface="Times New Roman"/>
              </a:rPr>
              <a:t>What is molten rock that is inside the Earth called?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What is molten rock that is outside the Earth (i.e. erupted) called?</a:t>
            </a:r>
            <a:r>
              <a:rPr b="0" lang="en-US" sz="20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38906-E0C0-41B8-B5EE-7924D3ABA6B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3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3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Rocks revision quiz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1143000"/>
            <a:ext cx="9144000" cy="54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8000"/>
              </a:buClr>
              <a:buFont typeface="Comic Sans MS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Name one example of physical weathering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6666"/>
              </a:buClr>
              <a:buFont typeface="Comic Sans MS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Comic Sans MS"/>
                <a:ea typeface="Times New Roman"/>
              </a:rPr>
              <a:t>Name one example of biological weathering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8000"/>
              </a:buClr>
              <a:buFont typeface="Comic Sans MS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Acid rain is an example of chemical weathering.  What poisonous gas (given off by car exhausts and power stations) causes acid rain?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6666"/>
              </a:buClr>
              <a:buFont typeface="Comic Sans MS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Comic Sans MS"/>
                <a:ea typeface="Times New Roman"/>
              </a:rPr>
              <a:t>Granite is an igneous rock and contains large crystals.  Did it cool down slowly or quickly?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8000"/>
              </a:buClr>
              <a:buFont typeface="Comic Sans MS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In the rock cycle what causes igneous rock to become sedimentary rock?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6666"/>
              </a:buClr>
              <a:buFont typeface="Comic Sans MS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Comic Sans MS"/>
                <a:ea typeface="Times New Roman"/>
              </a:rPr>
              <a:t>In the rock cycle again what causes the sedimentary rock to become metamorphic rock?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8000"/>
              </a:buClr>
              <a:buFont typeface="Comic Sans MS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Gravestones are usually made out of marble or granite instead of limestone or sandstone.  Why?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6666"/>
              </a:buClr>
              <a:buFont typeface="Comic Sans MS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Comic Sans MS"/>
                <a:ea typeface="Times New Roman"/>
              </a:rPr>
              <a:t>A piece of rock contains layers.  What type of rock would it probably be?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CCF21-5EB6-4C1D-8018-D2FBA9D8F88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2381400" y="1585800"/>
            <a:ext cx="4381200" cy="36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7C5A4-1B50-4F4D-AFFA-ED104E5C92E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66"/>
                </a:solidFill>
                <a:latin typeface="Comic Sans MS"/>
              </a:rPr>
              <a:t>These rocks are Igneous rocks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1905120" cy="27306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334120" y="981000"/>
            <a:ext cx="3809880" cy="23814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250920" y="4076640"/>
            <a:ext cx="2808360" cy="261612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1908000" y="1052640"/>
            <a:ext cx="3527640" cy="2288520"/>
            <a:chOff x="1908000" y="1052640"/>
            <a:chExt cx="3527640" cy="2288520"/>
          </a:xfrm>
        </p:grpSpPr>
        <p:sp>
          <p:nvSpPr>
            <p:cNvPr id="174" name=""/>
            <p:cNvSpPr/>
            <p:nvPr/>
          </p:nvSpPr>
          <p:spPr>
            <a:xfrm>
              <a:off x="2556000" y="1052640"/>
              <a:ext cx="2305080" cy="228852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  <a:ea typeface="Arial"/>
                </a:rPr>
                <a:t>Igneous rocks are formed when lava or magma cools down and solidifies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908000" y="2060640"/>
              <a:ext cx="719280" cy="431640"/>
            </a:xfrm>
            <a:prstGeom prst="leftArrow">
              <a:avLst>
                <a:gd name="adj1" fmla="val 50000"/>
                <a:gd name="adj2" fmla="val 41660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0800000">
              <a:off x="4716360" y="2060280"/>
              <a:ext cx="719280" cy="431640"/>
            </a:xfrm>
            <a:prstGeom prst="leftArrow">
              <a:avLst>
                <a:gd name="adj1" fmla="val 50000"/>
                <a:gd name="adj2" fmla="val 41660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2340000" y="3933720"/>
            <a:ext cx="5903640" cy="825480"/>
            <a:chOff x="2340000" y="3933720"/>
            <a:chExt cx="5903640" cy="825480"/>
          </a:xfrm>
        </p:grpSpPr>
        <p:sp>
          <p:nvSpPr>
            <p:cNvPr id="178" name=""/>
            <p:cNvSpPr/>
            <p:nvPr/>
          </p:nvSpPr>
          <p:spPr>
            <a:xfrm>
              <a:off x="3413160" y="3933720"/>
              <a:ext cx="4830480" cy="825480"/>
            </a:xfrm>
            <a:prstGeom prst="rect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6699"/>
                  </a:solidFill>
                  <a:latin typeface="Comic Sans MS"/>
                  <a:ea typeface="Arial"/>
                </a:rPr>
                <a:t>If the lava or magma cools QUICKLY it has SMALL crystals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40000" y="4149720"/>
              <a:ext cx="1149480" cy="431640"/>
            </a:xfrm>
            <a:prstGeom prst="leftArrow">
              <a:avLst>
                <a:gd name="adj1" fmla="val 50000"/>
                <a:gd name="adj2" fmla="val 66576"/>
              </a:avLst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2268360" y="5734080"/>
            <a:ext cx="5975280" cy="863640"/>
            <a:chOff x="2268360" y="5734080"/>
            <a:chExt cx="5975280" cy="863640"/>
          </a:xfrm>
        </p:grpSpPr>
        <p:sp>
          <p:nvSpPr>
            <p:cNvPr id="181" name=""/>
            <p:cNvSpPr/>
            <p:nvPr/>
          </p:nvSpPr>
          <p:spPr>
            <a:xfrm>
              <a:off x="3431880" y="5734080"/>
              <a:ext cx="4811760" cy="8254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  <a:ea typeface="Arial"/>
                </a:rPr>
                <a:t>If the lava or magma cools SLOWLY it has BIG crystals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268360" y="6165720"/>
              <a:ext cx="1163520" cy="432000"/>
            </a:xfrm>
            <a:prstGeom prst="leftArrow">
              <a:avLst>
                <a:gd name="adj1" fmla="val 50000"/>
                <a:gd name="adj2" fmla="val 67333"/>
              </a:avLst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6CB31-AB27-4AE3-825D-9BAFC9637DF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66"/>
                </a:solidFill>
                <a:latin typeface="Comic Sans MS"/>
              </a:rPr>
              <a:t>Igneous rocks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66560" y="765000"/>
            <a:ext cx="3424320" cy="32482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468360" y="350028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dfad2"/>
                </a:solidFill>
                <a:latin typeface="Comic Sans MS"/>
                <a:ea typeface="Arial"/>
              </a:rPr>
              <a:t>Granit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611280" y="4529160"/>
            <a:ext cx="2663640" cy="22129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3995640" y="4216320"/>
            <a:ext cx="1650960" cy="26416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203640" y="5229360"/>
            <a:ext cx="1584360" cy="288720"/>
          </a:xfrm>
          <a:prstGeom prst="rightArrow">
            <a:avLst>
              <a:gd name="adj1" fmla="val 50000"/>
              <a:gd name="adj2" fmla="val 137188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258920" y="609300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dfad2"/>
                </a:solidFill>
                <a:latin typeface="Comic Sans MS"/>
                <a:ea typeface="Arial"/>
              </a:rPr>
              <a:t>Pumic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3851280" y="765000"/>
            <a:ext cx="3313080" cy="25624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5076720" y="90792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dfad2"/>
                </a:solidFill>
                <a:latin typeface="Comic Sans MS"/>
                <a:ea typeface="Arial"/>
              </a:rPr>
              <a:t>Obsidia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867280" y="4437000"/>
            <a:ext cx="3025800" cy="1656000"/>
          </a:xfrm>
          <a:prstGeom prst="wedgeRoundRectCallout">
            <a:avLst>
              <a:gd name="adj1" fmla="val 4879"/>
              <a:gd name="adj2" fmla="val 70037"/>
              <a:gd name="adj3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Which one has crystals you can see? How did it cool?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1E185-5B30-4B1B-A82A-E3BAD9195A3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What are igneous rocks like?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When they were formed they were a liquid.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hey were very hot rock that originally came from the magma at the centre of the earth.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Once they escaped from the mantle they began to cool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On the surface (where the liquid rock is called lava) they cool quickly and like toffee do not have crystals in it but they are very hard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If the magma pushed in between layers of other rocks, away from the surface, they cool slowly.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hey contain crystals, very hard, never contain fossils (because there were no living things in the mantle)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0BE9B-B2CE-4BD8-BE2B-0719A8D370E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66"/>
                </a:solidFill>
                <a:latin typeface="Comic Sans MS"/>
              </a:rPr>
              <a:t>Metamorphic rocks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5724360" y="1557360"/>
            <a:ext cx="2089440" cy="2089080"/>
            <a:chOff x="5724360" y="1557360"/>
            <a:chExt cx="2089440" cy="2089080"/>
          </a:xfrm>
        </p:grpSpPr>
        <p:sp>
          <p:nvSpPr>
            <p:cNvPr id="197" name=""/>
            <p:cNvSpPr/>
            <p:nvPr/>
          </p:nvSpPr>
          <p:spPr>
            <a:xfrm>
              <a:off x="5724360" y="1557360"/>
              <a:ext cx="2089440" cy="2089080"/>
            </a:xfrm>
            <a:custGeom>
              <a:avLst/>
              <a:gdLst/>
              <a:ahLst/>
              <a:rect l="l" t="t" r="r" b="b"/>
              <a:pathLst>
                <a:path w="20992" h="20992">
                  <a:moveTo>
                    <a:pt x="17918" y="3074"/>
                  </a:moveTo>
                  <a:lnTo>
                    <a:pt x="17525" y="2702"/>
                  </a:lnTo>
                  <a:lnTo>
                    <a:pt x="17120" y="2353"/>
                  </a:lnTo>
                  <a:lnTo>
                    <a:pt x="16701" y="2029"/>
                  </a:lnTo>
                  <a:lnTo>
                    <a:pt x="16271" y="1729"/>
                  </a:lnTo>
                  <a:lnTo>
                    <a:pt x="15829" y="1453"/>
                  </a:lnTo>
                  <a:lnTo>
                    <a:pt x="15376" y="1200"/>
                  </a:lnTo>
                  <a:lnTo>
                    <a:pt x="14915" y="972"/>
                  </a:lnTo>
                  <a:lnTo>
                    <a:pt x="14445" y="768"/>
                  </a:lnTo>
                  <a:lnTo>
                    <a:pt x="13967" y="588"/>
                  </a:lnTo>
                  <a:lnTo>
                    <a:pt x="13484" y="432"/>
                  </a:lnTo>
                  <a:lnTo>
                    <a:pt x="12994" y="300"/>
                  </a:lnTo>
                  <a:lnTo>
                    <a:pt x="12500" y="192"/>
                  </a:lnTo>
                  <a:lnTo>
                    <a:pt x="12002" y="108"/>
                  </a:lnTo>
                  <a:lnTo>
                    <a:pt x="11501" y="47"/>
                  </a:lnTo>
                  <a:lnTo>
                    <a:pt x="10999" y="12"/>
                  </a:lnTo>
                  <a:lnTo>
                    <a:pt x="10495" y="0"/>
                  </a:lnTo>
                  <a:lnTo>
                    <a:pt x="9992" y="12"/>
                  </a:lnTo>
                  <a:lnTo>
                    <a:pt x="9489" y="47"/>
                  </a:lnTo>
                  <a:lnTo>
                    <a:pt x="8988" y="108"/>
                  </a:lnTo>
                  <a:lnTo>
                    <a:pt x="8490" y="192"/>
                  </a:lnTo>
                  <a:lnTo>
                    <a:pt x="7996" y="300"/>
                  </a:lnTo>
                  <a:lnTo>
                    <a:pt x="7507" y="432"/>
                  </a:lnTo>
                  <a:lnTo>
                    <a:pt x="7023" y="588"/>
                  </a:lnTo>
                  <a:lnTo>
                    <a:pt x="6545" y="768"/>
                  </a:lnTo>
                  <a:lnTo>
                    <a:pt x="6075" y="972"/>
                  </a:lnTo>
                  <a:lnTo>
                    <a:pt x="5614" y="1200"/>
                  </a:lnTo>
                  <a:lnTo>
                    <a:pt x="5162" y="1453"/>
                  </a:lnTo>
                  <a:lnTo>
                    <a:pt x="4721" y="1729"/>
                  </a:lnTo>
                  <a:lnTo>
                    <a:pt x="4289" y="2029"/>
                  </a:lnTo>
                  <a:lnTo>
                    <a:pt x="3871" y="2353"/>
                  </a:lnTo>
                  <a:lnTo>
                    <a:pt x="3465" y="2702"/>
                  </a:lnTo>
                  <a:lnTo>
                    <a:pt x="3073" y="3074"/>
                  </a:lnTo>
                  <a:lnTo>
                    <a:pt x="2701" y="3465"/>
                  </a:lnTo>
                  <a:lnTo>
                    <a:pt x="2353" y="3871"/>
                  </a:lnTo>
                  <a:lnTo>
                    <a:pt x="2028" y="4289"/>
                  </a:lnTo>
                  <a:lnTo>
                    <a:pt x="1728" y="4720"/>
                  </a:lnTo>
                  <a:lnTo>
                    <a:pt x="1453" y="5162"/>
                  </a:lnTo>
                  <a:lnTo>
                    <a:pt x="1201" y="5615"/>
                  </a:lnTo>
                  <a:lnTo>
                    <a:pt x="973" y="6076"/>
                  </a:lnTo>
                  <a:lnTo>
                    <a:pt x="769" y="6546"/>
                  </a:lnTo>
                  <a:lnTo>
                    <a:pt x="589" y="7024"/>
                  </a:lnTo>
                  <a:lnTo>
                    <a:pt x="432" y="7508"/>
                  </a:lnTo>
                  <a:lnTo>
                    <a:pt x="300" y="7997"/>
                  </a:lnTo>
                  <a:lnTo>
                    <a:pt x="191" y="8491"/>
                  </a:lnTo>
                  <a:lnTo>
                    <a:pt x="108" y="8990"/>
                  </a:lnTo>
                  <a:lnTo>
                    <a:pt x="48" y="9489"/>
                  </a:lnTo>
                  <a:lnTo>
                    <a:pt x="12" y="9993"/>
                  </a:lnTo>
                  <a:lnTo>
                    <a:pt x="0" y="10496"/>
                  </a:lnTo>
                  <a:lnTo>
                    <a:pt x="12" y="11000"/>
                  </a:lnTo>
                  <a:lnTo>
                    <a:pt x="48" y="11502"/>
                  </a:lnTo>
                  <a:lnTo>
                    <a:pt x="108" y="12003"/>
                  </a:lnTo>
                  <a:lnTo>
                    <a:pt x="191" y="12500"/>
                  </a:lnTo>
                  <a:lnTo>
                    <a:pt x="300" y="12995"/>
                  </a:lnTo>
                  <a:lnTo>
                    <a:pt x="432" y="13485"/>
                  </a:lnTo>
                  <a:lnTo>
                    <a:pt x="589" y="13969"/>
                  </a:lnTo>
                  <a:lnTo>
                    <a:pt x="769" y="14446"/>
                  </a:lnTo>
                  <a:lnTo>
                    <a:pt x="973" y="14916"/>
                  </a:lnTo>
                  <a:lnTo>
                    <a:pt x="1201" y="15377"/>
                  </a:lnTo>
                  <a:lnTo>
                    <a:pt x="1453" y="15829"/>
                  </a:lnTo>
                  <a:lnTo>
                    <a:pt x="1728" y="16272"/>
                  </a:lnTo>
                  <a:lnTo>
                    <a:pt x="2028" y="16702"/>
                  </a:lnTo>
                  <a:lnTo>
                    <a:pt x="2353" y="17121"/>
                  </a:lnTo>
                  <a:lnTo>
                    <a:pt x="2701" y="17526"/>
                  </a:lnTo>
                  <a:lnTo>
                    <a:pt x="3073" y="17918"/>
                  </a:lnTo>
                  <a:lnTo>
                    <a:pt x="3465" y="18291"/>
                  </a:lnTo>
                  <a:lnTo>
                    <a:pt x="3871" y="18638"/>
                  </a:lnTo>
                  <a:lnTo>
                    <a:pt x="4289" y="18963"/>
                  </a:lnTo>
                  <a:lnTo>
                    <a:pt x="4721" y="19263"/>
                  </a:lnTo>
                  <a:lnTo>
                    <a:pt x="5162" y="19539"/>
                  </a:lnTo>
                  <a:lnTo>
                    <a:pt x="5614" y="19791"/>
                  </a:lnTo>
                  <a:lnTo>
                    <a:pt x="6075" y="20020"/>
                  </a:lnTo>
                  <a:lnTo>
                    <a:pt x="6545" y="20224"/>
                  </a:lnTo>
                  <a:lnTo>
                    <a:pt x="7023" y="20404"/>
                  </a:lnTo>
                  <a:lnTo>
                    <a:pt x="7507" y="20559"/>
                  </a:lnTo>
                  <a:lnTo>
                    <a:pt x="7996" y="20692"/>
                  </a:lnTo>
                  <a:lnTo>
                    <a:pt x="8490" y="20800"/>
                  </a:lnTo>
                  <a:lnTo>
                    <a:pt x="8988" y="20884"/>
                  </a:lnTo>
                  <a:lnTo>
                    <a:pt x="9489" y="20944"/>
                  </a:lnTo>
                  <a:lnTo>
                    <a:pt x="9992" y="20980"/>
                  </a:lnTo>
                  <a:lnTo>
                    <a:pt x="10495" y="20992"/>
                  </a:lnTo>
                  <a:lnTo>
                    <a:pt x="10999" y="20980"/>
                  </a:lnTo>
                  <a:lnTo>
                    <a:pt x="11501" y="20944"/>
                  </a:lnTo>
                  <a:lnTo>
                    <a:pt x="12002" y="20884"/>
                  </a:lnTo>
                  <a:lnTo>
                    <a:pt x="12500" y="20800"/>
                  </a:lnTo>
                  <a:lnTo>
                    <a:pt x="12994" y="20692"/>
                  </a:lnTo>
                  <a:lnTo>
                    <a:pt x="13484" y="20559"/>
                  </a:lnTo>
                  <a:lnTo>
                    <a:pt x="13967" y="20404"/>
                  </a:lnTo>
                  <a:lnTo>
                    <a:pt x="14445" y="20224"/>
                  </a:lnTo>
                  <a:lnTo>
                    <a:pt x="14915" y="20020"/>
                  </a:lnTo>
                  <a:lnTo>
                    <a:pt x="15376" y="19791"/>
                  </a:lnTo>
                  <a:lnTo>
                    <a:pt x="15829" y="19539"/>
                  </a:lnTo>
                  <a:lnTo>
                    <a:pt x="16271" y="19263"/>
                  </a:lnTo>
                  <a:lnTo>
                    <a:pt x="16701" y="18963"/>
                  </a:lnTo>
                  <a:lnTo>
                    <a:pt x="17120" y="18638"/>
                  </a:lnTo>
                  <a:lnTo>
                    <a:pt x="17525" y="18291"/>
                  </a:lnTo>
                  <a:lnTo>
                    <a:pt x="17918" y="17918"/>
                  </a:lnTo>
                  <a:lnTo>
                    <a:pt x="18290" y="17526"/>
                  </a:lnTo>
                  <a:lnTo>
                    <a:pt x="18639" y="17121"/>
                  </a:lnTo>
                  <a:lnTo>
                    <a:pt x="18962" y="16702"/>
                  </a:lnTo>
                  <a:lnTo>
                    <a:pt x="19263" y="16272"/>
                  </a:lnTo>
                  <a:lnTo>
                    <a:pt x="19539" y="15829"/>
                  </a:lnTo>
                  <a:lnTo>
                    <a:pt x="19790" y="15377"/>
                  </a:lnTo>
                  <a:lnTo>
                    <a:pt x="20019" y="14916"/>
                  </a:lnTo>
                  <a:lnTo>
                    <a:pt x="20223" y="14446"/>
                  </a:lnTo>
                  <a:lnTo>
                    <a:pt x="20404" y="13969"/>
                  </a:lnTo>
                  <a:lnTo>
                    <a:pt x="20559" y="13485"/>
                  </a:lnTo>
                  <a:lnTo>
                    <a:pt x="20692" y="12995"/>
                  </a:lnTo>
                  <a:lnTo>
                    <a:pt x="20800" y="12500"/>
                  </a:lnTo>
                  <a:lnTo>
                    <a:pt x="20884" y="12003"/>
                  </a:lnTo>
                  <a:lnTo>
                    <a:pt x="20943" y="11502"/>
                  </a:lnTo>
                  <a:lnTo>
                    <a:pt x="20980" y="11000"/>
                  </a:lnTo>
                  <a:lnTo>
                    <a:pt x="20992" y="10496"/>
                  </a:lnTo>
                  <a:lnTo>
                    <a:pt x="20980" y="9993"/>
                  </a:lnTo>
                  <a:lnTo>
                    <a:pt x="20943" y="9489"/>
                  </a:lnTo>
                  <a:lnTo>
                    <a:pt x="20884" y="8990"/>
                  </a:lnTo>
                  <a:lnTo>
                    <a:pt x="20800" y="8491"/>
                  </a:lnTo>
                  <a:lnTo>
                    <a:pt x="20692" y="7997"/>
                  </a:lnTo>
                  <a:lnTo>
                    <a:pt x="20559" y="7508"/>
                  </a:lnTo>
                  <a:lnTo>
                    <a:pt x="20404" y="7024"/>
                  </a:lnTo>
                  <a:lnTo>
                    <a:pt x="20223" y="6546"/>
                  </a:lnTo>
                  <a:lnTo>
                    <a:pt x="20019" y="6076"/>
                  </a:lnTo>
                  <a:lnTo>
                    <a:pt x="19790" y="5615"/>
                  </a:lnTo>
                  <a:lnTo>
                    <a:pt x="19539" y="5162"/>
                  </a:lnTo>
                  <a:lnTo>
                    <a:pt x="19263" y="4720"/>
                  </a:lnTo>
                  <a:lnTo>
                    <a:pt x="18962" y="4289"/>
                  </a:lnTo>
                  <a:lnTo>
                    <a:pt x="18639" y="3871"/>
                  </a:lnTo>
                  <a:lnTo>
                    <a:pt x="18290" y="3465"/>
                  </a:lnTo>
                  <a:lnTo>
                    <a:pt x="17918" y="3074"/>
                  </a:lnTo>
                  <a:close/>
                </a:path>
              </a:pathLst>
            </a:custGeom>
            <a:solidFill>
              <a:srgbClr val="9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724360" y="1557360"/>
              <a:ext cx="2089440" cy="2089080"/>
            </a:xfrm>
            <a:custGeom>
              <a:avLst/>
              <a:gdLst/>
              <a:ahLst/>
              <a:rect l="l" t="t" r="r" b="b"/>
              <a:pathLst>
                <a:path w="20992" h="20992">
                  <a:moveTo>
                    <a:pt x="17918" y="3074"/>
                  </a:moveTo>
                  <a:lnTo>
                    <a:pt x="17525" y="2702"/>
                  </a:lnTo>
                  <a:lnTo>
                    <a:pt x="17120" y="2353"/>
                  </a:lnTo>
                  <a:lnTo>
                    <a:pt x="16701" y="2029"/>
                  </a:lnTo>
                  <a:lnTo>
                    <a:pt x="16271" y="1729"/>
                  </a:lnTo>
                  <a:lnTo>
                    <a:pt x="15829" y="1453"/>
                  </a:lnTo>
                  <a:lnTo>
                    <a:pt x="15376" y="1200"/>
                  </a:lnTo>
                  <a:lnTo>
                    <a:pt x="14915" y="972"/>
                  </a:lnTo>
                  <a:lnTo>
                    <a:pt x="14445" y="768"/>
                  </a:lnTo>
                  <a:lnTo>
                    <a:pt x="13967" y="588"/>
                  </a:lnTo>
                  <a:lnTo>
                    <a:pt x="13484" y="432"/>
                  </a:lnTo>
                  <a:lnTo>
                    <a:pt x="12994" y="300"/>
                  </a:lnTo>
                  <a:lnTo>
                    <a:pt x="12500" y="192"/>
                  </a:lnTo>
                  <a:lnTo>
                    <a:pt x="12002" y="108"/>
                  </a:lnTo>
                  <a:lnTo>
                    <a:pt x="11501" y="47"/>
                  </a:lnTo>
                  <a:lnTo>
                    <a:pt x="10999" y="12"/>
                  </a:lnTo>
                  <a:lnTo>
                    <a:pt x="10495" y="0"/>
                  </a:lnTo>
                  <a:lnTo>
                    <a:pt x="9992" y="12"/>
                  </a:lnTo>
                  <a:lnTo>
                    <a:pt x="9489" y="47"/>
                  </a:lnTo>
                  <a:lnTo>
                    <a:pt x="8988" y="108"/>
                  </a:lnTo>
                  <a:lnTo>
                    <a:pt x="8490" y="192"/>
                  </a:lnTo>
                  <a:lnTo>
                    <a:pt x="7996" y="300"/>
                  </a:lnTo>
                  <a:lnTo>
                    <a:pt x="7507" y="432"/>
                  </a:lnTo>
                  <a:lnTo>
                    <a:pt x="7023" y="588"/>
                  </a:lnTo>
                  <a:lnTo>
                    <a:pt x="6545" y="768"/>
                  </a:lnTo>
                  <a:lnTo>
                    <a:pt x="6075" y="972"/>
                  </a:lnTo>
                  <a:lnTo>
                    <a:pt x="5614" y="1200"/>
                  </a:lnTo>
                  <a:lnTo>
                    <a:pt x="5162" y="1453"/>
                  </a:lnTo>
                  <a:lnTo>
                    <a:pt x="4721" y="1729"/>
                  </a:lnTo>
                  <a:lnTo>
                    <a:pt x="4289" y="2029"/>
                  </a:lnTo>
                  <a:lnTo>
                    <a:pt x="3871" y="2353"/>
                  </a:lnTo>
                  <a:lnTo>
                    <a:pt x="3465" y="2702"/>
                  </a:lnTo>
                  <a:lnTo>
                    <a:pt x="3073" y="3074"/>
                  </a:lnTo>
                  <a:lnTo>
                    <a:pt x="2701" y="3465"/>
                  </a:lnTo>
                  <a:lnTo>
                    <a:pt x="2353" y="3871"/>
                  </a:lnTo>
                  <a:lnTo>
                    <a:pt x="2028" y="4289"/>
                  </a:lnTo>
                  <a:lnTo>
                    <a:pt x="1728" y="4720"/>
                  </a:lnTo>
                  <a:lnTo>
                    <a:pt x="1453" y="5162"/>
                  </a:lnTo>
                  <a:lnTo>
                    <a:pt x="1201" y="5615"/>
                  </a:lnTo>
                  <a:lnTo>
                    <a:pt x="973" y="6076"/>
                  </a:lnTo>
                  <a:lnTo>
                    <a:pt x="769" y="6546"/>
                  </a:lnTo>
                  <a:lnTo>
                    <a:pt x="589" y="7024"/>
                  </a:lnTo>
                  <a:lnTo>
                    <a:pt x="432" y="7508"/>
                  </a:lnTo>
                  <a:lnTo>
                    <a:pt x="300" y="7997"/>
                  </a:lnTo>
                  <a:lnTo>
                    <a:pt x="191" y="8491"/>
                  </a:lnTo>
                  <a:lnTo>
                    <a:pt x="108" y="8990"/>
                  </a:lnTo>
                  <a:lnTo>
                    <a:pt x="48" y="9489"/>
                  </a:lnTo>
                  <a:lnTo>
                    <a:pt x="12" y="9993"/>
                  </a:lnTo>
                  <a:lnTo>
                    <a:pt x="0" y="10496"/>
                  </a:lnTo>
                  <a:lnTo>
                    <a:pt x="12" y="11000"/>
                  </a:lnTo>
                  <a:lnTo>
                    <a:pt x="48" y="11502"/>
                  </a:lnTo>
                  <a:lnTo>
                    <a:pt x="108" y="12003"/>
                  </a:lnTo>
                  <a:lnTo>
                    <a:pt x="191" y="12500"/>
                  </a:lnTo>
                  <a:lnTo>
                    <a:pt x="300" y="12995"/>
                  </a:lnTo>
                  <a:lnTo>
                    <a:pt x="432" y="13485"/>
                  </a:lnTo>
                  <a:lnTo>
                    <a:pt x="589" y="13969"/>
                  </a:lnTo>
                  <a:lnTo>
                    <a:pt x="769" y="14446"/>
                  </a:lnTo>
                  <a:lnTo>
                    <a:pt x="973" y="14916"/>
                  </a:lnTo>
                  <a:lnTo>
                    <a:pt x="1201" y="15377"/>
                  </a:lnTo>
                  <a:lnTo>
                    <a:pt x="1453" y="15829"/>
                  </a:lnTo>
                  <a:lnTo>
                    <a:pt x="1728" y="16272"/>
                  </a:lnTo>
                  <a:lnTo>
                    <a:pt x="2028" y="16702"/>
                  </a:lnTo>
                  <a:lnTo>
                    <a:pt x="2353" y="17121"/>
                  </a:lnTo>
                  <a:lnTo>
                    <a:pt x="2701" y="17526"/>
                  </a:lnTo>
                  <a:lnTo>
                    <a:pt x="3073" y="17918"/>
                  </a:lnTo>
                  <a:lnTo>
                    <a:pt x="3465" y="18291"/>
                  </a:lnTo>
                  <a:lnTo>
                    <a:pt x="3871" y="18638"/>
                  </a:lnTo>
                  <a:lnTo>
                    <a:pt x="4289" y="18963"/>
                  </a:lnTo>
                  <a:lnTo>
                    <a:pt x="4721" y="19263"/>
                  </a:lnTo>
                  <a:lnTo>
                    <a:pt x="5162" y="19539"/>
                  </a:lnTo>
                  <a:lnTo>
                    <a:pt x="5614" y="19791"/>
                  </a:lnTo>
                  <a:lnTo>
                    <a:pt x="6075" y="20020"/>
                  </a:lnTo>
                  <a:lnTo>
                    <a:pt x="6545" y="20224"/>
                  </a:lnTo>
                  <a:lnTo>
                    <a:pt x="7023" y="20404"/>
                  </a:lnTo>
                  <a:lnTo>
                    <a:pt x="7507" y="20559"/>
                  </a:lnTo>
                  <a:lnTo>
                    <a:pt x="7996" y="20692"/>
                  </a:lnTo>
                  <a:lnTo>
                    <a:pt x="8490" y="20800"/>
                  </a:lnTo>
                  <a:lnTo>
                    <a:pt x="8988" y="20884"/>
                  </a:lnTo>
                  <a:lnTo>
                    <a:pt x="9489" y="20944"/>
                  </a:lnTo>
                  <a:lnTo>
                    <a:pt x="9992" y="20980"/>
                  </a:lnTo>
                  <a:lnTo>
                    <a:pt x="10495" y="20992"/>
                  </a:lnTo>
                  <a:lnTo>
                    <a:pt x="10999" y="20980"/>
                  </a:lnTo>
                  <a:lnTo>
                    <a:pt x="11501" y="20944"/>
                  </a:lnTo>
                  <a:lnTo>
                    <a:pt x="12002" y="20884"/>
                  </a:lnTo>
                  <a:lnTo>
                    <a:pt x="12500" y="20800"/>
                  </a:lnTo>
                  <a:lnTo>
                    <a:pt x="12994" y="20692"/>
                  </a:lnTo>
                  <a:lnTo>
                    <a:pt x="13484" y="20559"/>
                  </a:lnTo>
                  <a:lnTo>
                    <a:pt x="13967" y="20404"/>
                  </a:lnTo>
                  <a:lnTo>
                    <a:pt x="14445" y="20224"/>
                  </a:lnTo>
                  <a:lnTo>
                    <a:pt x="14915" y="20020"/>
                  </a:lnTo>
                  <a:lnTo>
                    <a:pt x="15376" y="19791"/>
                  </a:lnTo>
                  <a:lnTo>
                    <a:pt x="15829" y="19539"/>
                  </a:lnTo>
                  <a:lnTo>
                    <a:pt x="16271" y="19263"/>
                  </a:lnTo>
                  <a:lnTo>
                    <a:pt x="16701" y="18963"/>
                  </a:lnTo>
                  <a:lnTo>
                    <a:pt x="17120" y="18638"/>
                  </a:lnTo>
                  <a:lnTo>
                    <a:pt x="17525" y="18291"/>
                  </a:lnTo>
                  <a:lnTo>
                    <a:pt x="17918" y="17918"/>
                  </a:lnTo>
                  <a:lnTo>
                    <a:pt x="18290" y="17526"/>
                  </a:lnTo>
                  <a:lnTo>
                    <a:pt x="18639" y="17121"/>
                  </a:lnTo>
                  <a:lnTo>
                    <a:pt x="18962" y="16702"/>
                  </a:lnTo>
                  <a:lnTo>
                    <a:pt x="19263" y="16272"/>
                  </a:lnTo>
                  <a:lnTo>
                    <a:pt x="19539" y="15829"/>
                  </a:lnTo>
                  <a:lnTo>
                    <a:pt x="19790" y="15377"/>
                  </a:lnTo>
                  <a:lnTo>
                    <a:pt x="20019" y="14916"/>
                  </a:lnTo>
                  <a:lnTo>
                    <a:pt x="20223" y="14446"/>
                  </a:lnTo>
                  <a:lnTo>
                    <a:pt x="20404" y="13969"/>
                  </a:lnTo>
                  <a:lnTo>
                    <a:pt x="20559" y="13485"/>
                  </a:lnTo>
                  <a:lnTo>
                    <a:pt x="20692" y="12995"/>
                  </a:lnTo>
                  <a:lnTo>
                    <a:pt x="20800" y="12500"/>
                  </a:lnTo>
                  <a:lnTo>
                    <a:pt x="20884" y="12003"/>
                  </a:lnTo>
                  <a:lnTo>
                    <a:pt x="20943" y="11502"/>
                  </a:lnTo>
                  <a:lnTo>
                    <a:pt x="20980" y="11000"/>
                  </a:lnTo>
                  <a:lnTo>
                    <a:pt x="20992" y="10496"/>
                  </a:lnTo>
                  <a:lnTo>
                    <a:pt x="20980" y="9993"/>
                  </a:lnTo>
                  <a:lnTo>
                    <a:pt x="20943" y="9489"/>
                  </a:lnTo>
                  <a:lnTo>
                    <a:pt x="20884" y="8990"/>
                  </a:lnTo>
                  <a:lnTo>
                    <a:pt x="20800" y="8491"/>
                  </a:lnTo>
                  <a:lnTo>
                    <a:pt x="20692" y="7997"/>
                  </a:lnTo>
                  <a:lnTo>
                    <a:pt x="20559" y="7508"/>
                  </a:lnTo>
                  <a:lnTo>
                    <a:pt x="20404" y="7024"/>
                  </a:lnTo>
                  <a:lnTo>
                    <a:pt x="20223" y="6546"/>
                  </a:lnTo>
                  <a:lnTo>
                    <a:pt x="20019" y="6076"/>
                  </a:lnTo>
                  <a:lnTo>
                    <a:pt x="19790" y="5615"/>
                  </a:lnTo>
                  <a:lnTo>
                    <a:pt x="19539" y="5162"/>
                  </a:lnTo>
                  <a:lnTo>
                    <a:pt x="19263" y="4720"/>
                  </a:lnTo>
                  <a:lnTo>
                    <a:pt x="18962" y="4289"/>
                  </a:lnTo>
                  <a:lnTo>
                    <a:pt x="18639" y="3871"/>
                  </a:lnTo>
                  <a:lnTo>
                    <a:pt x="18290" y="3465"/>
                  </a:lnTo>
                  <a:lnTo>
                    <a:pt x="17918" y="3074"/>
                  </a:lnTo>
                </a:path>
              </a:pathLst>
            </a:custGeom>
            <a:noFill/>
            <a:ln w="4680">
              <a:solidFill>
                <a:srgbClr val="babab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6560" y="1557360"/>
              <a:ext cx="198000" cy="30960"/>
            </a:xfrm>
            <a:custGeom>
              <a:avLst/>
              <a:gdLst/>
              <a:ahLst/>
              <a:rect l="l" t="t" r="r" b="b"/>
              <a:pathLst>
                <a:path w="1993" h="313">
                  <a:moveTo>
                    <a:pt x="1993" y="184"/>
                  </a:moveTo>
                  <a:lnTo>
                    <a:pt x="1498" y="102"/>
                  </a:lnTo>
                  <a:lnTo>
                    <a:pt x="1000" y="44"/>
                  </a:lnTo>
                  <a:lnTo>
                    <a:pt x="500" y="10"/>
                  </a:lnTo>
                  <a:lnTo>
                    <a:pt x="0" y="0"/>
                  </a:lnTo>
                  <a:lnTo>
                    <a:pt x="539" y="313"/>
                  </a:lnTo>
                  <a:lnTo>
                    <a:pt x="1015" y="252"/>
                  </a:lnTo>
                  <a:lnTo>
                    <a:pt x="1285" y="166"/>
                  </a:lnTo>
                  <a:lnTo>
                    <a:pt x="1993" y="1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766560" y="1557360"/>
              <a:ext cx="198000" cy="30960"/>
            </a:xfrm>
            <a:custGeom>
              <a:avLst/>
              <a:gdLst/>
              <a:ahLst/>
              <a:rect l="l" t="t" r="r" b="b"/>
              <a:pathLst>
                <a:path w="1993" h="313">
                  <a:moveTo>
                    <a:pt x="1993" y="184"/>
                  </a:moveTo>
                  <a:lnTo>
                    <a:pt x="1498" y="102"/>
                  </a:lnTo>
                  <a:lnTo>
                    <a:pt x="1000" y="44"/>
                  </a:lnTo>
                  <a:lnTo>
                    <a:pt x="500" y="10"/>
                  </a:lnTo>
                  <a:lnTo>
                    <a:pt x="0" y="0"/>
                  </a:lnTo>
                  <a:lnTo>
                    <a:pt x="539" y="313"/>
                  </a:lnTo>
                  <a:lnTo>
                    <a:pt x="1015" y="252"/>
                  </a:lnTo>
                  <a:lnTo>
                    <a:pt x="1285" y="166"/>
                  </a:lnTo>
                  <a:lnTo>
                    <a:pt x="1993" y="184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864480" y="1595160"/>
              <a:ext cx="939600" cy="1604160"/>
            </a:xfrm>
            <a:custGeom>
              <a:avLst/>
              <a:gdLst/>
              <a:ahLst/>
              <a:rect l="l" t="t" r="r" b="b"/>
              <a:pathLst>
                <a:path w="9435" h="16121">
                  <a:moveTo>
                    <a:pt x="9435" y="8657"/>
                  </a:moveTo>
                  <a:lnTo>
                    <a:pt x="9369" y="8248"/>
                  </a:lnTo>
                  <a:lnTo>
                    <a:pt x="9288" y="7842"/>
                  </a:lnTo>
                  <a:lnTo>
                    <a:pt x="9191" y="7439"/>
                  </a:lnTo>
                  <a:lnTo>
                    <a:pt x="9077" y="7039"/>
                  </a:lnTo>
                  <a:lnTo>
                    <a:pt x="8948" y="6643"/>
                  </a:lnTo>
                  <a:lnTo>
                    <a:pt x="8802" y="6251"/>
                  </a:lnTo>
                  <a:lnTo>
                    <a:pt x="8641" y="5864"/>
                  </a:lnTo>
                  <a:lnTo>
                    <a:pt x="8464" y="5482"/>
                  </a:lnTo>
                  <a:lnTo>
                    <a:pt x="8269" y="5107"/>
                  </a:lnTo>
                  <a:lnTo>
                    <a:pt x="8059" y="4739"/>
                  </a:lnTo>
                  <a:lnTo>
                    <a:pt x="7833" y="4376"/>
                  </a:lnTo>
                  <a:lnTo>
                    <a:pt x="7591" y="4022"/>
                  </a:lnTo>
                  <a:lnTo>
                    <a:pt x="7333" y="3675"/>
                  </a:lnTo>
                  <a:lnTo>
                    <a:pt x="7058" y="3336"/>
                  </a:lnTo>
                  <a:lnTo>
                    <a:pt x="6767" y="3008"/>
                  </a:lnTo>
                  <a:lnTo>
                    <a:pt x="6461" y="2688"/>
                  </a:lnTo>
                  <a:lnTo>
                    <a:pt x="6238" y="2472"/>
                  </a:lnTo>
                  <a:lnTo>
                    <a:pt x="6012" y="2264"/>
                  </a:lnTo>
                  <a:lnTo>
                    <a:pt x="5782" y="2064"/>
                  </a:lnTo>
                  <a:lnTo>
                    <a:pt x="5545" y="1872"/>
                  </a:lnTo>
                  <a:lnTo>
                    <a:pt x="5062" y="1511"/>
                  </a:lnTo>
                  <a:lnTo>
                    <a:pt x="4565" y="1183"/>
                  </a:lnTo>
                  <a:lnTo>
                    <a:pt x="4052" y="885"/>
                  </a:lnTo>
                  <a:lnTo>
                    <a:pt x="3527" y="618"/>
                  </a:lnTo>
                  <a:lnTo>
                    <a:pt x="2991" y="383"/>
                  </a:lnTo>
                  <a:lnTo>
                    <a:pt x="2445" y="179"/>
                  </a:lnTo>
                  <a:lnTo>
                    <a:pt x="2121" y="142"/>
                  </a:lnTo>
                  <a:lnTo>
                    <a:pt x="2134" y="286"/>
                  </a:lnTo>
                  <a:lnTo>
                    <a:pt x="1941" y="248"/>
                  </a:lnTo>
                  <a:lnTo>
                    <a:pt x="1856" y="171"/>
                  </a:lnTo>
                  <a:lnTo>
                    <a:pt x="1828" y="208"/>
                  </a:lnTo>
                  <a:lnTo>
                    <a:pt x="2081" y="361"/>
                  </a:lnTo>
                  <a:lnTo>
                    <a:pt x="1863" y="379"/>
                  </a:lnTo>
                  <a:lnTo>
                    <a:pt x="2018" y="463"/>
                  </a:lnTo>
                  <a:lnTo>
                    <a:pt x="1726" y="410"/>
                  </a:lnTo>
                  <a:lnTo>
                    <a:pt x="1909" y="522"/>
                  </a:lnTo>
                  <a:lnTo>
                    <a:pt x="1654" y="463"/>
                  </a:lnTo>
                  <a:lnTo>
                    <a:pt x="1458" y="335"/>
                  </a:lnTo>
                  <a:lnTo>
                    <a:pt x="1225" y="260"/>
                  </a:lnTo>
                  <a:lnTo>
                    <a:pt x="1700" y="342"/>
                  </a:lnTo>
                  <a:lnTo>
                    <a:pt x="1772" y="260"/>
                  </a:lnTo>
                  <a:lnTo>
                    <a:pt x="925" y="84"/>
                  </a:lnTo>
                  <a:lnTo>
                    <a:pt x="897" y="53"/>
                  </a:lnTo>
                  <a:lnTo>
                    <a:pt x="738" y="15"/>
                  </a:lnTo>
                  <a:lnTo>
                    <a:pt x="642" y="0"/>
                  </a:lnTo>
                  <a:lnTo>
                    <a:pt x="530" y="9"/>
                  </a:lnTo>
                  <a:lnTo>
                    <a:pt x="209" y="115"/>
                  </a:lnTo>
                  <a:lnTo>
                    <a:pt x="0" y="299"/>
                  </a:lnTo>
                  <a:lnTo>
                    <a:pt x="0" y="299"/>
                  </a:lnTo>
                  <a:lnTo>
                    <a:pt x="586" y="986"/>
                  </a:lnTo>
                  <a:lnTo>
                    <a:pt x="769" y="940"/>
                  </a:lnTo>
                  <a:lnTo>
                    <a:pt x="533" y="906"/>
                  </a:lnTo>
                  <a:lnTo>
                    <a:pt x="798" y="880"/>
                  </a:lnTo>
                  <a:lnTo>
                    <a:pt x="508" y="634"/>
                  </a:lnTo>
                  <a:lnTo>
                    <a:pt x="829" y="364"/>
                  </a:lnTo>
                  <a:lnTo>
                    <a:pt x="981" y="432"/>
                  </a:lnTo>
                  <a:lnTo>
                    <a:pt x="798" y="610"/>
                  </a:lnTo>
                  <a:lnTo>
                    <a:pt x="953" y="802"/>
                  </a:lnTo>
                  <a:lnTo>
                    <a:pt x="1128" y="875"/>
                  </a:lnTo>
                  <a:lnTo>
                    <a:pt x="1492" y="805"/>
                  </a:lnTo>
                  <a:lnTo>
                    <a:pt x="1729" y="859"/>
                  </a:lnTo>
                  <a:lnTo>
                    <a:pt x="1586" y="906"/>
                  </a:lnTo>
                  <a:lnTo>
                    <a:pt x="1215" y="930"/>
                  </a:lnTo>
                  <a:lnTo>
                    <a:pt x="1427" y="1126"/>
                  </a:lnTo>
                  <a:lnTo>
                    <a:pt x="1150" y="1130"/>
                  </a:lnTo>
                  <a:lnTo>
                    <a:pt x="1259" y="1362"/>
                  </a:lnTo>
                  <a:lnTo>
                    <a:pt x="1121" y="1415"/>
                  </a:lnTo>
                  <a:lnTo>
                    <a:pt x="961" y="1442"/>
                  </a:lnTo>
                  <a:lnTo>
                    <a:pt x="1997" y="3410"/>
                  </a:lnTo>
                  <a:lnTo>
                    <a:pt x="2351" y="3512"/>
                  </a:lnTo>
                  <a:lnTo>
                    <a:pt x="2211" y="3505"/>
                  </a:lnTo>
                  <a:lnTo>
                    <a:pt x="2074" y="3555"/>
                  </a:lnTo>
                  <a:lnTo>
                    <a:pt x="2423" y="3763"/>
                  </a:lnTo>
                  <a:lnTo>
                    <a:pt x="2308" y="3596"/>
                  </a:lnTo>
                  <a:lnTo>
                    <a:pt x="2461" y="3502"/>
                  </a:lnTo>
                  <a:lnTo>
                    <a:pt x="2224" y="3409"/>
                  </a:lnTo>
                  <a:lnTo>
                    <a:pt x="2158" y="3175"/>
                  </a:lnTo>
                  <a:lnTo>
                    <a:pt x="2293" y="3141"/>
                  </a:lnTo>
                  <a:lnTo>
                    <a:pt x="2589" y="3138"/>
                  </a:lnTo>
                  <a:lnTo>
                    <a:pt x="2645" y="3235"/>
                  </a:lnTo>
                  <a:lnTo>
                    <a:pt x="2943" y="3100"/>
                  </a:lnTo>
                  <a:lnTo>
                    <a:pt x="2766" y="2963"/>
                  </a:lnTo>
                  <a:lnTo>
                    <a:pt x="2729" y="2721"/>
                  </a:lnTo>
                  <a:lnTo>
                    <a:pt x="2770" y="2531"/>
                  </a:lnTo>
                  <a:lnTo>
                    <a:pt x="2853" y="2263"/>
                  </a:lnTo>
                  <a:lnTo>
                    <a:pt x="2927" y="2387"/>
                  </a:lnTo>
                  <a:lnTo>
                    <a:pt x="3167" y="2434"/>
                  </a:lnTo>
                  <a:lnTo>
                    <a:pt x="3065" y="2502"/>
                  </a:lnTo>
                  <a:lnTo>
                    <a:pt x="3260" y="2630"/>
                  </a:lnTo>
                  <a:lnTo>
                    <a:pt x="3513" y="2553"/>
                  </a:lnTo>
                  <a:lnTo>
                    <a:pt x="3260" y="2400"/>
                  </a:lnTo>
                  <a:lnTo>
                    <a:pt x="3435" y="2309"/>
                  </a:lnTo>
                  <a:lnTo>
                    <a:pt x="3533" y="2284"/>
                  </a:lnTo>
                  <a:lnTo>
                    <a:pt x="3650" y="2282"/>
                  </a:lnTo>
                  <a:lnTo>
                    <a:pt x="3525" y="2338"/>
                  </a:lnTo>
                  <a:lnTo>
                    <a:pt x="3660" y="2418"/>
                  </a:lnTo>
                  <a:lnTo>
                    <a:pt x="3525" y="2531"/>
                  </a:lnTo>
                  <a:lnTo>
                    <a:pt x="4029" y="2770"/>
                  </a:lnTo>
                  <a:lnTo>
                    <a:pt x="4342" y="3029"/>
                  </a:lnTo>
                  <a:lnTo>
                    <a:pt x="3578" y="2948"/>
                  </a:lnTo>
                  <a:lnTo>
                    <a:pt x="3009" y="3076"/>
                  </a:lnTo>
                  <a:lnTo>
                    <a:pt x="3009" y="3076"/>
                  </a:lnTo>
                  <a:lnTo>
                    <a:pt x="2645" y="3250"/>
                  </a:lnTo>
                  <a:lnTo>
                    <a:pt x="2856" y="3464"/>
                  </a:lnTo>
                  <a:lnTo>
                    <a:pt x="2744" y="3493"/>
                  </a:lnTo>
                  <a:lnTo>
                    <a:pt x="3083" y="3676"/>
                  </a:lnTo>
                  <a:lnTo>
                    <a:pt x="2975" y="3726"/>
                  </a:lnTo>
                  <a:lnTo>
                    <a:pt x="3310" y="3814"/>
                  </a:lnTo>
                  <a:lnTo>
                    <a:pt x="3718" y="3826"/>
                  </a:lnTo>
                  <a:lnTo>
                    <a:pt x="4058" y="3689"/>
                  </a:lnTo>
                  <a:lnTo>
                    <a:pt x="4111" y="3842"/>
                  </a:lnTo>
                  <a:lnTo>
                    <a:pt x="4198" y="4035"/>
                  </a:lnTo>
                  <a:lnTo>
                    <a:pt x="4183" y="4274"/>
                  </a:lnTo>
                  <a:lnTo>
                    <a:pt x="4170" y="4554"/>
                  </a:lnTo>
                  <a:lnTo>
                    <a:pt x="2902" y="4505"/>
                  </a:lnTo>
                  <a:lnTo>
                    <a:pt x="2355" y="4300"/>
                  </a:lnTo>
                  <a:lnTo>
                    <a:pt x="3161" y="9799"/>
                  </a:lnTo>
                  <a:lnTo>
                    <a:pt x="2419" y="16121"/>
                  </a:lnTo>
                  <a:lnTo>
                    <a:pt x="3230" y="15933"/>
                  </a:lnTo>
                  <a:lnTo>
                    <a:pt x="4214" y="14934"/>
                  </a:lnTo>
                  <a:lnTo>
                    <a:pt x="4257" y="14725"/>
                  </a:lnTo>
                  <a:lnTo>
                    <a:pt x="4699" y="14472"/>
                  </a:lnTo>
                  <a:lnTo>
                    <a:pt x="4747" y="13697"/>
                  </a:lnTo>
                  <a:lnTo>
                    <a:pt x="5752" y="12924"/>
                  </a:lnTo>
                  <a:lnTo>
                    <a:pt x="5851" y="12053"/>
                  </a:lnTo>
                  <a:lnTo>
                    <a:pt x="5692" y="11234"/>
                  </a:lnTo>
                  <a:lnTo>
                    <a:pt x="5767" y="10978"/>
                  </a:lnTo>
                  <a:lnTo>
                    <a:pt x="6122" y="10418"/>
                  </a:lnTo>
                  <a:lnTo>
                    <a:pt x="6950" y="9282"/>
                  </a:lnTo>
                  <a:lnTo>
                    <a:pt x="7252" y="8173"/>
                  </a:lnTo>
                  <a:lnTo>
                    <a:pt x="7131" y="7890"/>
                  </a:lnTo>
                  <a:lnTo>
                    <a:pt x="6456" y="8179"/>
                  </a:lnTo>
                  <a:lnTo>
                    <a:pt x="6213" y="7977"/>
                  </a:lnTo>
                  <a:lnTo>
                    <a:pt x="6109" y="7974"/>
                  </a:lnTo>
                  <a:lnTo>
                    <a:pt x="6163" y="7762"/>
                  </a:lnTo>
                  <a:lnTo>
                    <a:pt x="5627" y="7333"/>
                  </a:lnTo>
                  <a:lnTo>
                    <a:pt x="5378" y="6803"/>
                  </a:lnTo>
                  <a:lnTo>
                    <a:pt x="4983" y="6102"/>
                  </a:lnTo>
                  <a:lnTo>
                    <a:pt x="4759" y="5913"/>
                  </a:lnTo>
                  <a:lnTo>
                    <a:pt x="4005" y="4831"/>
                  </a:lnTo>
                  <a:lnTo>
                    <a:pt x="4360" y="5137"/>
                  </a:lnTo>
                  <a:lnTo>
                    <a:pt x="4330" y="4899"/>
                  </a:lnTo>
                  <a:lnTo>
                    <a:pt x="4373" y="4872"/>
                  </a:lnTo>
                  <a:lnTo>
                    <a:pt x="4385" y="5081"/>
                  </a:lnTo>
                  <a:lnTo>
                    <a:pt x="5335" y="6265"/>
                  </a:lnTo>
                  <a:lnTo>
                    <a:pt x="5998" y="7095"/>
                  </a:lnTo>
                  <a:lnTo>
                    <a:pt x="6216" y="7765"/>
                  </a:lnTo>
                  <a:lnTo>
                    <a:pt x="6823" y="7519"/>
                  </a:lnTo>
                  <a:lnTo>
                    <a:pt x="7225" y="7052"/>
                  </a:lnTo>
                  <a:lnTo>
                    <a:pt x="7585" y="6638"/>
                  </a:lnTo>
                  <a:lnTo>
                    <a:pt x="7585" y="6072"/>
                  </a:lnTo>
                  <a:lnTo>
                    <a:pt x="7153" y="5679"/>
                  </a:lnTo>
                  <a:lnTo>
                    <a:pt x="7000" y="5454"/>
                  </a:lnTo>
                  <a:lnTo>
                    <a:pt x="6934" y="5741"/>
                  </a:lnTo>
                  <a:lnTo>
                    <a:pt x="6608" y="5660"/>
                  </a:lnTo>
                  <a:lnTo>
                    <a:pt x="6514" y="5402"/>
                  </a:lnTo>
                  <a:lnTo>
                    <a:pt x="6558" y="5638"/>
                  </a:lnTo>
                  <a:lnTo>
                    <a:pt x="6057" y="5003"/>
                  </a:lnTo>
                  <a:lnTo>
                    <a:pt x="5958" y="4794"/>
                  </a:lnTo>
                  <a:lnTo>
                    <a:pt x="6141" y="4776"/>
                  </a:lnTo>
                  <a:lnTo>
                    <a:pt x="6729" y="5311"/>
                  </a:lnTo>
                  <a:lnTo>
                    <a:pt x="7187" y="5489"/>
                  </a:lnTo>
                  <a:lnTo>
                    <a:pt x="7542" y="5561"/>
                  </a:lnTo>
                  <a:lnTo>
                    <a:pt x="7922" y="5576"/>
                  </a:lnTo>
                  <a:lnTo>
                    <a:pt x="8115" y="5807"/>
                  </a:lnTo>
                  <a:lnTo>
                    <a:pt x="8299" y="5918"/>
                  </a:lnTo>
                  <a:lnTo>
                    <a:pt x="8262" y="6056"/>
                  </a:lnTo>
                  <a:lnTo>
                    <a:pt x="8470" y="6333"/>
                  </a:lnTo>
                  <a:lnTo>
                    <a:pt x="8517" y="6248"/>
                  </a:lnTo>
                  <a:lnTo>
                    <a:pt x="8489" y="6062"/>
                  </a:lnTo>
                  <a:lnTo>
                    <a:pt x="8850" y="7073"/>
                  </a:lnTo>
                  <a:lnTo>
                    <a:pt x="9335" y="8550"/>
                  </a:lnTo>
                  <a:lnTo>
                    <a:pt x="9435" y="8657"/>
                  </a:lnTo>
                  <a:close/>
                </a:path>
              </a:pathLst>
            </a:custGeom>
            <a:solidFill>
              <a:srgbClr val="d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64480" y="1595160"/>
              <a:ext cx="939600" cy="1604160"/>
            </a:xfrm>
            <a:custGeom>
              <a:avLst/>
              <a:gdLst/>
              <a:ahLst/>
              <a:rect l="l" t="t" r="r" b="b"/>
              <a:pathLst>
                <a:path w="9435" h="16121">
                  <a:moveTo>
                    <a:pt x="9435" y="8657"/>
                  </a:moveTo>
                  <a:lnTo>
                    <a:pt x="9369" y="8248"/>
                  </a:lnTo>
                  <a:lnTo>
                    <a:pt x="9288" y="7842"/>
                  </a:lnTo>
                  <a:lnTo>
                    <a:pt x="9191" y="7439"/>
                  </a:lnTo>
                  <a:lnTo>
                    <a:pt x="9077" y="7039"/>
                  </a:lnTo>
                  <a:lnTo>
                    <a:pt x="8948" y="6643"/>
                  </a:lnTo>
                  <a:lnTo>
                    <a:pt x="8802" y="6251"/>
                  </a:lnTo>
                  <a:lnTo>
                    <a:pt x="8641" y="5864"/>
                  </a:lnTo>
                  <a:lnTo>
                    <a:pt x="8464" y="5482"/>
                  </a:lnTo>
                  <a:lnTo>
                    <a:pt x="8269" y="5107"/>
                  </a:lnTo>
                  <a:lnTo>
                    <a:pt x="8059" y="4739"/>
                  </a:lnTo>
                  <a:lnTo>
                    <a:pt x="7833" y="4376"/>
                  </a:lnTo>
                  <a:lnTo>
                    <a:pt x="7591" y="4022"/>
                  </a:lnTo>
                  <a:lnTo>
                    <a:pt x="7333" y="3675"/>
                  </a:lnTo>
                  <a:lnTo>
                    <a:pt x="7058" y="3336"/>
                  </a:lnTo>
                  <a:lnTo>
                    <a:pt x="6767" y="3008"/>
                  </a:lnTo>
                  <a:lnTo>
                    <a:pt x="6461" y="2688"/>
                  </a:lnTo>
                  <a:lnTo>
                    <a:pt x="6238" y="2472"/>
                  </a:lnTo>
                  <a:lnTo>
                    <a:pt x="6012" y="2264"/>
                  </a:lnTo>
                  <a:lnTo>
                    <a:pt x="5782" y="2064"/>
                  </a:lnTo>
                  <a:lnTo>
                    <a:pt x="5545" y="1872"/>
                  </a:lnTo>
                  <a:lnTo>
                    <a:pt x="5062" y="1511"/>
                  </a:lnTo>
                  <a:lnTo>
                    <a:pt x="4565" y="1183"/>
                  </a:lnTo>
                  <a:lnTo>
                    <a:pt x="4052" y="885"/>
                  </a:lnTo>
                  <a:lnTo>
                    <a:pt x="3527" y="618"/>
                  </a:lnTo>
                  <a:lnTo>
                    <a:pt x="2991" y="383"/>
                  </a:lnTo>
                  <a:lnTo>
                    <a:pt x="2445" y="179"/>
                  </a:lnTo>
                  <a:lnTo>
                    <a:pt x="2121" y="142"/>
                  </a:lnTo>
                  <a:lnTo>
                    <a:pt x="2134" y="286"/>
                  </a:lnTo>
                  <a:lnTo>
                    <a:pt x="1941" y="248"/>
                  </a:lnTo>
                  <a:lnTo>
                    <a:pt x="1856" y="171"/>
                  </a:lnTo>
                  <a:lnTo>
                    <a:pt x="1828" y="208"/>
                  </a:lnTo>
                  <a:lnTo>
                    <a:pt x="2081" y="361"/>
                  </a:lnTo>
                  <a:lnTo>
                    <a:pt x="1863" y="379"/>
                  </a:lnTo>
                  <a:lnTo>
                    <a:pt x="2018" y="463"/>
                  </a:lnTo>
                  <a:lnTo>
                    <a:pt x="1726" y="410"/>
                  </a:lnTo>
                  <a:lnTo>
                    <a:pt x="1909" y="522"/>
                  </a:lnTo>
                  <a:lnTo>
                    <a:pt x="1654" y="463"/>
                  </a:lnTo>
                  <a:lnTo>
                    <a:pt x="1458" y="335"/>
                  </a:lnTo>
                  <a:lnTo>
                    <a:pt x="1225" y="260"/>
                  </a:lnTo>
                  <a:lnTo>
                    <a:pt x="1700" y="342"/>
                  </a:lnTo>
                  <a:lnTo>
                    <a:pt x="1772" y="260"/>
                  </a:lnTo>
                  <a:lnTo>
                    <a:pt x="925" y="84"/>
                  </a:lnTo>
                  <a:lnTo>
                    <a:pt x="897" y="53"/>
                  </a:lnTo>
                  <a:lnTo>
                    <a:pt x="738" y="15"/>
                  </a:lnTo>
                  <a:lnTo>
                    <a:pt x="642" y="0"/>
                  </a:lnTo>
                  <a:lnTo>
                    <a:pt x="530" y="9"/>
                  </a:lnTo>
                  <a:lnTo>
                    <a:pt x="209" y="115"/>
                  </a:lnTo>
                  <a:lnTo>
                    <a:pt x="0" y="299"/>
                  </a:lnTo>
                  <a:lnTo>
                    <a:pt x="0" y="299"/>
                  </a:lnTo>
                  <a:lnTo>
                    <a:pt x="586" y="986"/>
                  </a:lnTo>
                  <a:lnTo>
                    <a:pt x="769" y="940"/>
                  </a:lnTo>
                  <a:lnTo>
                    <a:pt x="533" y="906"/>
                  </a:lnTo>
                  <a:lnTo>
                    <a:pt x="798" y="880"/>
                  </a:lnTo>
                  <a:lnTo>
                    <a:pt x="508" y="634"/>
                  </a:lnTo>
                  <a:lnTo>
                    <a:pt x="829" y="364"/>
                  </a:lnTo>
                  <a:lnTo>
                    <a:pt x="981" y="432"/>
                  </a:lnTo>
                  <a:lnTo>
                    <a:pt x="798" y="610"/>
                  </a:lnTo>
                  <a:lnTo>
                    <a:pt x="953" y="802"/>
                  </a:lnTo>
                  <a:lnTo>
                    <a:pt x="1128" y="875"/>
                  </a:lnTo>
                  <a:lnTo>
                    <a:pt x="1492" y="805"/>
                  </a:lnTo>
                  <a:lnTo>
                    <a:pt x="1729" y="859"/>
                  </a:lnTo>
                  <a:lnTo>
                    <a:pt x="1586" y="906"/>
                  </a:lnTo>
                  <a:lnTo>
                    <a:pt x="1215" y="930"/>
                  </a:lnTo>
                  <a:lnTo>
                    <a:pt x="1427" y="1126"/>
                  </a:lnTo>
                  <a:lnTo>
                    <a:pt x="1150" y="1130"/>
                  </a:lnTo>
                  <a:lnTo>
                    <a:pt x="1259" y="1362"/>
                  </a:lnTo>
                  <a:lnTo>
                    <a:pt x="1121" y="1415"/>
                  </a:lnTo>
                  <a:lnTo>
                    <a:pt x="961" y="1442"/>
                  </a:lnTo>
                  <a:lnTo>
                    <a:pt x="1997" y="3410"/>
                  </a:lnTo>
                  <a:lnTo>
                    <a:pt x="2351" y="3512"/>
                  </a:lnTo>
                  <a:lnTo>
                    <a:pt x="2211" y="3505"/>
                  </a:lnTo>
                  <a:lnTo>
                    <a:pt x="2074" y="3555"/>
                  </a:lnTo>
                  <a:lnTo>
                    <a:pt x="2423" y="3763"/>
                  </a:lnTo>
                  <a:lnTo>
                    <a:pt x="2308" y="3596"/>
                  </a:lnTo>
                  <a:lnTo>
                    <a:pt x="2461" y="3502"/>
                  </a:lnTo>
                  <a:lnTo>
                    <a:pt x="2224" y="3409"/>
                  </a:lnTo>
                  <a:lnTo>
                    <a:pt x="2158" y="3175"/>
                  </a:lnTo>
                  <a:lnTo>
                    <a:pt x="2293" y="3141"/>
                  </a:lnTo>
                  <a:lnTo>
                    <a:pt x="2589" y="3138"/>
                  </a:lnTo>
                  <a:lnTo>
                    <a:pt x="2645" y="3235"/>
                  </a:lnTo>
                  <a:lnTo>
                    <a:pt x="2943" y="3100"/>
                  </a:lnTo>
                  <a:lnTo>
                    <a:pt x="2766" y="2963"/>
                  </a:lnTo>
                  <a:lnTo>
                    <a:pt x="2729" y="2721"/>
                  </a:lnTo>
                  <a:lnTo>
                    <a:pt x="2770" y="2531"/>
                  </a:lnTo>
                  <a:lnTo>
                    <a:pt x="2853" y="2263"/>
                  </a:lnTo>
                  <a:lnTo>
                    <a:pt x="2927" y="2387"/>
                  </a:lnTo>
                  <a:lnTo>
                    <a:pt x="3167" y="2434"/>
                  </a:lnTo>
                  <a:lnTo>
                    <a:pt x="3065" y="2502"/>
                  </a:lnTo>
                  <a:lnTo>
                    <a:pt x="3260" y="2630"/>
                  </a:lnTo>
                  <a:lnTo>
                    <a:pt x="3513" y="2553"/>
                  </a:lnTo>
                  <a:lnTo>
                    <a:pt x="3260" y="2400"/>
                  </a:lnTo>
                  <a:lnTo>
                    <a:pt x="3435" y="2309"/>
                  </a:lnTo>
                  <a:lnTo>
                    <a:pt x="3533" y="2284"/>
                  </a:lnTo>
                  <a:lnTo>
                    <a:pt x="3650" y="2282"/>
                  </a:lnTo>
                  <a:lnTo>
                    <a:pt x="3525" y="2338"/>
                  </a:lnTo>
                  <a:lnTo>
                    <a:pt x="3660" y="2418"/>
                  </a:lnTo>
                  <a:lnTo>
                    <a:pt x="3525" y="2531"/>
                  </a:lnTo>
                  <a:lnTo>
                    <a:pt x="4029" y="2770"/>
                  </a:lnTo>
                  <a:lnTo>
                    <a:pt x="4342" y="3029"/>
                  </a:lnTo>
                  <a:lnTo>
                    <a:pt x="3578" y="2948"/>
                  </a:lnTo>
                  <a:lnTo>
                    <a:pt x="3009" y="3076"/>
                  </a:lnTo>
                  <a:lnTo>
                    <a:pt x="3009" y="3076"/>
                  </a:lnTo>
                  <a:lnTo>
                    <a:pt x="2645" y="3250"/>
                  </a:lnTo>
                  <a:lnTo>
                    <a:pt x="2856" y="3464"/>
                  </a:lnTo>
                  <a:lnTo>
                    <a:pt x="2744" y="3493"/>
                  </a:lnTo>
                  <a:lnTo>
                    <a:pt x="3083" y="3676"/>
                  </a:lnTo>
                  <a:lnTo>
                    <a:pt x="2975" y="3726"/>
                  </a:lnTo>
                  <a:lnTo>
                    <a:pt x="3310" y="3814"/>
                  </a:lnTo>
                  <a:lnTo>
                    <a:pt x="3718" y="3826"/>
                  </a:lnTo>
                  <a:lnTo>
                    <a:pt x="4058" y="3689"/>
                  </a:lnTo>
                  <a:lnTo>
                    <a:pt x="4111" y="3842"/>
                  </a:lnTo>
                  <a:lnTo>
                    <a:pt x="4198" y="4035"/>
                  </a:lnTo>
                  <a:lnTo>
                    <a:pt x="4183" y="4274"/>
                  </a:lnTo>
                  <a:lnTo>
                    <a:pt x="4170" y="4554"/>
                  </a:lnTo>
                  <a:lnTo>
                    <a:pt x="2902" y="4505"/>
                  </a:lnTo>
                  <a:lnTo>
                    <a:pt x="2355" y="4300"/>
                  </a:lnTo>
                  <a:lnTo>
                    <a:pt x="3161" y="9799"/>
                  </a:lnTo>
                  <a:lnTo>
                    <a:pt x="2419" y="16121"/>
                  </a:lnTo>
                  <a:lnTo>
                    <a:pt x="3230" y="15933"/>
                  </a:lnTo>
                  <a:lnTo>
                    <a:pt x="4214" y="14934"/>
                  </a:lnTo>
                  <a:lnTo>
                    <a:pt x="4257" y="14725"/>
                  </a:lnTo>
                  <a:lnTo>
                    <a:pt x="4699" y="14472"/>
                  </a:lnTo>
                  <a:lnTo>
                    <a:pt x="4747" y="13697"/>
                  </a:lnTo>
                  <a:lnTo>
                    <a:pt x="5752" y="12924"/>
                  </a:lnTo>
                  <a:lnTo>
                    <a:pt x="5851" y="12053"/>
                  </a:lnTo>
                  <a:lnTo>
                    <a:pt x="5692" y="11234"/>
                  </a:lnTo>
                  <a:lnTo>
                    <a:pt x="5767" y="10978"/>
                  </a:lnTo>
                  <a:lnTo>
                    <a:pt x="6122" y="10418"/>
                  </a:lnTo>
                  <a:lnTo>
                    <a:pt x="6950" y="9282"/>
                  </a:lnTo>
                  <a:lnTo>
                    <a:pt x="7252" y="8173"/>
                  </a:lnTo>
                  <a:lnTo>
                    <a:pt x="7131" y="7890"/>
                  </a:lnTo>
                  <a:lnTo>
                    <a:pt x="6456" y="8179"/>
                  </a:lnTo>
                  <a:lnTo>
                    <a:pt x="6213" y="7977"/>
                  </a:lnTo>
                  <a:lnTo>
                    <a:pt x="6109" y="7974"/>
                  </a:lnTo>
                  <a:lnTo>
                    <a:pt x="6163" y="7762"/>
                  </a:lnTo>
                  <a:lnTo>
                    <a:pt x="5627" y="7333"/>
                  </a:lnTo>
                  <a:lnTo>
                    <a:pt x="5378" y="6803"/>
                  </a:lnTo>
                  <a:lnTo>
                    <a:pt x="4983" y="6102"/>
                  </a:lnTo>
                  <a:lnTo>
                    <a:pt x="4759" y="5913"/>
                  </a:lnTo>
                  <a:lnTo>
                    <a:pt x="4005" y="4831"/>
                  </a:lnTo>
                  <a:lnTo>
                    <a:pt x="4360" y="5137"/>
                  </a:lnTo>
                  <a:lnTo>
                    <a:pt x="4330" y="4899"/>
                  </a:lnTo>
                  <a:lnTo>
                    <a:pt x="4373" y="4872"/>
                  </a:lnTo>
                  <a:lnTo>
                    <a:pt x="4385" y="5081"/>
                  </a:lnTo>
                  <a:lnTo>
                    <a:pt x="5335" y="6265"/>
                  </a:lnTo>
                  <a:lnTo>
                    <a:pt x="5998" y="7095"/>
                  </a:lnTo>
                  <a:lnTo>
                    <a:pt x="6216" y="7765"/>
                  </a:lnTo>
                  <a:lnTo>
                    <a:pt x="6823" y="7519"/>
                  </a:lnTo>
                  <a:lnTo>
                    <a:pt x="7225" y="7052"/>
                  </a:lnTo>
                  <a:lnTo>
                    <a:pt x="7585" y="6638"/>
                  </a:lnTo>
                  <a:lnTo>
                    <a:pt x="7585" y="6072"/>
                  </a:lnTo>
                  <a:lnTo>
                    <a:pt x="7153" y="5679"/>
                  </a:lnTo>
                  <a:lnTo>
                    <a:pt x="7000" y="5454"/>
                  </a:lnTo>
                  <a:lnTo>
                    <a:pt x="6934" y="5741"/>
                  </a:lnTo>
                  <a:lnTo>
                    <a:pt x="6608" y="5660"/>
                  </a:lnTo>
                  <a:lnTo>
                    <a:pt x="6514" y="5402"/>
                  </a:lnTo>
                  <a:lnTo>
                    <a:pt x="6558" y="5638"/>
                  </a:lnTo>
                  <a:lnTo>
                    <a:pt x="6057" y="5003"/>
                  </a:lnTo>
                  <a:lnTo>
                    <a:pt x="5958" y="4794"/>
                  </a:lnTo>
                  <a:lnTo>
                    <a:pt x="6141" y="4776"/>
                  </a:lnTo>
                  <a:lnTo>
                    <a:pt x="6729" y="5311"/>
                  </a:lnTo>
                  <a:lnTo>
                    <a:pt x="7187" y="5489"/>
                  </a:lnTo>
                  <a:lnTo>
                    <a:pt x="7542" y="5561"/>
                  </a:lnTo>
                  <a:lnTo>
                    <a:pt x="7922" y="5576"/>
                  </a:lnTo>
                  <a:lnTo>
                    <a:pt x="8115" y="5807"/>
                  </a:lnTo>
                  <a:lnTo>
                    <a:pt x="8299" y="5918"/>
                  </a:lnTo>
                  <a:lnTo>
                    <a:pt x="8262" y="6056"/>
                  </a:lnTo>
                  <a:lnTo>
                    <a:pt x="8470" y="6333"/>
                  </a:lnTo>
                  <a:lnTo>
                    <a:pt x="8517" y="6248"/>
                  </a:lnTo>
                  <a:lnTo>
                    <a:pt x="8489" y="6062"/>
                  </a:lnTo>
                  <a:lnTo>
                    <a:pt x="8850" y="7073"/>
                  </a:lnTo>
                  <a:lnTo>
                    <a:pt x="9335" y="8550"/>
                  </a:lnTo>
                  <a:lnTo>
                    <a:pt x="9435" y="8657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320960" y="1822320"/>
              <a:ext cx="131040" cy="143280"/>
            </a:xfrm>
            <a:custGeom>
              <a:avLst/>
              <a:gdLst/>
              <a:ahLst/>
              <a:rect l="l" t="t" r="r" b="b"/>
              <a:pathLst>
                <a:path w="1317" h="1438">
                  <a:moveTo>
                    <a:pt x="1317" y="1345"/>
                  </a:moveTo>
                  <a:lnTo>
                    <a:pt x="925" y="897"/>
                  </a:lnTo>
                  <a:lnTo>
                    <a:pt x="1037" y="813"/>
                  </a:lnTo>
                  <a:lnTo>
                    <a:pt x="812" y="719"/>
                  </a:lnTo>
                  <a:lnTo>
                    <a:pt x="306" y="329"/>
                  </a:lnTo>
                  <a:lnTo>
                    <a:pt x="423" y="336"/>
                  </a:lnTo>
                  <a:lnTo>
                    <a:pt x="473" y="230"/>
                  </a:lnTo>
                  <a:lnTo>
                    <a:pt x="364" y="105"/>
                  </a:lnTo>
                  <a:lnTo>
                    <a:pt x="121" y="0"/>
                  </a:lnTo>
                  <a:lnTo>
                    <a:pt x="38" y="96"/>
                  </a:lnTo>
                  <a:lnTo>
                    <a:pt x="0" y="336"/>
                  </a:lnTo>
                  <a:lnTo>
                    <a:pt x="427" y="703"/>
                  </a:lnTo>
                  <a:lnTo>
                    <a:pt x="738" y="927"/>
                  </a:lnTo>
                  <a:lnTo>
                    <a:pt x="763" y="1186"/>
                  </a:lnTo>
                  <a:lnTo>
                    <a:pt x="1121" y="1438"/>
                  </a:lnTo>
                  <a:lnTo>
                    <a:pt x="1317" y="1345"/>
                  </a:lnTo>
                  <a:close/>
                </a:path>
              </a:pathLst>
            </a:custGeom>
            <a:solidFill>
              <a:srgbClr val="9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320960" y="1822320"/>
              <a:ext cx="131040" cy="143280"/>
            </a:xfrm>
            <a:custGeom>
              <a:avLst/>
              <a:gdLst/>
              <a:ahLst/>
              <a:rect l="l" t="t" r="r" b="b"/>
              <a:pathLst>
                <a:path w="1317" h="1438">
                  <a:moveTo>
                    <a:pt x="1317" y="1345"/>
                  </a:moveTo>
                  <a:lnTo>
                    <a:pt x="925" y="897"/>
                  </a:lnTo>
                  <a:lnTo>
                    <a:pt x="1037" y="813"/>
                  </a:lnTo>
                  <a:lnTo>
                    <a:pt x="812" y="719"/>
                  </a:lnTo>
                  <a:lnTo>
                    <a:pt x="306" y="329"/>
                  </a:lnTo>
                  <a:lnTo>
                    <a:pt x="423" y="336"/>
                  </a:lnTo>
                  <a:lnTo>
                    <a:pt x="473" y="230"/>
                  </a:lnTo>
                  <a:lnTo>
                    <a:pt x="364" y="105"/>
                  </a:lnTo>
                  <a:lnTo>
                    <a:pt x="121" y="0"/>
                  </a:lnTo>
                  <a:lnTo>
                    <a:pt x="38" y="96"/>
                  </a:lnTo>
                  <a:lnTo>
                    <a:pt x="0" y="336"/>
                  </a:lnTo>
                  <a:lnTo>
                    <a:pt x="427" y="703"/>
                  </a:lnTo>
                  <a:lnTo>
                    <a:pt x="738" y="927"/>
                  </a:lnTo>
                  <a:lnTo>
                    <a:pt x="763" y="1186"/>
                  </a:lnTo>
                  <a:lnTo>
                    <a:pt x="1121" y="1438"/>
                  </a:lnTo>
                  <a:lnTo>
                    <a:pt x="1317" y="134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234200" y="1982160"/>
              <a:ext cx="25200" cy="15840"/>
            </a:xfrm>
            <a:custGeom>
              <a:avLst/>
              <a:gdLst/>
              <a:ahLst/>
              <a:rect l="l" t="t" r="r" b="b"/>
              <a:pathLst>
                <a:path w="258" h="164">
                  <a:moveTo>
                    <a:pt x="258" y="0"/>
                  </a:moveTo>
                  <a:lnTo>
                    <a:pt x="125" y="164"/>
                  </a:lnTo>
                  <a:lnTo>
                    <a:pt x="0" y="89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d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234200" y="1982160"/>
              <a:ext cx="25200" cy="15840"/>
            </a:xfrm>
            <a:custGeom>
              <a:avLst/>
              <a:gdLst/>
              <a:ahLst/>
              <a:rect l="l" t="t" r="r" b="b"/>
              <a:pathLst>
                <a:path w="258" h="164">
                  <a:moveTo>
                    <a:pt x="258" y="0"/>
                  </a:moveTo>
                  <a:lnTo>
                    <a:pt x="125" y="164"/>
                  </a:lnTo>
                  <a:lnTo>
                    <a:pt x="0" y="89"/>
                  </a:lnTo>
                  <a:lnTo>
                    <a:pt x="258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439760" y="2821320"/>
              <a:ext cx="120960" cy="228960"/>
            </a:xfrm>
            <a:custGeom>
              <a:avLst/>
              <a:gdLst/>
              <a:ahLst/>
              <a:rect l="l" t="t" r="r" b="b"/>
              <a:pathLst>
                <a:path w="1217" h="2300">
                  <a:moveTo>
                    <a:pt x="65" y="1768"/>
                  </a:moveTo>
                  <a:lnTo>
                    <a:pt x="304" y="1432"/>
                  </a:lnTo>
                  <a:lnTo>
                    <a:pt x="448" y="766"/>
                  </a:lnTo>
                  <a:lnTo>
                    <a:pt x="940" y="511"/>
                  </a:lnTo>
                  <a:lnTo>
                    <a:pt x="1186" y="0"/>
                  </a:lnTo>
                  <a:lnTo>
                    <a:pt x="1217" y="610"/>
                  </a:lnTo>
                  <a:lnTo>
                    <a:pt x="1105" y="653"/>
                  </a:lnTo>
                  <a:lnTo>
                    <a:pt x="361" y="2300"/>
                  </a:lnTo>
                  <a:lnTo>
                    <a:pt x="0" y="2295"/>
                  </a:lnTo>
                  <a:lnTo>
                    <a:pt x="65" y="1768"/>
                  </a:lnTo>
                  <a:close/>
                </a:path>
              </a:pathLst>
            </a:custGeom>
            <a:solidFill>
              <a:srgbClr val="d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439760" y="2821320"/>
              <a:ext cx="120960" cy="228960"/>
            </a:xfrm>
            <a:custGeom>
              <a:avLst/>
              <a:gdLst/>
              <a:ahLst/>
              <a:rect l="l" t="t" r="r" b="b"/>
              <a:pathLst>
                <a:path w="1217" h="2300">
                  <a:moveTo>
                    <a:pt x="65" y="1768"/>
                  </a:moveTo>
                  <a:lnTo>
                    <a:pt x="304" y="1432"/>
                  </a:lnTo>
                  <a:lnTo>
                    <a:pt x="448" y="766"/>
                  </a:lnTo>
                  <a:lnTo>
                    <a:pt x="940" y="511"/>
                  </a:lnTo>
                  <a:lnTo>
                    <a:pt x="1186" y="0"/>
                  </a:lnTo>
                  <a:lnTo>
                    <a:pt x="1217" y="610"/>
                  </a:lnTo>
                  <a:lnTo>
                    <a:pt x="1105" y="653"/>
                  </a:lnTo>
                  <a:lnTo>
                    <a:pt x="361" y="2300"/>
                  </a:lnTo>
                  <a:lnTo>
                    <a:pt x="0" y="2295"/>
                  </a:lnTo>
                  <a:lnTo>
                    <a:pt x="65" y="1768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650280" y="3573000"/>
              <a:ext cx="468000" cy="73080"/>
            </a:xfrm>
            <a:custGeom>
              <a:avLst/>
              <a:gdLst/>
              <a:ahLst/>
              <a:rect l="l" t="t" r="r" b="b"/>
              <a:pathLst>
                <a:path w="4706" h="738">
                  <a:moveTo>
                    <a:pt x="0" y="669"/>
                  </a:moveTo>
                  <a:lnTo>
                    <a:pt x="499" y="511"/>
                  </a:lnTo>
                  <a:lnTo>
                    <a:pt x="331" y="501"/>
                  </a:lnTo>
                  <a:lnTo>
                    <a:pt x="493" y="361"/>
                  </a:lnTo>
                  <a:lnTo>
                    <a:pt x="835" y="326"/>
                  </a:lnTo>
                  <a:lnTo>
                    <a:pt x="841" y="367"/>
                  </a:lnTo>
                  <a:lnTo>
                    <a:pt x="1196" y="374"/>
                  </a:lnTo>
                  <a:lnTo>
                    <a:pt x="1745" y="286"/>
                  </a:lnTo>
                  <a:lnTo>
                    <a:pt x="2607" y="314"/>
                  </a:lnTo>
                  <a:lnTo>
                    <a:pt x="3383" y="181"/>
                  </a:lnTo>
                  <a:lnTo>
                    <a:pt x="3467" y="280"/>
                  </a:lnTo>
                  <a:lnTo>
                    <a:pt x="3766" y="183"/>
                  </a:lnTo>
                  <a:lnTo>
                    <a:pt x="4410" y="87"/>
                  </a:lnTo>
                  <a:lnTo>
                    <a:pt x="4619" y="0"/>
                  </a:lnTo>
                  <a:lnTo>
                    <a:pt x="4706" y="135"/>
                  </a:lnTo>
                  <a:lnTo>
                    <a:pt x="4134" y="320"/>
                  </a:lnTo>
                  <a:lnTo>
                    <a:pt x="3554" y="471"/>
                  </a:lnTo>
                  <a:lnTo>
                    <a:pt x="2968" y="588"/>
                  </a:lnTo>
                  <a:lnTo>
                    <a:pt x="2378" y="672"/>
                  </a:lnTo>
                  <a:lnTo>
                    <a:pt x="1784" y="721"/>
                  </a:lnTo>
                  <a:lnTo>
                    <a:pt x="1188" y="738"/>
                  </a:lnTo>
                  <a:lnTo>
                    <a:pt x="594" y="720"/>
                  </a:lnTo>
                  <a:lnTo>
                    <a:pt x="0" y="6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650280" y="3573000"/>
              <a:ext cx="468000" cy="73080"/>
            </a:xfrm>
            <a:custGeom>
              <a:avLst/>
              <a:gdLst/>
              <a:ahLst/>
              <a:rect l="l" t="t" r="r" b="b"/>
              <a:pathLst>
                <a:path w="4706" h="738">
                  <a:moveTo>
                    <a:pt x="0" y="669"/>
                  </a:moveTo>
                  <a:lnTo>
                    <a:pt x="499" y="511"/>
                  </a:lnTo>
                  <a:lnTo>
                    <a:pt x="331" y="501"/>
                  </a:lnTo>
                  <a:lnTo>
                    <a:pt x="493" y="361"/>
                  </a:lnTo>
                  <a:lnTo>
                    <a:pt x="835" y="326"/>
                  </a:lnTo>
                  <a:lnTo>
                    <a:pt x="841" y="367"/>
                  </a:lnTo>
                  <a:lnTo>
                    <a:pt x="1196" y="374"/>
                  </a:lnTo>
                  <a:lnTo>
                    <a:pt x="1745" y="286"/>
                  </a:lnTo>
                  <a:lnTo>
                    <a:pt x="2607" y="314"/>
                  </a:lnTo>
                  <a:lnTo>
                    <a:pt x="3383" y="181"/>
                  </a:lnTo>
                  <a:lnTo>
                    <a:pt x="3467" y="280"/>
                  </a:lnTo>
                  <a:lnTo>
                    <a:pt x="3766" y="183"/>
                  </a:lnTo>
                  <a:lnTo>
                    <a:pt x="4410" y="87"/>
                  </a:lnTo>
                  <a:lnTo>
                    <a:pt x="4619" y="0"/>
                  </a:lnTo>
                  <a:lnTo>
                    <a:pt x="4706" y="135"/>
                  </a:lnTo>
                  <a:lnTo>
                    <a:pt x="4134" y="320"/>
                  </a:lnTo>
                  <a:lnTo>
                    <a:pt x="3554" y="471"/>
                  </a:lnTo>
                  <a:lnTo>
                    <a:pt x="2968" y="588"/>
                  </a:lnTo>
                  <a:lnTo>
                    <a:pt x="2378" y="672"/>
                  </a:lnTo>
                  <a:lnTo>
                    <a:pt x="1784" y="721"/>
                  </a:lnTo>
                  <a:lnTo>
                    <a:pt x="1188" y="738"/>
                  </a:lnTo>
                  <a:lnTo>
                    <a:pt x="594" y="720"/>
                  </a:lnTo>
                  <a:lnTo>
                    <a:pt x="0" y="669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724360" y="1557360"/>
              <a:ext cx="1041480" cy="2089080"/>
            </a:xfrm>
            <a:custGeom>
              <a:avLst/>
              <a:gdLst/>
              <a:ahLst/>
              <a:rect l="l" t="t" r="r" b="b"/>
              <a:pathLst>
                <a:path w="10462" h="20992">
                  <a:moveTo>
                    <a:pt x="10449" y="0"/>
                  </a:moveTo>
                  <a:lnTo>
                    <a:pt x="9948" y="14"/>
                  </a:lnTo>
                  <a:lnTo>
                    <a:pt x="9448" y="52"/>
                  </a:lnTo>
                  <a:lnTo>
                    <a:pt x="8951" y="113"/>
                  </a:lnTo>
                  <a:lnTo>
                    <a:pt x="8456" y="198"/>
                  </a:lnTo>
                  <a:lnTo>
                    <a:pt x="7965" y="308"/>
                  </a:lnTo>
                  <a:lnTo>
                    <a:pt x="7479" y="440"/>
                  </a:lnTo>
                  <a:lnTo>
                    <a:pt x="6998" y="597"/>
                  </a:lnTo>
                  <a:lnTo>
                    <a:pt x="6523" y="778"/>
                  </a:lnTo>
                  <a:lnTo>
                    <a:pt x="6057" y="982"/>
                  </a:lnTo>
                  <a:lnTo>
                    <a:pt x="5599" y="1209"/>
                  </a:lnTo>
                  <a:lnTo>
                    <a:pt x="5149" y="1461"/>
                  </a:lnTo>
                  <a:lnTo>
                    <a:pt x="4709" y="1735"/>
                  </a:lnTo>
                  <a:lnTo>
                    <a:pt x="4281" y="2034"/>
                  </a:lnTo>
                  <a:lnTo>
                    <a:pt x="3865" y="2358"/>
                  </a:lnTo>
                  <a:lnTo>
                    <a:pt x="3463" y="2704"/>
                  </a:lnTo>
                  <a:lnTo>
                    <a:pt x="3073" y="3074"/>
                  </a:lnTo>
                  <a:lnTo>
                    <a:pt x="2701" y="3465"/>
                  </a:lnTo>
                  <a:lnTo>
                    <a:pt x="2353" y="3871"/>
                  </a:lnTo>
                  <a:lnTo>
                    <a:pt x="2028" y="4289"/>
                  </a:lnTo>
                  <a:lnTo>
                    <a:pt x="1728" y="4720"/>
                  </a:lnTo>
                  <a:lnTo>
                    <a:pt x="1453" y="5162"/>
                  </a:lnTo>
                  <a:lnTo>
                    <a:pt x="1201" y="5615"/>
                  </a:lnTo>
                  <a:lnTo>
                    <a:pt x="973" y="6076"/>
                  </a:lnTo>
                  <a:lnTo>
                    <a:pt x="769" y="6546"/>
                  </a:lnTo>
                  <a:lnTo>
                    <a:pt x="589" y="7024"/>
                  </a:lnTo>
                  <a:lnTo>
                    <a:pt x="432" y="7508"/>
                  </a:lnTo>
                  <a:lnTo>
                    <a:pt x="300" y="7997"/>
                  </a:lnTo>
                  <a:lnTo>
                    <a:pt x="191" y="8491"/>
                  </a:lnTo>
                  <a:lnTo>
                    <a:pt x="108" y="8990"/>
                  </a:lnTo>
                  <a:lnTo>
                    <a:pt x="48" y="9489"/>
                  </a:lnTo>
                  <a:lnTo>
                    <a:pt x="12" y="9993"/>
                  </a:lnTo>
                  <a:lnTo>
                    <a:pt x="0" y="10496"/>
                  </a:lnTo>
                  <a:lnTo>
                    <a:pt x="12" y="11000"/>
                  </a:lnTo>
                  <a:lnTo>
                    <a:pt x="48" y="11502"/>
                  </a:lnTo>
                  <a:lnTo>
                    <a:pt x="108" y="12003"/>
                  </a:lnTo>
                  <a:lnTo>
                    <a:pt x="191" y="12500"/>
                  </a:lnTo>
                  <a:lnTo>
                    <a:pt x="300" y="12995"/>
                  </a:lnTo>
                  <a:lnTo>
                    <a:pt x="432" y="13485"/>
                  </a:lnTo>
                  <a:lnTo>
                    <a:pt x="589" y="13969"/>
                  </a:lnTo>
                  <a:lnTo>
                    <a:pt x="769" y="14446"/>
                  </a:lnTo>
                  <a:lnTo>
                    <a:pt x="973" y="14916"/>
                  </a:lnTo>
                  <a:lnTo>
                    <a:pt x="1201" y="15377"/>
                  </a:lnTo>
                  <a:lnTo>
                    <a:pt x="1453" y="15829"/>
                  </a:lnTo>
                  <a:lnTo>
                    <a:pt x="1728" y="16272"/>
                  </a:lnTo>
                  <a:lnTo>
                    <a:pt x="2028" y="16702"/>
                  </a:lnTo>
                  <a:lnTo>
                    <a:pt x="2353" y="17121"/>
                  </a:lnTo>
                  <a:lnTo>
                    <a:pt x="2701" y="17526"/>
                  </a:lnTo>
                  <a:lnTo>
                    <a:pt x="3073" y="17918"/>
                  </a:lnTo>
                  <a:lnTo>
                    <a:pt x="3464" y="18289"/>
                  </a:lnTo>
                  <a:lnTo>
                    <a:pt x="3868" y="18636"/>
                  </a:lnTo>
                  <a:lnTo>
                    <a:pt x="4284" y="18958"/>
                  </a:lnTo>
                  <a:lnTo>
                    <a:pt x="4713" y="19258"/>
                  </a:lnTo>
                  <a:lnTo>
                    <a:pt x="5153" y="19533"/>
                  </a:lnTo>
                  <a:lnTo>
                    <a:pt x="5603" y="19785"/>
                  </a:lnTo>
                  <a:lnTo>
                    <a:pt x="6062" y="20013"/>
                  </a:lnTo>
                  <a:lnTo>
                    <a:pt x="6530" y="20217"/>
                  </a:lnTo>
                  <a:lnTo>
                    <a:pt x="7005" y="20397"/>
                  </a:lnTo>
                  <a:lnTo>
                    <a:pt x="7486" y="20554"/>
                  </a:lnTo>
                  <a:lnTo>
                    <a:pt x="7974" y="20686"/>
                  </a:lnTo>
                  <a:lnTo>
                    <a:pt x="8466" y="20794"/>
                  </a:lnTo>
                  <a:lnTo>
                    <a:pt x="8962" y="20880"/>
                  </a:lnTo>
                  <a:lnTo>
                    <a:pt x="9460" y="20941"/>
                  </a:lnTo>
                  <a:lnTo>
                    <a:pt x="9961" y="20979"/>
                  </a:lnTo>
                  <a:lnTo>
                    <a:pt x="10462" y="20992"/>
                  </a:lnTo>
                  <a:lnTo>
                    <a:pt x="10449" y="0"/>
                  </a:lnTo>
                  <a:close/>
                </a:path>
              </a:pathLst>
            </a:custGeom>
            <a:solidFill>
              <a:srgbClr val="b53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724360" y="1557360"/>
              <a:ext cx="1041480" cy="2089080"/>
            </a:xfrm>
            <a:custGeom>
              <a:avLst/>
              <a:gdLst/>
              <a:ahLst/>
              <a:rect l="l" t="t" r="r" b="b"/>
              <a:pathLst>
                <a:path w="10462" h="20992">
                  <a:moveTo>
                    <a:pt x="10449" y="0"/>
                  </a:moveTo>
                  <a:lnTo>
                    <a:pt x="9948" y="14"/>
                  </a:lnTo>
                  <a:lnTo>
                    <a:pt x="9448" y="52"/>
                  </a:lnTo>
                  <a:lnTo>
                    <a:pt x="8951" y="113"/>
                  </a:lnTo>
                  <a:lnTo>
                    <a:pt x="8456" y="198"/>
                  </a:lnTo>
                  <a:lnTo>
                    <a:pt x="7965" y="308"/>
                  </a:lnTo>
                  <a:lnTo>
                    <a:pt x="7479" y="440"/>
                  </a:lnTo>
                  <a:lnTo>
                    <a:pt x="6998" y="597"/>
                  </a:lnTo>
                  <a:lnTo>
                    <a:pt x="6523" y="778"/>
                  </a:lnTo>
                  <a:lnTo>
                    <a:pt x="6057" y="982"/>
                  </a:lnTo>
                  <a:lnTo>
                    <a:pt x="5599" y="1209"/>
                  </a:lnTo>
                  <a:lnTo>
                    <a:pt x="5149" y="1461"/>
                  </a:lnTo>
                  <a:lnTo>
                    <a:pt x="4709" y="1735"/>
                  </a:lnTo>
                  <a:lnTo>
                    <a:pt x="4281" y="2034"/>
                  </a:lnTo>
                  <a:lnTo>
                    <a:pt x="3865" y="2358"/>
                  </a:lnTo>
                  <a:lnTo>
                    <a:pt x="3463" y="2704"/>
                  </a:lnTo>
                  <a:lnTo>
                    <a:pt x="3073" y="3074"/>
                  </a:lnTo>
                  <a:lnTo>
                    <a:pt x="2701" y="3465"/>
                  </a:lnTo>
                  <a:lnTo>
                    <a:pt x="2353" y="3871"/>
                  </a:lnTo>
                  <a:lnTo>
                    <a:pt x="2028" y="4289"/>
                  </a:lnTo>
                  <a:lnTo>
                    <a:pt x="1728" y="4720"/>
                  </a:lnTo>
                  <a:lnTo>
                    <a:pt x="1453" y="5162"/>
                  </a:lnTo>
                  <a:lnTo>
                    <a:pt x="1201" y="5615"/>
                  </a:lnTo>
                  <a:lnTo>
                    <a:pt x="973" y="6076"/>
                  </a:lnTo>
                  <a:lnTo>
                    <a:pt x="769" y="6546"/>
                  </a:lnTo>
                  <a:lnTo>
                    <a:pt x="589" y="7024"/>
                  </a:lnTo>
                  <a:lnTo>
                    <a:pt x="432" y="7508"/>
                  </a:lnTo>
                  <a:lnTo>
                    <a:pt x="300" y="7997"/>
                  </a:lnTo>
                  <a:lnTo>
                    <a:pt x="191" y="8491"/>
                  </a:lnTo>
                  <a:lnTo>
                    <a:pt x="108" y="8990"/>
                  </a:lnTo>
                  <a:lnTo>
                    <a:pt x="48" y="9489"/>
                  </a:lnTo>
                  <a:lnTo>
                    <a:pt x="12" y="9993"/>
                  </a:lnTo>
                  <a:lnTo>
                    <a:pt x="0" y="10496"/>
                  </a:lnTo>
                  <a:lnTo>
                    <a:pt x="12" y="11000"/>
                  </a:lnTo>
                  <a:lnTo>
                    <a:pt x="48" y="11502"/>
                  </a:lnTo>
                  <a:lnTo>
                    <a:pt x="108" y="12003"/>
                  </a:lnTo>
                  <a:lnTo>
                    <a:pt x="191" y="12500"/>
                  </a:lnTo>
                  <a:lnTo>
                    <a:pt x="300" y="12995"/>
                  </a:lnTo>
                  <a:lnTo>
                    <a:pt x="432" y="13485"/>
                  </a:lnTo>
                  <a:lnTo>
                    <a:pt x="589" y="13969"/>
                  </a:lnTo>
                  <a:lnTo>
                    <a:pt x="769" y="14446"/>
                  </a:lnTo>
                  <a:lnTo>
                    <a:pt x="973" y="14916"/>
                  </a:lnTo>
                  <a:lnTo>
                    <a:pt x="1201" y="15377"/>
                  </a:lnTo>
                  <a:lnTo>
                    <a:pt x="1453" y="15829"/>
                  </a:lnTo>
                  <a:lnTo>
                    <a:pt x="1728" y="16272"/>
                  </a:lnTo>
                  <a:lnTo>
                    <a:pt x="2028" y="16702"/>
                  </a:lnTo>
                  <a:lnTo>
                    <a:pt x="2353" y="17121"/>
                  </a:lnTo>
                  <a:lnTo>
                    <a:pt x="2701" y="17526"/>
                  </a:lnTo>
                  <a:lnTo>
                    <a:pt x="3073" y="17918"/>
                  </a:lnTo>
                  <a:lnTo>
                    <a:pt x="3464" y="18289"/>
                  </a:lnTo>
                  <a:lnTo>
                    <a:pt x="3868" y="18636"/>
                  </a:lnTo>
                  <a:lnTo>
                    <a:pt x="4284" y="18958"/>
                  </a:lnTo>
                  <a:lnTo>
                    <a:pt x="4713" y="19258"/>
                  </a:lnTo>
                  <a:lnTo>
                    <a:pt x="5153" y="19533"/>
                  </a:lnTo>
                  <a:lnTo>
                    <a:pt x="5603" y="19785"/>
                  </a:lnTo>
                  <a:lnTo>
                    <a:pt x="6062" y="20013"/>
                  </a:lnTo>
                  <a:lnTo>
                    <a:pt x="6530" y="20217"/>
                  </a:lnTo>
                  <a:lnTo>
                    <a:pt x="7005" y="20397"/>
                  </a:lnTo>
                  <a:lnTo>
                    <a:pt x="7486" y="20554"/>
                  </a:lnTo>
                  <a:lnTo>
                    <a:pt x="7974" y="20686"/>
                  </a:lnTo>
                  <a:lnTo>
                    <a:pt x="8466" y="20794"/>
                  </a:lnTo>
                  <a:lnTo>
                    <a:pt x="8962" y="20880"/>
                  </a:lnTo>
                  <a:lnTo>
                    <a:pt x="9460" y="20941"/>
                  </a:lnTo>
                  <a:lnTo>
                    <a:pt x="9961" y="20979"/>
                  </a:lnTo>
                  <a:lnTo>
                    <a:pt x="10462" y="20992"/>
                  </a:lnTo>
                  <a:lnTo>
                    <a:pt x="10449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764040" y="1557360"/>
              <a:ext cx="437760" cy="2089080"/>
            </a:xfrm>
            <a:custGeom>
              <a:avLst/>
              <a:gdLst/>
              <a:ahLst/>
              <a:rect l="l" t="t" r="r" b="b"/>
              <a:pathLst>
                <a:path w="4399" h="20992">
                  <a:moveTo>
                    <a:pt x="0" y="0"/>
                  </a:moveTo>
                  <a:lnTo>
                    <a:pt x="13" y="20992"/>
                  </a:lnTo>
                  <a:lnTo>
                    <a:pt x="131" y="20981"/>
                  </a:lnTo>
                  <a:lnTo>
                    <a:pt x="259" y="20949"/>
                  </a:lnTo>
                  <a:lnTo>
                    <a:pt x="398" y="20895"/>
                  </a:lnTo>
                  <a:lnTo>
                    <a:pt x="545" y="20820"/>
                  </a:lnTo>
                  <a:lnTo>
                    <a:pt x="700" y="20723"/>
                  </a:lnTo>
                  <a:lnTo>
                    <a:pt x="862" y="20604"/>
                  </a:lnTo>
                  <a:lnTo>
                    <a:pt x="1030" y="20465"/>
                  </a:lnTo>
                  <a:lnTo>
                    <a:pt x="1202" y="20305"/>
                  </a:lnTo>
                  <a:lnTo>
                    <a:pt x="1380" y="20126"/>
                  </a:lnTo>
                  <a:lnTo>
                    <a:pt x="1560" y="19924"/>
                  </a:lnTo>
                  <a:lnTo>
                    <a:pt x="1743" y="19702"/>
                  </a:lnTo>
                  <a:lnTo>
                    <a:pt x="1926" y="19460"/>
                  </a:lnTo>
                  <a:lnTo>
                    <a:pt x="2110" y="19198"/>
                  </a:lnTo>
                  <a:lnTo>
                    <a:pt x="2294" y="18914"/>
                  </a:lnTo>
                  <a:lnTo>
                    <a:pt x="2476" y="18612"/>
                  </a:lnTo>
                  <a:lnTo>
                    <a:pt x="2654" y="18289"/>
                  </a:lnTo>
                  <a:lnTo>
                    <a:pt x="2830" y="17945"/>
                  </a:lnTo>
                  <a:lnTo>
                    <a:pt x="3001" y="17582"/>
                  </a:lnTo>
                  <a:lnTo>
                    <a:pt x="3166" y="17201"/>
                  </a:lnTo>
                  <a:lnTo>
                    <a:pt x="3326" y="16799"/>
                  </a:lnTo>
                  <a:lnTo>
                    <a:pt x="3479" y="16378"/>
                  </a:lnTo>
                  <a:lnTo>
                    <a:pt x="3622" y="15936"/>
                  </a:lnTo>
                  <a:lnTo>
                    <a:pt x="3757" y="15477"/>
                  </a:lnTo>
                  <a:lnTo>
                    <a:pt x="3881" y="14998"/>
                  </a:lnTo>
                  <a:lnTo>
                    <a:pt x="3995" y="14501"/>
                  </a:lnTo>
                  <a:lnTo>
                    <a:pt x="4096" y="13983"/>
                  </a:lnTo>
                  <a:lnTo>
                    <a:pt x="4185" y="13448"/>
                  </a:lnTo>
                  <a:lnTo>
                    <a:pt x="4259" y="12894"/>
                  </a:lnTo>
                  <a:lnTo>
                    <a:pt x="4318" y="12322"/>
                  </a:lnTo>
                  <a:lnTo>
                    <a:pt x="4362" y="11731"/>
                  </a:lnTo>
                  <a:lnTo>
                    <a:pt x="4389" y="11122"/>
                  </a:lnTo>
                  <a:lnTo>
                    <a:pt x="4399" y="10495"/>
                  </a:lnTo>
                  <a:lnTo>
                    <a:pt x="4389" y="9866"/>
                  </a:lnTo>
                  <a:lnTo>
                    <a:pt x="4362" y="9254"/>
                  </a:lnTo>
                  <a:lnTo>
                    <a:pt x="4318" y="8662"/>
                  </a:lnTo>
                  <a:lnTo>
                    <a:pt x="4259" y="8087"/>
                  </a:lnTo>
                  <a:lnTo>
                    <a:pt x="4184" y="7532"/>
                  </a:lnTo>
                  <a:lnTo>
                    <a:pt x="4095" y="6996"/>
                  </a:lnTo>
                  <a:lnTo>
                    <a:pt x="3993" y="6478"/>
                  </a:lnTo>
                  <a:lnTo>
                    <a:pt x="3879" y="5980"/>
                  </a:lnTo>
                  <a:lnTo>
                    <a:pt x="3754" y="5501"/>
                  </a:lnTo>
                  <a:lnTo>
                    <a:pt x="3619" y="5041"/>
                  </a:lnTo>
                  <a:lnTo>
                    <a:pt x="3475" y="4601"/>
                  </a:lnTo>
                  <a:lnTo>
                    <a:pt x="3322" y="4179"/>
                  </a:lnTo>
                  <a:lnTo>
                    <a:pt x="3162" y="3778"/>
                  </a:lnTo>
                  <a:lnTo>
                    <a:pt x="2995" y="3396"/>
                  </a:lnTo>
                  <a:lnTo>
                    <a:pt x="2824" y="3034"/>
                  </a:lnTo>
                  <a:lnTo>
                    <a:pt x="2648" y="2692"/>
                  </a:lnTo>
                  <a:lnTo>
                    <a:pt x="2468" y="2370"/>
                  </a:lnTo>
                  <a:lnTo>
                    <a:pt x="2286" y="2067"/>
                  </a:lnTo>
                  <a:lnTo>
                    <a:pt x="2102" y="1785"/>
                  </a:lnTo>
                  <a:lnTo>
                    <a:pt x="1917" y="1523"/>
                  </a:lnTo>
                  <a:lnTo>
                    <a:pt x="1733" y="1282"/>
                  </a:lnTo>
                  <a:lnTo>
                    <a:pt x="1550" y="1061"/>
                  </a:lnTo>
                  <a:lnTo>
                    <a:pt x="1369" y="860"/>
                  </a:lnTo>
                  <a:lnTo>
                    <a:pt x="1191" y="680"/>
                  </a:lnTo>
                  <a:lnTo>
                    <a:pt x="1018" y="522"/>
                  </a:lnTo>
                  <a:lnTo>
                    <a:pt x="849" y="384"/>
                  </a:lnTo>
                  <a:lnTo>
                    <a:pt x="687" y="267"/>
                  </a:lnTo>
                  <a:lnTo>
                    <a:pt x="532" y="171"/>
                  </a:lnTo>
                  <a:lnTo>
                    <a:pt x="385" y="96"/>
                  </a:lnTo>
                  <a:lnTo>
                    <a:pt x="246" y="43"/>
                  </a:lnTo>
                  <a:lnTo>
                    <a:pt x="118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3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764040" y="1557360"/>
              <a:ext cx="437760" cy="2089080"/>
            </a:xfrm>
            <a:custGeom>
              <a:avLst/>
              <a:gdLst/>
              <a:ahLst/>
              <a:rect l="l" t="t" r="r" b="b"/>
              <a:pathLst>
                <a:path w="4399" h="20992">
                  <a:moveTo>
                    <a:pt x="0" y="0"/>
                  </a:moveTo>
                  <a:lnTo>
                    <a:pt x="13" y="20992"/>
                  </a:lnTo>
                  <a:lnTo>
                    <a:pt x="131" y="20981"/>
                  </a:lnTo>
                  <a:lnTo>
                    <a:pt x="259" y="20949"/>
                  </a:lnTo>
                  <a:lnTo>
                    <a:pt x="398" y="20895"/>
                  </a:lnTo>
                  <a:lnTo>
                    <a:pt x="545" y="20820"/>
                  </a:lnTo>
                  <a:lnTo>
                    <a:pt x="700" y="20723"/>
                  </a:lnTo>
                  <a:lnTo>
                    <a:pt x="862" y="20604"/>
                  </a:lnTo>
                  <a:lnTo>
                    <a:pt x="1030" y="20465"/>
                  </a:lnTo>
                  <a:lnTo>
                    <a:pt x="1202" y="20305"/>
                  </a:lnTo>
                  <a:lnTo>
                    <a:pt x="1380" y="20126"/>
                  </a:lnTo>
                  <a:lnTo>
                    <a:pt x="1560" y="19924"/>
                  </a:lnTo>
                  <a:lnTo>
                    <a:pt x="1743" y="19702"/>
                  </a:lnTo>
                  <a:lnTo>
                    <a:pt x="1926" y="19460"/>
                  </a:lnTo>
                  <a:lnTo>
                    <a:pt x="2110" y="19198"/>
                  </a:lnTo>
                  <a:lnTo>
                    <a:pt x="2294" y="18914"/>
                  </a:lnTo>
                  <a:lnTo>
                    <a:pt x="2476" y="18612"/>
                  </a:lnTo>
                  <a:lnTo>
                    <a:pt x="2654" y="18289"/>
                  </a:lnTo>
                  <a:lnTo>
                    <a:pt x="2830" y="17945"/>
                  </a:lnTo>
                  <a:lnTo>
                    <a:pt x="3001" y="17582"/>
                  </a:lnTo>
                  <a:lnTo>
                    <a:pt x="3166" y="17201"/>
                  </a:lnTo>
                  <a:lnTo>
                    <a:pt x="3326" y="16799"/>
                  </a:lnTo>
                  <a:lnTo>
                    <a:pt x="3479" y="16378"/>
                  </a:lnTo>
                  <a:lnTo>
                    <a:pt x="3622" y="15936"/>
                  </a:lnTo>
                  <a:lnTo>
                    <a:pt x="3757" y="15477"/>
                  </a:lnTo>
                  <a:lnTo>
                    <a:pt x="3881" y="14998"/>
                  </a:lnTo>
                  <a:lnTo>
                    <a:pt x="3995" y="14501"/>
                  </a:lnTo>
                  <a:lnTo>
                    <a:pt x="4096" y="13983"/>
                  </a:lnTo>
                  <a:lnTo>
                    <a:pt x="4185" y="13448"/>
                  </a:lnTo>
                  <a:lnTo>
                    <a:pt x="4259" y="12894"/>
                  </a:lnTo>
                  <a:lnTo>
                    <a:pt x="4318" y="12322"/>
                  </a:lnTo>
                  <a:lnTo>
                    <a:pt x="4362" y="11731"/>
                  </a:lnTo>
                  <a:lnTo>
                    <a:pt x="4389" y="11122"/>
                  </a:lnTo>
                  <a:lnTo>
                    <a:pt x="4399" y="10495"/>
                  </a:lnTo>
                  <a:lnTo>
                    <a:pt x="4389" y="9866"/>
                  </a:lnTo>
                  <a:lnTo>
                    <a:pt x="4362" y="9254"/>
                  </a:lnTo>
                  <a:lnTo>
                    <a:pt x="4318" y="8662"/>
                  </a:lnTo>
                  <a:lnTo>
                    <a:pt x="4259" y="8087"/>
                  </a:lnTo>
                  <a:lnTo>
                    <a:pt x="4184" y="7532"/>
                  </a:lnTo>
                  <a:lnTo>
                    <a:pt x="4095" y="6996"/>
                  </a:lnTo>
                  <a:lnTo>
                    <a:pt x="3993" y="6478"/>
                  </a:lnTo>
                  <a:lnTo>
                    <a:pt x="3879" y="5980"/>
                  </a:lnTo>
                  <a:lnTo>
                    <a:pt x="3754" y="5501"/>
                  </a:lnTo>
                  <a:lnTo>
                    <a:pt x="3619" y="5041"/>
                  </a:lnTo>
                  <a:lnTo>
                    <a:pt x="3475" y="4601"/>
                  </a:lnTo>
                  <a:lnTo>
                    <a:pt x="3322" y="4179"/>
                  </a:lnTo>
                  <a:lnTo>
                    <a:pt x="3162" y="3778"/>
                  </a:lnTo>
                  <a:lnTo>
                    <a:pt x="2995" y="3396"/>
                  </a:lnTo>
                  <a:lnTo>
                    <a:pt x="2824" y="3034"/>
                  </a:lnTo>
                  <a:lnTo>
                    <a:pt x="2648" y="2692"/>
                  </a:lnTo>
                  <a:lnTo>
                    <a:pt x="2468" y="2370"/>
                  </a:lnTo>
                  <a:lnTo>
                    <a:pt x="2286" y="2067"/>
                  </a:lnTo>
                  <a:lnTo>
                    <a:pt x="2102" y="1785"/>
                  </a:lnTo>
                  <a:lnTo>
                    <a:pt x="1917" y="1523"/>
                  </a:lnTo>
                  <a:lnTo>
                    <a:pt x="1733" y="1282"/>
                  </a:lnTo>
                  <a:lnTo>
                    <a:pt x="1550" y="1061"/>
                  </a:lnTo>
                  <a:lnTo>
                    <a:pt x="1369" y="860"/>
                  </a:lnTo>
                  <a:lnTo>
                    <a:pt x="1191" y="680"/>
                  </a:lnTo>
                  <a:lnTo>
                    <a:pt x="1018" y="522"/>
                  </a:lnTo>
                  <a:lnTo>
                    <a:pt x="849" y="384"/>
                  </a:lnTo>
                  <a:lnTo>
                    <a:pt x="687" y="267"/>
                  </a:lnTo>
                  <a:lnTo>
                    <a:pt x="532" y="171"/>
                  </a:lnTo>
                  <a:lnTo>
                    <a:pt x="385" y="96"/>
                  </a:lnTo>
                  <a:lnTo>
                    <a:pt x="246" y="43"/>
                  </a:lnTo>
                  <a:lnTo>
                    <a:pt x="118" y="10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741640" y="1573920"/>
              <a:ext cx="1023840" cy="2054880"/>
            </a:xfrm>
            <a:custGeom>
              <a:avLst/>
              <a:gdLst/>
              <a:ahLst/>
              <a:rect l="l" t="t" r="r" b="b"/>
              <a:pathLst>
                <a:path w="10290" h="20648">
                  <a:moveTo>
                    <a:pt x="10277" y="0"/>
                  </a:moveTo>
                  <a:lnTo>
                    <a:pt x="9784" y="13"/>
                  </a:lnTo>
                  <a:lnTo>
                    <a:pt x="9293" y="51"/>
                  </a:lnTo>
                  <a:lnTo>
                    <a:pt x="8803" y="111"/>
                  </a:lnTo>
                  <a:lnTo>
                    <a:pt x="8316" y="195"/>
                  </a:lnTo>
                  <a:lnTo>
                    <a:pt x="7834" y="302"/>
                  </a:lnTo>
                  <a:lnTo>
                    <a:pt x="7355" y="433"/>
                  </a:lnTo>
                  <a:lnTo>
                    <a:pt x="6882" y="587"/>
                  </a:lnTo>
                  <a:lnTo>
                    <a:pt x="6416" y="764"/>
                  </a:lnTo>
                  <a:lnTo>
                    <a:pt x="5956" y="965"/>
                  </a:lnTo>
                  <a:lnTo>
                    <a:pt x="5506" y="1189"/>
                  </a:lnTo>
                  <a:lnTo>
                    <a:pt x="5064" y="1436"/>
                  </a:lnTo>
                  <a:lnTo>
                    <a:pt x="4632" y="1707"/>
                  </a:lnTo>
                  <a:lnTo>
                    <a:pt x="4211" y="2001"/>
                  </a:lnTo>
                  <a:lnTo>
                    <a:pt x="3802" y="2319"/>
                  </a:lnTo>
                  <a:lnTo>
                    <a:pt x="3406" y="2659"/>
                  </a:lnTo>
                  <a:lnTo>
                    <a:pt x="3023" y="3023"/>
                  </a:lnTo>
                  <a:lnTo>
                    <a:pt x="2656" y="3409"/>
                  </a:lnTo>
                  <a:lnTo>
                    <a:pt x="2313" y="3807"/>
                  </a:lnTo>
                  <a:lnTo>
                    <a:pt x="1994" y="4219"/>
                  </a:lnTo>
                  <a:lnTo>
                    <a:pt x="1700" y="4643"/>
                  </a:lnTo>
                  <a:lnTo>
                    <a:pt x="1428" y="5077"/>
                  </a:lnTo>
                  <a:lnTo>
                    <a:pt x="1180" y="5523"/>
                  </a:lnTo>
                  <a:lnTo>
                    <a:pt x="956" y="5977"/>
                  </a:lnTo>
                  <a:lnTo>
                    <a:pt x="755" y="6439"/>
                  </a:lnTo>
                  <a:lnTo>
                    <a:pt x="578" y="6909"/>
                  </a:lnTo>
                  <a:lnTo>
                    <a:pt x="424" y="7384"/>
                  </a:lnTo>
                  <a:lnTo>
                    <a:pt x="294" y="7867"/>
                  </a:lnTo>
                  <a:lnTo>
                    <a:pt x="188" y="8352"/>
                  </a:lnTo>
                  <a:lnTo>
                    <a:pt x="106" y="8842"/>
                  </a:lnTo>
                  <a:lnTo>
                    <a:pt x="47" y="9334"/>
                  </a:lnTo>
                  <a:lnTo>
                    <a:pt x="11" y="9828"/>
                  </a:lnTo>
                  <a:lnTo>
                    <a:pt x="0" y="10324"/>
                  </a:lnTo>
                  <a:lnTo>
                    <a:pt x="11" y="10819"/>
                  </a:lnTo>
                  <a:lnTo>
                    <a:pt x="47" y="11313"/>
                  </a:lnTo>
                  <a:lnTo>
                    <a:pt x="106" y="11807"/>
                  </a:lnTo>
                  <a:lnTo>
                    <a:pt x="188" y="12295"/>
                  </a:lnTo>
                  <a:lnTo>
                    <a:pt x="294" y="12782"/>
                  </a:lnTo>
                  <a:lnTo>
                    <a:pt x="424" y="13263"/>
                  </a:lnTo>
                  <a:lnTo>
                    <a:pt x="578" y="13740"/>
                  </a:lnTo>
                  <a:lnTo>
                    <a:pt x="755" y="14209"/>
                  </a:lnTo>
                  <a:lnTo>
                    <a:pt x="956" y="14671"/>
                  </a:lnTo>
                  <a:lnTo>
                    <a:pt x="1180" y="15125"/>
                  </a:lnTo>
                  <a:lnTo>
                    <a:pt x="1428" y="15570"/>
                  </a:lnTo>
                  <a:lnTo>
                    <a:pt x="1700" y="16005"/>
                  </a:lnTo>
                  <a:lnTo>
                    <a:pt x="1994" y="16428"/>
                  </a:lnTo>
                  <a:lnTo>
                    <a:pt x="2313" y="16840"/>
                  </a:lnTo>
                  <a:lnTo>
                    <a:pt x="2656" y="17239"/>
                  </a:lnTo>
                  <a:lnTo>
                    <a:pt x="3023" y="17625"/>
                  </a:lnTo>
                  <a:lnTo>
                    <a:pt x="3406" y="17989"/>
                  </a:lnTo>
                  <a:lnTo>
                    <a:pt x="3803" y="18331"/>
                  </a:lnTo>
                  <a:lnTo>
                    <a:pt x="4213" y="18648"/>
                  </a:lnTo>
                  <a:lnTo>
                    <a:pt x="4635" y="18942"/>
                  </a:lnTo>
                  <a:lnTo>
                    <a:pt x="5067" y="19213"/>
                  </a:lnTo>
                  <a:lnTo>
                    <a:pt x="5509" y="19460"/>
                  </a:lnTo>
                  <a:lnTo>
                    <a:pt x="5962" y="19684"/>
                  </a:lnTo>
                  <a:lnTo>
                    <a:pt x="6422" y="19885"/>
                  </a:lnTo>
                  <a:lnTo>
                    <a:pt x="6890" y="20063"/>
                  </a:lnTo>
                  <a:lnTo>
                    <a:pt x="7363" y="20216"/>
                  </a:lnTo>
                  <a:lnTo>
                    <a:pt x="7843" y="20346"/>
                  </a:lnTo>
                  <a:lnTo>
                    <a:pt x="8326" y="20453"/>
                  </a:lnTo>
                  <a:lnTo>
                    <a:pt x="8814" y="20537"/>
                  </a:lnTo>
                  <a:lnTo>
                    <a:pt x="9305" y="20598"/>
                  </a:lnTo>
                  <a:lnTo>
                    <a:pt x="9797" y="20634"/>
                  </a:lnTo>
                  <a:lnTo>
                    <a:pt x="10290" y="20648"/>
                  </a:lnTo>
                  <a:lnTo>
                    <a:pt x="10277" y="0"/>
                  </a:lnTo>
                  <a:close/>
                </a:path>
              </a:pathLst>
            </a:custGeom>
            <a:solidFill>
              <a:srgbClr val="ffb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41640" y="1573920"/>
              <a:ext cx="1023840" cy="2054880"/>
            </a:xfrm>
            <a:custGeom>
              <a:avLst/>
              <a:gdLst/>
              <a:ahLst/>
              <a:rect l="l" t="t" r="r" b="b"/>
              <a:pathLst>
                <a:path w="10290" h="20648">
                  <a:moveTo>
                    <a:pt x="10277" y="0"/>
                  </a:moveTo>
                  <a:lnTo>
                    <a:pt x="9784" y="13"/>
                  </a:lnTo>
                  <a:lnTo>
                    <a:pt x="9293" y="51"/>
                  </a:lnTo>
                  <a:lnTo>
                    <a:pt x="8803" y="111"/>
                  </a:lnTo>
                  <a:lnTo>
                    <a:pt x="8316" y="195"/>
                  </a:lnTo>
                  <a:lnTo>
                    <a:pt x="7834" y="302"/>
                  </a:lnTo>
                  <a:lnTo>
                    <a:pt x="7355" y="433"/>
                  </a:lnTo>
                  <a:lnTo>
                    <a:pt x="6882" y="587"/>
                  </a:lnTo>
                  <a:lnTo>
                    <a:pt x="6416" y="764"/>
                  </a:lnTo>
                  <a:lnTo>
                    <a:pt x="5956" y="965"/>
                  </a:lnTo>
                  <a:lnTo>
                    <a:pt x="5506" y="1189"/>
                  </a:lnTo>
                  <a:lnTo>
                    <a:pt x="5064" y="1436"/>
                  </a:lnTo>
                  <a:lnTo>
                    <a:pt x="4632" y="1707"/>
                  </a:lnTo>
                  <a:lnTo>
                    <a:pt x="4211" y="2001"/>
                  </a:lnTo>
                  <a:lnTo>
                    <a:pt x="3802" y="2319"/>
                  </a:lnTo>
                  <a:lnTo>
                    <a:pt x="3406" y="2659"/>
                  </a:lnTo>
                  <a:lnTo>
                    <a:pt x="3023" y="3023"/>
                  </a:lnTo>
                  <a:lnTo>
                    <a:pt x="2656" y="3409"/>
                  </a:lnTo>
                  <a:lnTo>
                    <a:pt x="2313" y="3807"/>
                  </a:lnTo>
                  <a:lnTo>
                    <a:pt x="1994" y="4219"/>
                  </a:lnTo>
                  <a:lnTo>
                    <a:pt x="1700" y="4643"/>
                  </a:lnTo>
                  <a:lnTo>
                    <a:pt x="1428" y="5077"/>
                  </a:lnTo>
                  <a:lnTo>
                    <a:pt x="1180" y="5523"/>
                  </a:lnTo>
                  <a:lnTo>
                    <a:pt x="956" y="5977"/>
                  </a:lnTo>
                  <a:lnTo>
                    <a:pt x="755" y="6439"/>
                  </a:lnTo>
                  <a:lnTo>
                    <a:pt x="578" y="6909"/>
                  </a:lnTo>
                  <a:lnTo>
                    <a:pt x="424" y="7384"/>
                  </a:lnTo>
                  <a:lnTo>
                    <a:pt x="294" y="7867"/>
                  </a:lnTo>
                  <a:lnTo>
                    <a:pt x="188" y="8352"/>
                  </a:lnTo>
                  <a:lnTo>
                    <a:pt x="106" y="8842"/>
                  </a:lnTo>
                  <a:lnTo>
                    <a:pt x="47" y="9334"/>
                  </a:lnTo>
                  <a:lnTo>
                    <a:pt x="11" y="9828"/>
                  </a:lnTo>
                  <a:lnTo>
                    <a:pt x="0" y="10324"/>
                  </a:lnTo>
                  <a:lnTo>
                    <a:pt x="11" y="10819"/>
                  </a:lnTo>
                  <a:lnTo>
                    <a:pt x="47" y="11313"/>
                  </a:lnTo>
                  <a:lnTo>
                    <a:pt x="106" y="11807"/>
                  </a:lnTo>
                  <a:lnTo>
                    <a:pt x="188" y="12295"/>
                  </a:lnTo>
                  <a:lnTo>
                    <a:pt x="294" y="12782"/>
                  </a:lnTo>
                  <a:lnTo>
                    <a:pt x="424" y="13263"/>
                  </a:lnTo>
                  <a:lnTo>
                    <a:pt x="578" y="13740"/>
                  </a:lnTo>
                  <a:lnTo>
                    <a:pt x="755" y="14209"/>
                  </a:lnTo>
                  <a:lnTo>
                    <a:pt x="956" y="14671"/>
                  </a:lnTo>
                  <a:lnTo>
                    <a:pt x="1180" y="15125"/>
                  </a:lnTo>
                  <a:lnTo>
                    <a:pt x="1428" y="15570"/>
                  </a:lnTo>
                  <a:lnTo>
                    <a:pt x="1700" y="16005"/>
                  </a:lnTo>
                  <a:lnTo>
                    <a:pt x="1994" y="16428"/>
                  </a:lnTo>
                  <a:lnTo>
                    <a:pt x="2313" y="16840"/>
                  </a:lnTo>
                  <a:lnTo>
                    <a:pt x="2656" y="17239"/>
                  </a:lnTo>
                  <a:lnTo>
                    <a:pt x="3023" y="17625"/>
                  </a:lnTo>
                  <a:lnTo>
                    <a:pt x="3406" y="17989"/>
                  </a:lnTo>
                  <a:lnTo>
                    <a:pt x="3803" y="18331"/>
                  </a:lnTo>
                  <a:lnTo>
                    <a:pt x="4213" y="18648"/>
                  </a:lnTo>
                  <a:lnTo>
                    <a:pt x="4635" y="18942"/>
                  </a:lnTo>
                  <a:lnTo>
                    <a:pt x="5067" y="19213"/>
                  </a:lnTo>
                  <a:lnTo>
                    <a:pt x="5509" y="19460"/>
                  </a:lnTo>
                  <a:lnTo>
                    <a:pt x="5962" y="19684"/>
                  </a:lnTo>
                  <a:lnTo>
                    <a:pt x="6422" y="19885"/>
                  </a:lnTo>
                  <a:lnTo>
                    <a:pt x="6890" y="20063"/>
                  </a:lnTo>
                  <a:lnTo>
                    <a:pt x="7363" y="20216"/>
                  </a:lnTo>
                  <a:lnTo>
                    <a:pt x="7843" y="20346"/>
                  </a:lnTo>
                  <a:lnTo>
                    <a:pt x="8326" y="20453"/>
                  </a:lnTo>
                  <a:lnTo>
                    <a:pt x="8814" y="20537"/>
                  </a:lnTo>
                  <a:lnTo>
                    <a:pt x="9305" y="20598"/>
                  </a:lnTo>
                  <a:lnTo>
                    <a:pt x="9797" y="20634"/>
                  </a:lnTo>
                  <a:lnTo>
                    <a:pt x="10290" y="20648"/>
                  </a:lnTo>
                  <a:lnTo>
                    <a:pt x="10277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077160" y="1910520"/>
              <a:ext cx="688680" cy="1382040"/>
            </a:xfrm>
            <a:custGeom>
              <a:avLst/>
              <a:gdLst/>
              <a:ahLst/>
              <a:rect l="l" t="t" r="r" b="b"/>
              <a:pathLst>
                <a:path w="6924" h="13895">
                  <a:moveTo>
                    <a:pt x="6915" y="0"/>
                  </a:moveTo>
                  <a:lnTo>
                    <a:pt x="6584" y="9"/>
                  </a:lnTo>
                  <a:lnTo>
                    <a:pt x="6253" y="34"/>
                  </a:lnTo>
                  <a:lnTo>
                    <a:pt x="5925" y="75"/>
                  </a:lnTo>
                  <a:lnTo>
                    <a:pt x="5597" y="131"/>
                  </a:lnTo>
                  <a:lnTo>
                    <a:pt x="5272" y="204"/>
                  </a:lnTo>
                  <a:lnTo>
                    <a:pt x="4949" y="291"/>
                  </a:lnTo>
                  <a:lnTo>
                    <a:pt x="4632" y="395"/>
                  </a:lnTo>
                  <a:lnTo>
                    <a:pt x="4317" y="514"/>
                  </a:lnTo>
                  <a:lnTo>
                    <a:pt x="4008" y="650"/>
                  </a:lnTo>
                  <a:lnTo>
                    <a:pt x="3705" y="800"/>
                  </a:lnTo>
                  <a:lnTo>
                    <a:pt x="3408" y="967"/>
                  </a:lnTo>
                  <a:lnTo>
                    <a:pt x="3117" y="1149"/>
                  </a:lnTo>
                  <a:lnTo>
                    <a:pt x="2833" y="1347"/>
                  </a:lnTo>
                  <a:lnTo>
                    <a:pt x="2559" y="1560"/>
                  </a:lnTo>
                  <a:lnTo>
                    <a:pt x="2292" y="1790"/>
                  </a:lnTo>
                  <a:lnTo>
                    <a:pt x="2033" y="2035"/>
                  </a:lnTo>
                  <a:lnTo>
                    <a:pt x="1787" y="2294"/>
                  </a:lnTo>
                  <a:lnTo>
                    <a:pt x="1557" y="2563"/>
                  </a:lnTo>
                  <a:lnTo>
                    <a:pt x="1343" y="2840"/>
                  </a:lnTo>
                  <a:lnTo>
                    <a:pt x="1144" y="3125"/>
                  </a:lnTo>
                  <a:lnTo>
                    <a:pt x="961" y="3417"/>
                  </a:lnTo>
                  <a:lnTo>
                    <a:pt x="794" y="3717"/>
                  </a:lnTo>
                  <a:lnTo>
                    <a:pt x="643" y="4023"/>
                  </a:lnTo>
                  <a:lnTo>
                    <a:pt x="508" y="4334"/>
                  </a:lnTo>
                  <a:lnTo>
                    <a:pt x="388" y="4649"/>
                  </a:lnTo>
                  <a:lnTo>
                    <a:pt x="286" y="4969"/>
                  </a:lnTo>
                  <a:lnTo>
                    <a:pt x="197" y="5294"/>
                  </a:lnTo>
                  <a:lnTo>
                    <a:pt x="127" y="5622"/>
                  </a:lnTo>
                  <a:lnTo>
                    <a:pt x="71" y="5950"/>
                  </a:lnTo>
                  <a:lnTo>
                    <a:pt x="31" y="6282"/>
                  </a:lnTo>
                  <a:lnTo>
                    <a:pt x="8" y="6615"/>
                  </a:lnTo>
                  <a:lnTo>
                    <a:pt x="0" y="6948"/>
                  </a:lnTo>
                  <a:lnTo>
                    <a:pt x="8" y="7281"/>
                  </a:lnTo>
                  <a:lnTo>
                    <a:pt x="31" y="7614"/>
                  </a:lnTo>
                  <a:lnTo>
                    <a:pt x="71" y="7945"/>
                  </a:lnTo>
                  <a:lnTo>
                    <a:pt x="127" y="8275"/>
                  </a:lnTo>
                  <a:lnTo>
                    <a:pt x="197" y="8603"/>
                  </a:lnTo>
                  <a:lnTo>
                    <a:pt x="286" y="8926"/>
                  </a:lnTo>
                  <a:lnTo>
                    <a:pt x="388" y="9246"/>
                  </a:lnTo>
                  <a:lnTo>
                    <a:pt x="508" y="9563"/>
                  </a:lnTo>
                  <a:lnTo>
                    <a:pt x="643" y="9874"/>
                  </a:lnTo>
                  <a:lnTo>
                    <a:pt x="794" y="10179"/>
                  </a:lnTo>
                  <a:lnTo>
                    <a:pt x="961" y="10478"/>
                  </a:lnTo>
                  <a:lnTo>
                    <a:pt x="1144" y="10771"/>
                  </a:lnTo>
                  <a:lnTo>
                    <a:pt x="1343" y="11057"/>
                  </a:lnTo>
                  <a:lnTo>
                    <a:pt x="1557" y="11333"/>
                  </a:lnTo>
                  <a:lnTo>
                    <a:pt x="1787" y="11602"/>
                  </a:lnTo>
                  <a:lnTo>
                    <a:pt x="2033" y="11861"/>
                  </a:lnTo>
                  <a:lnTo>
                    <a:pt x="2292" y="12106"/>
                  </a:lnTo>
                  <a:lnTo>
                    <a:pt x="2560" y="12335"/>
                  </a:lnTo>
                  <a:lnTo>
                    <a:pt x="2835" y="12549"/>
                  </a:lnTo>
                  <a:lnTo>
                    <a:pt x="3119" y="12748"/>
                  </a:lnTo>
                  <a:lnTo>
                    <a:pt x="3410" y="12930"/>
                  </a:lnTo>
                  <a:lnTo>
                    <a:pt x="3708" y="13097"/>
                  </a:lnTo>
                  <a:lnTo>
                    <a:pt x="4013" y="13248"/>
                  </a:lnTo>
                  <a:lnTo>
                    <a:pt x="4322" y="13382"/>
                  </a:lnTo>
                  <a:lnTo>
                    <a:pt x="4636" y="13502"/>
                  </a:lnTo>
                  <a:lnTo>
                    <a:pt x="4955" y="13605"/>
                  </a:lnTo>
                  <a:lnTo>
                    <a:pt x="5278" y="13694"/>
                  </a:lnTo>
                  <a:lnTo>
                    <a:pt x="5604" y="13765"/>
                  </a:lnTo>
                  <a:lnTo>
                    <a:pt x="5931" y="13822"/>
                  </a:lnTo>
                  <a:lnTo>
                    <a:pt x="6261" y="13862"/>
                  </a:lnTo>
                  <a:lnTo>
                    <a:pt x="6592" y="13887"/>
                  </a:lnTo>
                  <a:lnTo>
                    <a:pt x="6924" y="13895"/>
                  </a:lnTo>
                  <a:lnTo>
                    <a:pt x="6915" y="0"/>
                  </a:lnTo>
                  <a:close/>
                </a:path>
              </a:pathLst>
            </a:custGeom>
            <a:solidFill>
              <a:srgbClr val="ffe5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077160" y="1910520"/>
              <a:ext cx="688680" cy="1382040"/>
            </a:xfrm>
            <a:custGeom>
              <a:avLst/>
              <a:gdLst/>
              <a:ahLst/>
              <a:rect l="l" t="t" r="r" b="b"/>
              <a:pathLst>
                <a:path w="6924" h="13895">
                  <a:moveTo>
                    <a:pt x="6915" y="0"/>
                  </a:moveTo>
                  <a:lnTo>
                    <a:pt x="6584" y="9"/>
                  </a:lnTo>
                  <a:lnTo>
                    <a:pt x="6253" y="34"/>
                  </a:lnTo>
                  <a:lnTo>
                    <a:pt x="5925" y="75"/>
                  </a:lnTo>
                  <a:lnTo>
                    <a:pt x="5597" y="131"/>
                  </a:lnTo>
                  <a:lnTo>
                    <a:pt x="5272" y="204"/>
                  </a:lnTo>
                  <a:lnTo>
                    <a:pt x="4949" y="291"/>
                  </a:lnTo>
                  <a:lnTo>
                    <a:pt x="4632" y="395"/>
                  </a:lnTo>
                  <a:lnTo>
                    <a:pt x="4317" y="514"/>
                  </a:lnTo>
                  <a:lnTo>
                    <a:pt x="4008" y="650"/>
                  </a:lnTo>
                  <a:lnTo>
                    <a:pt x="3705" y="800"/>
                  </a:lnTo>
                  <a:lnTo>
                    <a:pt x="3408" y="967"/>
                  </a:lnTo>
                  <a:lnTo>
                    <a:pt x="3117" y="1149"/>
                  </a:lnTo>
                  <a:lnTo>
                    <a:pt x="2833" y="1347"/>
                  </a:lnTo>
                  <a:lnTo>
                    <a:pt x="2559" y="1560"/>
                  </a:lnTo>
                  <a:lnTo>
                    <a:pt x="2292" y="1790"/>
                  </a:lnTo>
                  <a:lnTo>
                    <a:pt x="2033" y="2035"/>
                  </a:lnTo>
                  <a:lnTo>
                    <a:pt x="1787" y="2294"/>
                  </a:lnTo>
                  <a:lnTo>
                    <a:pt x="1557" y="2563"/>
                  </a:lnTo>
                  <a:lnTo>
                    <a:pt x="1343" y="2840"/>
                  </a:lnTo>
                  <a:lnTo>
                    <a:pt x="1144" y="3125"/>
                  </a:lnTo>
                  <a:lnTo>
                    <a:pt x="961" y="3417"/>
                  </a:lnTo>
                  <a:lnTo>
                    <a:pt x="794" y="3717"/>
                  </a:lnTo>
                  <a:lnTo>
                    <a:pt x="643" y="4023"/>
                  </a:lnTo>
                  <a:lnTo>
                    <a:pt x="508" y="4334"/>
                  </a:lnTo>
                  <a:lnTo>
                    <a:pt x="388" y="4649"/>
                  </a:lnTo>
                  <a:lnTo>
                    <a:pt x="286" y="4969"/>
                  </a:lnTo>
                  <a:lnTo>
                    <a:pt x="197" y="5294"/>
                  </a:lnTo>
                  <a:lnTo>
                    <a:pt x="127" y="5622"/>
                  </a:lnTo>
                  <a:lnTo>
                    <a:pt x="71" y="5950"/>
                  </a:lnTo>
                  <a:lnTo>
                    <a:pt x="31" y="6282"/>
                  </a:lnTo>
                  <a:lnTo>
                    <a:pt x="8" y="6615"/>
                  </a:lnTo>
                  <a:lnTo>
                    <a:pt x="0" y="6948"/>
                  </a:lnTo>
                  <a:lnTo>
                    <a:pt x="8" y="7281"/>
                  </a:lnTo>
                  <a:lnTo>
                    <a:pt x="31" y="7614"/>
                  </a:lnTo>
                  <a:lnTo>
                    <a:pt x="71" y="7945"/>
                  </a:lnTo>
                  <a:lnTo>
                    <a:pt x="127" y="8275"/>
                  </a:lnTo>
                  <a:lnTo>
                    <a:pt x="197" y="8603"/>
                  </a:lnTo>
                  <a:lnTo>
                    <a:pt x="286" y="8926"/>
                  </a:lnTo>
                  <a:lnTo>
                    <a:pt x="388" y="9246"/>
                  </a:lnTo>
                  <a:lnTo>
                    <a:pt x="508" y="9563"/>
                  </a:lnTo>
                  <a:lnTo>
                    <a:pt x="643" y="9874"/>
                  </a:lnTo>
                  <a:lnTo>
                    <a:pt x="794" y="10179"/>
                  </a:lnTo>
                  <a:lnTo>
                    <a:pt x="961" y="10478"/>
                  </a:lnTo>
                  <a:lnTo>
                    <a:pt x="1144" y="10771"/>
                  </a:lnTo>
                  <a:lnTo>
                    <a:pt x="1343" y="11057"/>
                  </a:lnTo>
                  <a:lnTo>
                    <a:pt x="1557" y="11333"/>
                  </a:lnTo>
                  <a:lnTo>
                    <a:pt x="1787" y="11602"/>
                  </a:lnTo>
                  <a:lnTo>
                    <a:pt x="2033" y="11861"/>
                  </a:lnTo>
                  <a:lnTo>
                    <a:pt x="2292" y="12106"/>
                  </a:lnTo>
                  <a:lnTo>
                    <a:pt x="2560" y="12335"/>
                  </a:lnTo>
                  <a:lnTo>
                    <a:pt x="2835" y="12549"/>
                  </a:lnTo>
                  <a:lnTo>
                    <a:pt x="3119" y="12748"/>
                  </a:lnTo>
                  <a:lnTo>
                    <a:pt x="3410" y="12930"/>
                  </a:lnTo>
                  <a:lnTo>
                    <a:pt x="3708" y="13097"/>
                  </a:lnTo>
                  <a:lnTo>
                    <a:pt x="4013" y="13248"/>
                  </a:lnTo>
                  <a:lnTo>
                    <a:pt x="4322" y="13382"/>
                  </a:lnTo>
                  <a:lnTo>
                    <a:pt x="4636" y="13502"/>
                  </a:lnTo>
                  <a:lnTo>
                    <a:pt x="4955" y="13605"/>
                  </a:lnTo>
                  <a:lnTo>
                    <a:pt x="5278" y="13694"/>
                  </a:lnTo>
                  <a:lnTo>
                    <a:pt x="5604" y="13765"/>
                  </a:lnTo>
                  <a:lnTo>
                    <a:pt x="5931" y="13822"/>
                  </a:lnTo>
                  <a:lnTo>
                    <a:pt x="6261" y="13862"/>
                  </a:lnTo>
                  <a:lnTo>
                    <a:pt x="6592" y="13887"/>
                  </a:lnTo>
                  <a:lnTo>
                    <a:pt x="6924" y="13895"/>
                  </a:lnTo>
                  <a:lnTo>
                    <a:pt x="6915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764040" y="1574640"/>
              <a:ext cx="430560" cy="2054160"/>
            </a:xfrm>
            <a:custGeom>
              <a:avLst/>
              <a:gdLst/>
              <a:ahLst/>
              <a:rect l="l" t="t" r="r" b="b"/>
              <a:pathLst>
                <a:path w="4325" h="20641">
                  <a:moveTo>
                    <a:pt x="0" y="0"/>
                  </a:moveTo>
                  <a:lnTo>
                    <a:pt x="13" y="20641"/>
                  </a:lnTo>
                  <a:lnTo>
                    <a:pt x="129" y="20630"/>
                  </a:lnTo>
                  <a:lnTo>
                    <a:pt x="256" y="20598"/>
                  </a:lnTo>
                  <a:lnTo>
                    <a:pt x="392" y="20545"/>
                  </a:lnTo>
                  <a:lnTo>
                    <a:pt x="536" y="20471"/>
                  </a:lnTo>
                  <a:lnTo>
                    <a:pt x="688" y="20377"/>
                  </a:lnTo>
                  <a:lnTo>
                    <a:pt x="848" y="20261"/>
                  </a:lnTo>
                  <a:lnTo>
                    <a:pt x="1013" y="20124"/>
                  </a:lnTo>
                  <a:lnTo>
                    <a:pt x="1184" y="19967"/>
                  </a:lnTo>
                  <a:lnTo>
                    <a:pt x="1357" y="19790"/>
                  </a:lnTo>
                  <a:lnTo>
                    <a:pt x="1535" y="19591"/>
                  </a:lnTo>
                  <a:lnTo>
                    <a:pt x="1714" y="19374"/>
                  </a:lnTo>
                  <a:lnTo>
                    <a:pt x="1894" y="19135"/>
                  </a:lnTo>
                  <a:lnTo>
                    <a:pt x="2075" y="18877"/>
                  </a:lnTo>
                  <a:lnTo>
                    <a:pt x="2256" y="18598"/>
                  </a:lnTo>
                  <a:lnTo>
                    <a:pt x="2435" y="18300"/>
                  </a:lnTo>
                  <a:lnTo>
                    <a:pt x="2610" y="17983"/>
                  </a:lnTo>
                  <a:lnTo>
                    <a:pt x="2783" y="17646"/>
                  </a:lnTo>
                  <a:lnTo>
                    <a:pt x="2951" y="17289"/>
                  </a:lnTo>
                  <a:lnTo>
                    <a:pt x="3114" y="16913"/>
                  </a:lnTo>
                  <a:lnTo>
                    <a:pt x="3271" y="16518"/>
                  </a:lnTo>
                  <a:lnTo>
                    <a:pt x="3421" y="16104"/>
                  </a:lnTo>
                  <a:lnTo>
                    <a:pt x="3562" y="15671"/>
                  </a:lnTo>
                  <a:lnTo>
                    <a:pt x="3695" y="15218"/>
                  </a:lnTo>
                  <a:lnTo>
                    <a:pt x="3817" y="14747"/>
                  </a:lnTo>
                  <a:lnTo>
                    <a:pt x="3929" y="14259"/>
                  </a:lnTo>
                  <a:lnTo>
                    <a:pt x="4028" y="13750"/>
                  </a:lnTo>
                  <a:lnTo>
                    <a:pt x="4115" y="13224"/>
                  </a:lnTo>
                  <a:lnTo>
                    <a:pt x="4188" y="12680"/>
                  </a:lnTo>
                  <a:lnTo>
                    <a:pt x="4246" y="12117"/>
                  </a:lnTo>
                  <a:lnTo>
                    <a:pt x="4289" y="11536"/>
                  </a:lnTo>
                  <a:lnTo>
                    <a:pt x="4316" y="10936"/>
                  </a:lnTo>
                  <a:lnTo>
                    <a:pt x="4325" y="10320"/>
                  </a:lnTo>
                  <a:lnTo>
                    <a:pt x="4316" y="9701"/>
                  </a:lnTo>
                  <a:lnTo>
                    <a:pt x="4289" y="9099"/>
                  </a:lnTo>
                  <a:lnTo>
                    <a:pt x="4246" y="8517"/>
                  </a:lnTo>
                  <a:lnTo>
                    <a:pt x="4188" y="7953"/>
                  </a:lnTo>
                  <a:lnTo>
                    <a:pt x="4114" y="7407"/>
                  </a:lnTo>
                  <a:lnTo>
                    <a:pt x="4027" y="6879"/>
                  </a:lnTo>
                  <a:lnTo>
                    <a:pt x="3926" y="6371"/>
                  </a:lnTo>
                  <a:lnTo>
                    <a:pt x="3815" y="5881"/>
                  </a:lnTo>
                  <a:lnTo>
                    <a:pt x="3691" y="5410"/>
                  </a:lnTo>
                  <a:lnTo>
                    <a:pt x="3559" y="4957"/>
                  </a:lnTo>
                  <a:lnTo>
                    <a:pt x="3417" y="4524"/>
                  </a:lnTo>
                  <a:lnTo>
                    <a:pt x="3267" y="4110"/>
                  </a:lnTo>
                  <a:lnTo>
                    <a:pt x="3110" y="3715"/>
                  </a:lnTo>
                  <a:lnTo>
                    <a:pt x="2946" y="3340"/>
                  </a:lnTo>
                  <a:lnTo>
                    <a:pt x="2777" y="2984"/>
                  </a:lnTo>
                  <a:lnTo>
                    <a:pt x="2604" y="2647"/>
                  </a:lnTo>
                  <a:lnTo>
                    <a:pt x="2427" y="2330"/>
                  </a:lnTo>
                  <a:lnTo>
                    <a:pt x="2248" y="2034"/>
                  </a:lnTo>
                  <a:lnTo>
                    <a:pt x="2067" y="1757"/>
                  </a:lnTo>
                  <a:lnTo>
                    <a:pt x="1885" y="1498"/>
                  </a:lnTo>
                  <a:lnTo>
                    <a:pt x="1704" y="1261"/>
                  </a:lnTo>
                  <a:lnTo>
                    <a:pt x="1525" y="1044"/>
                  </a:lnTo>
                  <a:lnTo>
                    <a:pt x="1347" y="847"/>
                  </a:lnTo>
                  <a:lnTo>
                    <a:pt x="1173" y="670"/>
                  </a:lnTo>
                  <a:lnTo>
                    <a:pt x="1002" y="514"/>
                  </a:lnTo>
                  <a:lnTo>
                    <a:pt x="836" y="379"/>
                  </a:lnTo>
                  <a:lnTo>
                    <a:pt x="676" y="264"/>
                  </a:lnTo>
                  <a:lnTo>
                    <a:pt x="524" y="169"/>
                  </a:lnTo>
                  <a:lnTo>
                    <a:pt x="378" y="95"/>
                  </a:lnTo>
                  <a:lnTo>
                    <a:pt x="243" y="42"/>
                  </a:lnTo>
                  <a:lnTo>
                    <a:pt x="116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a5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764040" y="1574640"/>
              <a:ext cx="430560" cy="2054160"/>
            </a:xfrm>
            <a:custGeom>
              <a:avLst/>
              <a:gdLst/>
              <a:ahLst/>
              <a:rect l="l" t="t" r="r" b="b"/>
              <a:pathLst>
                <a:path w="4325" h="20641">
                  <a:moveTo>
                    <a:pt x="0" y="0"/>
                  </a:moveTo>
                  <a:lnTo>
                    <a:pt x="13" y="20641"/>
                  </a:lnTo>
                  <a:lnTo>
                    <a:pt x="129" y="20630"/>
                  </a:lnTo>
                  <a:lnTo>
                    <a:pt x="256" y="20598"/>
                  </a:lnTo>
                  <a:lnTo>
                    <a:pt x="392" y="20545"/>
                  </a:lnTo>
                  <a:lnTo>
                    <a:pt x="536" y="20471"/>
                  </a:lnTo>
                  <a:lnTo>
                    <a:pt x="688" y="20377"/>
                  </a:lnTo>
                  <a:lnTo>
                    <a:pt x="848" y="20261"/>
                  </a:lnTo>
                  <a:lnTo>
                    <a:pt x="1013" y="20124"/>
                  </a:lnTo>
                  <a:lnTo>
                    <a:pt x="1184" y="19967"/>
                  </a:lnTo>
                  <a:lnTo>
                    <a:pt x="1357" y="19790"/>
                  </a:lnTo>
                  <a:lnTo>
                    <a:pt x="1535" y="19591"/>
                  </a:lnTo>
                  <a:lnTo>
                    <a:pt x="1714" y="19374"/>
                  </a:lnTo>
                  <a:lnTo>
                    <a:pt x="1894" y="19135"/>
                  </a:lnTo>
                  <a:lnTo>
                    <a:pt x="2075" y="18877"/>
                  </a:lnTo>
                  <a:lnTo>
                    <a:pt x="2256" y="18598"/>
                  </a:lnTo>
                  <a:lnTo>
                    <a:pt x="2435" y="18300"/>
                  </a:lnTo>
                  <a:lnTo>
                    <a:pt x="2610" y="17983"/>
                  </a:lnTo>
                  <a:lnTo>
                    <a:pt x="2783" y="17646"/>
                  </a:lnTo>
                  <a:lnTo>
                    <a:pt x="2951" y="17289"/>
                  </a:lnTo>
                  <a:lnTo>
                    <a:pt x="3114" y="16913"/>
                  </a:lnTo>
                  <a:lnTo>
                    <a:pt x="3271" y="16518"/>
                  </a:lnTo>
                  <a:lnTo>
                    <a:pt x="3421" y="16104"/>
                  </a:lnTo>
                  <a:lnTo>
                    <a:pt x="3562" y="15671"/>
                  </a:lnTo>
                  <a:lnTo>
                    <a:pt x="3695" y="15218"/>
                  </a:lnTo>
                  <a:lnTo>
                    <a:pt x="3817" y="14747"/>
                  </a:lnTo>
                  <a:lnTo>
                    <a:pt x="3929" y="14259"/>
                  </a:lnTo>
                  <a:lnTo>
                    <a:pt x="4028" y="13750"/>
                  </a:lnTo>
                  <a:lnTo>
                    <a:pt x="4115" y="13224"/>
                  </a:lnTo>
                  <a:lnTo>
                    <a:pt x="4188" y="12680"/>
                  </a:lnTo>
                  <a:lnTo>
                    <a:pt x="4246" y="12117"/>
                  </a:lnTo>
                  <a:lnTo>
                    <a:pt x="4289" y="11536"/>
                  </a:lnTo>
                  <a:lnTo>
                    <a:pt x="4316" y="10936"/>
                  </a:lnTo>
                  <a:lnTo>
                    <a:pt x="4325" y="10320"/>
                  </a:lnTo>
                  <a:lnTo>
                    <a:pt x="4316" y="9701"/>
                  </a:lnTo>
                  <a:lnTo>
                    <a:pt x="4289" y="9099"/>
                  </a:lnTo>
                  <a:lnTo>
                    <a:pt x="4246" y="8517"/>
                  </a:lnTo>
                  <a:lnTo>
                    <a:pt x="4188" y="7953"/>
                  </a:lnTo>
                  <a:lnTo>
                    <a:pt x="4114" y="7407"/>
                  </a:lnTo>
                  <a:lnTo>
                    <a:pt x="4027" y="6879"/>
                  </a:lnTo>
                  <a:lnTo>
                    <a:pt x="3926" y="6371"/>
                  </a:lnTo>
                  <a:lnTo>
                    <a:pt x="3815" y="5881"/>
                  </a:lnTo>
                  <a:lnTo>
                    <a:pt x="3691" y="5410"/>
                  </a:lnTo>
                  <a:lnTo>
                    <a:pt x="3559" y="4957"/>
                  </a:lnTo>
                  <a:lnTo>
                    <a:pt x="3417" y="4524"/>
                  </a:lnTo>
                  <a:lnTo>
                    <a:pt x="3267" y="4110"/>
                  </a:lnTo>
                  <a:lnTo>
                    <a:pt x="3110" y="3715"/>
                  </a:lnTo>
                  <a:lnTo>
                    <a:pt x="2946" y="3340"/>
                  </a:lnTo>
                  <a:lnTo>
                    <a:pt x="2777" y="2984"/>
                  </a:lnTo>
                  <a:lnTo>
                    <a:pt x="2604" y="2647"/>
                  </a:lnTo>
                  <a:lnTo>
                    <a:pt x="2427" y="2330"/>
                  </a:lnTo>
                  <a:lnTo>
                    <a:pt x="2248" y="2034"/>
                  </a:lnTo>
                  <a:lnTo>
                    <a:pt x="2067" y="1757"/>
                  </a:lnTo>
                  <a:lnTo>
                    <a:pt x="1885" y="1498"/>
                  </a:lnTo>
                  <a:lnTo>
                    <a:pt x="1704" y="1261"/>
                  </a:lnTo>
                  <a:lnTo>
                    <a:pt x="1525" y="1044"/>
                  </a:lnTo>
                  <a:lnTo>
                    <a:pt x="1347" y="847"/>
                  </a:lnTo>
                  <a:lnTo>
                    <a:pt x="1173" y="670"/>
                  </a:lnTo>
                  <a:lnTo>
                    <a:pt x="1002" y="514"/>
                  </a:lnTo>
                  <a:lnTo>
                    <a:pt x="836" y="379"/>
                  </a:lnTo>
                  <a:lnTo>
                    <a:pt x="676" y="264"/>
                  </a:lnTo>
                  <a:lnTo>
                    <a:pt x="524" y="169"/>
                  </a:lnTo>
                  <a:lnTo>
                    <a:pt x="378" y="95"/>
                  </a:lnTo>
                  <a:lnTo>
                    <a:pt x="243" y="42"/>
                  </a:lnTo>
                  <a:lnTo>
                    <a:pt x="116" y="11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764040" y="1910520"/>
              <a:ext cx="289800" cy="1382040"/>
            </a:xfrm>
            <a:custGeom>
              <a:avLst/>
              <a:gdLst/>
              <a:ahLst/>
              <a:rect l="l" t="t" r="r" b="b"/>
              <a:pathLst>
                <a:path w="2911" h="13895">
                  <a:moveTo>
                    <a:pt x="0" y="0"/>
                  </a:moveTo>
                  <a:lnTo>
                    <a:pt x="8" y="13895"/>
                  </a:lnTo>
                  <a:lnTo>
                    <a:pt x="86" y="13889"/>
                  </a:lnTo>
                  <a:lnTo>
                    <a:pt x="171" y="13867"/>
                  </a:lnTo>
                  <a:lnTo>
                    <a:pt x="262" y="13831"/>
                  </a:lnTo>
                  <a:lnTo>
                    <a:pt x="360" y="13782"/>
                  </a:lnTo>
                  <a:lnTo>
                    <a:pt x="463" y="13718"/>
                  </a:lnTo>
                  <a:lnTo>
                    <a:pt x="570" y="13639"/>
                  </a:lnTo>
                  <a:lnTo>
                    <a:pt x="681" y="13548"/>
                  </a:lnTo>
                  <a:lnTo>
                    <a:pt x="796" y="13442"/>
                  </a:lnTo>
                  <a:lnTo>
                    <a:pt x="913" y="13322"/>
                  </a:lnTo>
                  <a:lnTo>
                    <a:pt x="1032" y="13189"/>
                  </a:lnTo>
                  <a:lnTo>
                    <a:pt x="1153" y="13043"/>
                  </a:lnTo>
                  <a:lnTo>
                    <a:pt x="1275" y="12881"/>
                  </a:lnTo>
                  <a:lnTo>
                    <a:pt x="1396" y="12708"/>
                  </a:lnTo>
                  <a:lnTo>
                    <a:pt x="1518" y="12521"/>
                  </a:lnTo>
                  <a:lnTo>
                    <a:pt x="1638" y="12320"/>
                  </a:lnTo>
                  <a:lnTo>
                    <a:pt x="1756" y="12106"/>
                  </a:lnTo>
                  <a:lnTo>
                    <a:pt x="1873" y="11879"/>
                  </a:lnTo>
                  <a:lnTo>
                    <a:pt x="1986" y="11639"/>
                  </a:lnTo>
                  <a:lnTo>
                    <a:pt x="2096" y="11385"/>
                  </a:lnTo>
                  <a:lnTo>
                    <a:pt x="2201" y="11119"/>
                  </a:lnTo>
                  <a:lnTo>
                    <a:pt x="2302" y="10841"/>
                  </a:lnTo>
                  <a:lnTo>
                    <a:pt x="2397" y="10549"/>
                  </a:lnTo>
                  <a:lnTo>
                    <a:pt x="2486" y="10245"/>
                  </a:lnTo>
                  <a:lnTo>
                    <a:pt x="2568" y="9928"/>
                  </a:lnTo>
                  <a:lnTo>
                    <a:pt x="2644" y="9598"/>
                  </a:lnTo>
                  <a:lnTo>
                    <a:pt x="2710" y="9256"/>
                  </a:lnTo>
                  <a:lnTo>
                    <a:pt x="2769" y="8902"/>
                  </a:lnTo>
                  <a:lnTo>
                    <a:pt x="2819" y="8535"/>
                  </a:lnTo>
                  <a:lnTo>
                    <a:pt x="2858" y="8157"/>
                  </a:lnTo>
                  <a:lnTo>
                    <a:pt x="2887" y="7765"/>
                  </a:lnTo>
                  <a:lnTo>
                    <a:pt x="2905" y="7363"/>
                  </a:lnTo>
                  <a:lnTo>
                    <a:pt x="2911" y="6947"/>
                  </a:lnTo>
                  <a:lnTo>
                    <a:pt x="2905" y="6531"/>
                  </a:lnTo>
                  <a:lnTo>
                    <a:pt x="2887" y="6126"/>
                  </a:lnTo>
                  <a:lnTo>
                    <a:pt x="2858" y="5733"/>
                  </a:lnTo>
                  <a:lnTo>
                    <a:pt x="2819" y="5353"/>
                  </a:lnTo>
                  <a:lnTo>
                    <a:pt x="2769" y="4986"/>
                  </a:lnTo>
                  <a:lnTo>
                    <a:pt x="2710" y="4631"/>
                  </a:lnTo>
                  <a:lnTo>
                    <a:pt x="2643" y="4289"/>
                  </a:lnTo>
                  <a:lnTo>
                    <a:pt x="2567" y="3959"/>
                  </a:lnTo>
                  <a:lnTo>
                    <a:pt x="2484" y="3641"/>
                  </a:lnTo>
                  <a:lnTo>
                    <a:pt x="2395" y="3337"/>
                  </a:lnTo>
                  <a:lnTo>
                    <a:pt x="2299" y="3045"/>
                  </a:lnTo>
                  <a:lnTo>
                    <a:pt x="2198" y="2766"/>
                  </a:lnTo>
                  <a:lnTo>
                    <a:pt x="2093" y="2500"/>
                  </a:lnTo>
                  <a:lnTo>
                    <a:pt x="1982" y="2248"/>
                  </a:lnTo>
                  <a:lnTo>
                    <a:pt x="1869" y="2008"/>
                  </a:lnTo>
                  <a:lnTo>
                    <a:pt x="1752" y="1782"/>
                  </a:lnTo>
                  <a:lnTo>
                    <a:pt x="1634" y="1568"/>
                  </a:lnTo>
                  <a:lnTo>
                    <a:pt x="1512" y="1368"/>
                  </a:lnTo>
                  <a:lnTo>
                    <a:pt x="1391" y="1182"/>
                  </a:lnTo>
                  <a:lnTo>
                    <a:pt x="1268" y="1008"/>
                  </a:lnTo>
                  <a:lnTo>
                    <a:pt x="1147" y="848"/>
                  </a:lnTo>
                  <a:lnTo>
                    <a:pt x="1026" y="703"/>
                  </a:lnTo>
                  <a:lnTo>
                    <a:pt x="905" y="569"/>
                  </a:lnTo>
                  <a:lnTo>
                    <a:pt x="788" y="451"/>
                  </a:lnTo>
                  <a:lnTo>
                    <a:pt x="674" y="345"/>
                  </a:lnTo>
                  <a:lnTo>
                    <a:pt x="562" y="254"/>
                  </a:lnTo>
                  <a:lnTo>
                    <a:pt x="454" y="177"/>
                  </a:lnTo>
                  <a:lnTo>
                    <a:pt x="352" y="114"/>
                  </a:lnTo>
                  <a:lnTo>
                    <a:pt x="254" y="64"/>
                  </a:lnTo>
                  <a:lnTo>
                    <a:pt x="162" y="28"/>
                  </a:lnTo>
                  <a:lnTo>
                    <a:pt x="7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764040" y="1910520"/>
              <a:ext cx="289800" cy="1382040"/>
            </a:xfrm>
            <a:custGeom>
              <a:avLst/>
              <a:gdLst/>
              <a:ahLst/>
              <a:rect l="l" t="t" r="r" b="b"/>
              <a:pathLst>
                <a:path w="2911" h="13895">
                  <a:moveTo>
                    <a:pt x="0" y="0"/>
                  </a:moveTo>
                  <a:lnTo>
                    <a:pt x="8" y="13895"/>
                  </a:lnTo>
                  <a:lnTo>
                    <a:pt x="86" y="13889"/>
                  </a:lnTo>
                  <a:lnTo>
                    <a:pt x="171" y="13867"/>
                  </a:lnTo>
                  <a:lnTo>
                    <a:pt x="262" y="13831"/>
                  </a:lnTo>
                  <a:lnTo>
                    <a:pt x="360" y="13782"/>
                  </a:lnTo>
                  <a:lnTo>
                    <a:pt x="463" y="13718"/>
                  </a:lnTo>
                  <a:lnTo>
                    <a:pt x="570" y="13639"/>
                  </a:lnTo>
                  <a:lnTo>
                    <a:pt x="681" y="13548"/>
                  </a:lnTo>
                  <a:lnTo>
                    <a:pt x="796" y="13442"/>
                  </a:lnTo>
                  <a:lnTo>
                    <a:pt x="913" y="13322"/>
                  </a:lnTo>
                  <a:lnTo>
                    <a:pt x="1032" y="13189"/>
                  </a:lnTo>
                  <a:lnTo>
                    <a:pt x="1153" y="13043"/>
                  </a:lnTo>
                  <a:lnTo>
                    <a:pt x="1275" y="12881"/>
                  </a:lnTo>
                  <a:lnTo>
                    <a:pt x="1396" y="12708"/>
                  </a:lnTo>
                  <a:lnTo>
                    <a:pt x="1518" y="12521"/>
                  </a:lnTo>
                  <a:lnTo>
                    <a:pt x="1638" y="12320"/>
                  </a:lnTo>
                  <a:lnTo>
                    <a:pt x="1756" y="12106"/>
                  </a:lnTo>
                  <a:lnTo>
                    <a:pt x="1873" y="11879"/>
                  </a:lnTo>
                  <a:lnTo>
                    <a:pt x="1986" y="11639"/>
                  </a:lnTo>
                  <a:lnTo>
                    <a:pt x="2096" y="11385"/>
                  </a:lnTo>
                  <a:lnTo>
                    <a:pt x="2201" y="11119"/>
                  </a:lnTo>
                  <a:lnTo>
                    <a:pt x="2302" y="10841"/>
                  </a:lnTo>
                  <a:lnTo>
                    <a:pt x="2397" y="10549"/>
                  </a:lnTo>
                  <a:lnTo>
                    <a:pt x="2486" y="10245"/>
                  </a:lnTo>
                  <a:lnTo>
                    <a:pt x="2568" y="9928"/>
                  </a:lnTo>
                  <a:lnTo>
                    <a:pt x="2644" y="9598"/>
                  </a:lnTo>
                  <a:lnTo>
                    <a:pt x="2710" y="9256"/>
                  </a:lnTo>
                  <a:lnTo>
                    <a:pt x="2769" y="8902"/>
                  </a:lnTo>
                  <a:lnTo>
                    <a:pt x="2819" y="8535"/>
                  </a:lnTo>
                  <a:lnTo>
                    <a:pt x="2858" y="8157"/>
                  </a:lnTo>
                  <a:lnTo>
                    <a:pt x="2887" y="7765"/>
                  </a:lnTo>
                  <a:lnTo>
                    <a:pt x="2905" y="7363"/>
                  </a:lnTo>
                  <a:lnTo>
                    <a:pt x="2911" y="6947"/>
                  </a:lnTo>
                  <a:lnTo>
                    <a:pt x="2905" y="6531"/>
                  </a:lnTo>
                  <a:lnTo>
                    <a:pt x="2887" y="6126"/>
                  </a:lnTo>
                  <a:lnTo>
                    <a:pt x="2858" y="5733"/>
                  </a:lnTo>
                  <a:lnTo>
                    <a:pt x="2819" y="5353"/>
                  </a:lnTo>
                  <a:lnTo>
                    <a:pt x="2769" y="4986"/>
                  </a:lnTo>
                  <a:lnTo>
                    <a:pt x="2710" y="4631"/>
                  </a:lnTo>
                  <a:lnTo>
                    <a:pt x="2643" y="4289"/>
                  </a:lnTo>
                  <a:lnTo>
                    <a:pt x="2567" y="3959"/>
                  </a:lnTo>
                  <a:lnTo>
                    <a:pt x="2484" y="3641"/>
                  </a:lnTo>
                  <a:lnTo>
                    <a:pt x="2395" y="3337"/>
                  </a:lnTo>
                  <a:lnTo>
                    <a:pt x="2299" y="3045"/>
                  </a:lnTo>
                  <a:lnTo>
                    <a:pt x="2198" y="2766"/>
                  </a:lnTo>
                  <a:lnTo>
                    <a:pt x="2093" y="2500"/>
                  </a:lnTo>
                  <a:lnTo>
                    <a:pt x="1982" y="2248"/>
                  </a:lnTo>
                  <a:lnTo>
                    <a:pt x="1869" y="2008"/>
                  </a:lnTo>
                  <a:lnTo>
                    <a:pt x="1752" y="1782"/>
                  </a:lnTo>
                  <a:lnTo>
                    <a:pt x="1634" y="1568"/>
                  </a:lnTo>
                  <a:lnTo>
                    <a:pt x="1512" y="1368"/>
                  </a:lnTo>
                  <a:lnTo>
                    <a:pt x="1391" y="1182"/>
                  </a:lnTo>
                  <a:lnTo>
                    <a:pt x="1268" y="1008"/>
                  </a:lnTo>
                  <a:lnTo>
                    <a:pt x="1147" y="848"/>
                  </a:lnTo>
                  <a:lnTo>
                    <a:pt x="1026" y="703"/>
                  </a:lnTo>
                  <a:lnTo>
                    <a:pt x="905" y="569"/>
                  </a:lnTo>
                  <a:lnTo>
                    <a:pt x="788" y="451"/>
                  </a:lnTo>
                  <a:lnTo>
                    <a:pt x="674" y="345"/>
                  </a:lnTo>
                  <a:lnTo>
                    <a:pt x="562" y="254"/>
                  </a:lnTo>
                  <a:lnTo>
                    <a:pt x="454" y="177"/>
                  </a:lnTo>
                  <a:lnTo>
                    <a:pt x="352" y="114"/>
                  </a:lnTo>
                  <a:lnTo>
                    <a:pt x="254" y="64"/>
                  </a:lnTo>
                  <a:lnTo>
                    <a:pt x="162" y="28"/>
                  </a:lnTo>
                  <a:lnTo>
                    <a:pt x="77" y="7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499800" y="2301480"/>
              <a:ext cx="390240" cy="600120"/>
            </a:xfrm>
            <a:custGeom>
              <a:avLst/>
              <a:gdLst/>
              <a:ahLst/>
              <a:rect l="l" t="t" r="r" b="b"/>
              <a:pathLst>
                <a:path w="3916" h="6037">
                  <a:moveTo>
                    <a:pt x="2653" y="6037"/>
                  </a:moveTo>
                  <a:lnTo>
                    <a:pt x="2364" y="6024"/>
                  </a:lnTo>
                  <a:lnTo>
                    <a:pt x="2080" y="5985"/>
                  </a:lnTo>
                  <a:lnTo>
                    <a:pt x="1799" y="5917"/>
                  </a:lnTo>
                  <a:lnTo>
                    <a:pt x="1527" y="5823"/>
                  </a:lnTo>
                  <a:lnTo>
                    <a:pt x="1263" y="5703"/>
                  </a:lnTo>
                  <a:lnTo>
                    <a:pt x="1010" y="5553"/>
                  </a:lnTo>
                  <a:lnTo>
                    <a:pt x="768" y="5375"/>
                  </a:lnTo>
                  <a:lnTo>
                    <a:pt x="538" y="5169"/>
                  </a:lnTo>
                  <a:lnTo>
                    <a:pt x="330" y="4937"/>
                  </a:lnTo>
                  <a:lnTo>
                    <a:pt x="282" y="4877"/>
                  </a:lnTo>
                  <a:lnTo>
                    <a:pt x="343" y="4920"/>
                  </a:lnTo>
                  <a:lnTo>
                    <a:pt x="478" y="5006"/>
                  </a:lnTo>
                  <a:lnTo>
                    <a:pt x="619" y="5081"/>
                  </a:lnTo>
                  <a:lnTo>
                    <a:pt x="765" y="5146"/>
                  </a:lnTo>
                  <a:lnTo>
                    <a:pt x="915" y="5199"/>
                  </a:lnTo>
                  <a:lnTo>
                    <a:pt x="1068" y="5241"/>
                  </a:lnTo>
                  <a:lnTo>
                    <a:pt x="1226" y="5270"/>
                  </a:lnTo>
                  <a:lnTo>
                    <a:pt x="1385" y="5286"/>
                  </a:lnTo>
                  <a:lnTo>
                    <a:pt x="1547" y="5288"/>
                  </a:lnTo>
                  <a:lnTo>
                    <a:pt x="1762" y="5282"/>
                  </a:lnTo>
                  <a:lnTo>
                    <a:pt x="1973" y="5252"/>
                  </a:lnTo>
                  <a:lnTo>
                    <a:pt x="2179" y="5199"/>
                  </a:lnTo>
                  <a:lnTo>
                    <a:pt x="2378" y="5125"/>
                  </a:lnTo>
                  <a:lnTo>
                    <a:pt x="2568" y="5031"/>
                  </a:lnTo>
                  <a:lnTo>
                    <a:pt x="2751" y="4920"/>
                  </a:lnTo>
                  <a:lnTo>
                    <a:pt x="2920" y="4792"/>
                  </a:lnTo>
                  <a:lnTo>
                    <a:pt x="3078" y="4647"/>
                  </a:lnTo>
                  <a:lnTo>
                    <a:pt x="3223" y="4489"/>
                  </a:lnTo>
                  <a:lnTo>
                    <a:pt x="3352" y="4318"/>
                  </a:lnTo>
                  <a:lnTo>
                    <a:pt x="3463" y="4138"/>
                  </a:lnTo>
                  <a:lnTo>
                    <a:pt x="3557" y="3947"/>
                  </a:lnTo>
                  <a:lnTo>
                    <a:pt x="3631" y="3747"/>
                  </a:lnTo>
                  <a:lnTo>
                    <a:pt x="3683" y="3542"/>
                  </a:lnTo>
                  <a:lnTo>
                    <a:pt x="3714" y="3330"/>
                  </a:lnTo>
                  <a:lnTo>
                    <a:pt x="3719" y="3115"/>
                  </a:lnTo>
                  <a:lnTo>
                    <a:pt x="3714" y="2900"/>
                  </a:lnTo>
                  <a:lnTo>
                    <a:pt x="3683" y="2689"/>
                  </a:lnTo>
                  <a:lnTo>
                    <a:pt x="3631" y="2483"/>
                  </a:lnTo>
                  <a:lnTo>
                    <a:pt x="3557" y="2284"/>
                  </a:lnTo>
                  <a:lnTo>
                    <a:pt x="3463" y="2093"/>
                  </a:lnTo>
                  <a:lnTo>
                    <a:pt x="3352" y="1911"/>
                  </a:lnTo>
                  <a:lnTo>
                    <a:pt x="3223" y="1741"/>
                  </a:lnTo>
                  <a:lnTo>
                    <a:pt x="3078" y="1582"/>
                  </a:lnTo>
                  <a:lnTo>
                    <a:pt x="2920" y="1439"/>
                  </a:lnTo>
                  <a:lnTo>
                    <a:pt x="2751" y="1310"/>
                  </a:lnTo>
                  <a:lnTo>
                    <a:pt x="2568" y="1198"/>
                  </a:lnTo>
                  <a:lnTo>
                    <a:pt x="2378" y="1104"/>
                  </a:lnTo>
                  <a:lnTo>
                    <a:pt x="2179" y="1031"/>
                  </a:lnTo>
                  <a:lnTo>
                    <a:pt x="1973" y="978"/>
                  </a:lnTo>
                  <a:lnTo>
                    <a:pt x="1762" y="948"/>
                  </a:lnTo>
                  <a:lnTo>
                    <a:pt x="1547" y="942"/>
                  </a:lnTo>
                  <a:lnTo>
                    <a:pt x="1332" y="948"/>
                  </a:lnTo>
                  <a:lnTo>
                    <a:pt x="1120" y="978"/>
                  </a:lnTo>
                  <a:lnTo>
                    <a:pt x="915" y="1031"/>
                  </a:lnTo>
                  <a:lnTo>
                    <a:pt x="715" y="1104"/>
                  </a:lnTo>
                  <a:lnTo>
                    <a:pt x="524" y="1198"/>
                  </a:lnTo>
                  <a:lnTo>
                    <a:pt x="343" y="1310"/>
                  </a:lnTo>
                  <a:lnTo>
                    <a:pt x="172" y="1439"/>
                  </a:lnTo>
                  <a:lnTo>
                    <a:pt x="14" y="1582"/>
                  </a:lnTo>
                  <a:lnTo>
                    <a:pt x="0" y="1598"/>
                  </a:lnTo>
                  <a:lnTo>
                    <a:pt x="69" y="1474"/>
                  </a:lnTo>
                  <a:lnTo>
                    <a:pt x="170" y="1314"/>
                  </a:lnTo>
                  <a:lnTo>
                    <a:pt x="282" y="1160"/>
                  </a:lnTo>
                  <a:lnTo>
                    <a:pt x="405" y="1012"/>
                  </a:lnTo>
                  <a:lnTo>
                    <a:pt x="538" y="868"/>
                  </a:lnTo>
                  <a:lnTo>
                    <a:pt x="767" y="662"/>
                  </a:lnTo>
                  <a:lnTo>
                    <a:pt x="1008" y="484"/>
                  </a:lnTo>
                  <a:lnTo>
                    <a:pt x="1262" y="335"/>
                  </a:lnTo>
                  <a:lnTo>
                    <a:pt x="1526" y="214"/>
                  </a:lnTo>
                  <a:lnTo>
                    <a:pt x="1797" y="120"/>
                  </a:lnTo>
                  <a:lnTo>
                    <a:pt x="2076" y="54"/>
                  </a:lnTo>
                  <a:lnTo>
                    <a:pt x="2361" y="13"/>
                  </a:lnTo>
                  <a:lnTo>
                    <a:pt x="2650" y="0"/>
                  </a:lnTo>
                  <a:lnTo>
                    <a:pt x="2721" y="12"/>
                  </a:lnTo>
                  <a:lnTo>
                    <a:pt x="2803" y="49"/>
                  </a:lnTo>
                  <a:lnTo>
                    <a:pt x="2894" y="110"/>
                  </a:lnTo>
                  <a:lnTo>
                    <a:pt x="2993" y="195"/>
                  </a:lnTo>
                  <a:lnTo>
                    <a:pt x="3096" y="305"/>
                  </a:lnTo>
                  <a:lnTo>
                    <a:pt x="3202" y="438"/>
                  </a:lnTo>
                  <a:lnTo>
                    <a:pt x="3308" y="595"/>
                  </a:lnTo>
                  <a:lnTo>
                    <a:pt x="3411" y="773"/>
                  </a:lnTo>
                  <a:lnTo>
                    <a:pt x="3512" y="976"/>
                  </a:lnTo>
                  <a:lnTo>
                    <a:pt x="3606" y="1202"/>
                  </a:lnTo>
                  <a:lnTo>
                    <a:pt x="3691" y="1450"/>
                  </a:lnTo>
                  <a:lnTo>
                    <a:pt x="3766" y="1720"/>
                  </a:lnTo>
                  <a:lnTo>
                    <a:pt x="3827" y="2012"/>
                  </a:lnTo>
                  <a:lnTo>
                    <a:pt x="3875" y="2326"/>
                  </a:lnTo>
                  <a:lnTo>
                    <a:pt x="3905" y="2661"/>
                  </a:lnTo>
                  <a:lnTo>
                    <a:pt x="3916" y="3019"/>
                  </a:lnTo>
                  <a:lnTo>
                    <a:pt x="3905" y="3374"/>
                  </a:lnTo>
                  <a:lnTo>
                    <a:pt x="3875" y="3708"/>
                  </a:lnTo>
                  <a:lnTo>
                    <a:pt x="3828" y="4022"/>
                  </a:lnTo>
                  <a:lnTo>
                    <a:pt x="3767" y="4314"/>
                  </a:lnTo>
                  <a:lnTo>
                    <a:pt x="3692" y="4583"/>
                  </a:lnTo>
                  <a:lnTo>
                    <a:pt x="3607" y="4832"/>
                  </a:lnTo>
                  <a:lnTo>
                    <a:pt x="3513" y="5058"/>
                  </a:lnTo>
                  <a:lnTo>
                    <a:pt x="3414" y="5260"/>
                  </a:lnTo>
                  <a:lnTo>
                    <a:pt x="3310" y="5441"/>
                  </a:lnTo>
                  <a:lnTo>
                    <a:pt x="3204" y="5597"/>
                  </a:lnTo>
                  <a:lnTo>
                    <a:pt x="3099" y="5731"/>
                  </a:lnTo>
                  <a:lnTo>
                    <a:pt x="2997" y="5840"/>
                  </a:lnTo>
                  <a:lnTo>
                    <a:pt x="2898" y="5926"/>
                  </a:lnTo>
                  <a:lnTo>
                    <a:pt x="2807" y="5988"/>
                  </a:lnTo>
                  <a:lnTo>
                    <a:pt x="2724" y="6025"/>
                  </a:lnTo>
                  <a:lnTo>
                    <a:pt x="2653" y="6037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464880" y="2390760"/>
              <a:ext cx="409320" cy="439920"/>
            </a:xfrm>
            <a:custGeom>
              <a:avLst/>
              <a:gdLst/>
              <a:ahLst/>
              <a:rect l="l" t="t" r="r" b="b"/>
              <a:pathLst>
                <a:path w="4110" h="4424">
                  <a:moveTo>
                    <a:pt x="1787" y="4424"/>
                  </a:moveTo>
                  <a:lnTo>
                    <a:pt x="1787" y="4424"/>
                  </a:lnTo>
                  <a:lnTo>
                    <a:pt x="1517" y="4397"/>
                  </a:lnTo>
                  <a:lnTo>
                    <a:pt x="1255" y="4333"/>
                  </a:lnTo>
                  <a:lnTo>
                    <a:pt x="1002" y="4236"/>
                  </a:lnTo>
                  <a:lnTo>
                    <a:pt x="764" y="4108"/>
                  </a:lnTo>
                  <a:lnTo>
                    <a:pt x="721" y="4081"/>
                  </a:lnTo>
                  <a:lnTo>
                    <a:pt x="681" y="4034"/>
                  </a:lnTo>
                  <a:lnTo>
                    <a:pt x="543" y="3851"/>
                  </a:lnTo>
                  <a:lnTo>
                    <a:pt x="420" y="3660"/>
                  </a:lnTo>
                  <a:lnTo>
                    <a:pt x="313" y="3463"/>
                  </a:lnTo>
                  <a:lnTo>
                    <a:pt x="222" y="3260"/>
                  </a:lnTo>
                  <a:lnTo>
                    <a:pt x="146" y="3051"/>
                  </a:lnTo>
                  <a:lnTo>
                    <a:pt x="86" y="2840"/>
                  </a:lnTo>
                  <a:lnTo>
                    <a:pt x="42" y="2624"/>
                  </a:lnTo>
                  <a:lnTo>
                    <a:pt x="13" y="2407"/>
                  </a:lnTo>
                  <a:lnTo>
                    <a:pt x="0" y="2189"/>
                  </a:lnTo>
                  <a:lnTo>
                    <a:pt x="2" y="1970"/>
                  </a:lnTo>
                  <a:lnTo>
                    <a:pt x="21" y="1752"/>
                  </a:lnTo>
                  <a:lnTo>
                    <a:pt x="55" y="1535"/>
                  </a:lnTo>
                  <a:lnTo>
                    <a:pt x="105" y="1321"/>
                  </a:lnTo>
                  <a:lnTo>
                    <a:pt x="170" y="1109"/>
                  </a:lnTo>
                  <a:lnTo>
                    <a:pt x="251" y="903"/>
                  </a:lnTo>
                  <a:lnTo>
                    <a:pt x="348" y="701"/>
                  </a:lnTo>
                  <a:lnTo>
                    <a:pt x="417" y="577"/>
                  </a:lnTo>
                  <a:lnTo>
                    <a:pt x="499" y="506"/>
                  </a:lnTo>
                  <a:lnTo>
                    <a:pt x="650" y="390"/>
                  </a:lnTo>
                  <a:lnTo>
                    <a:pt x="810" y="288"/>
                  </a:lnTo>
                  <a:lnTo>
                    <a:pt x="978" y="199"/>
                  </a:lnTo>
                  <a:lnTo>
                    <a:pt x="1152" y="125"/>
                  </a:lnTo>
                  <a:lnTo>
                    <a:pt x="1332" y="68"/>
                  </a:lnTo>
                  <a:lnTo>
                    <a:pt x="1517" y="27"/>
                  </a:lnTo>
                  <a:lnTo>
                    <a:pt x="1706" y="4"/>
                  </a:lnTo>
                  <a:lnTo>
                    <a:pt x="1898" y="0"/>
                  </a:lnTo>
                  <a:lnTo>
                    <a:pt x="2116" y="6"/>
                  </a:lnTo>
                  <a:lnTo>
                    <a:pt x="2331" y="37"/>
                  </a:lnTo>
                  <a:lnTo>
                    <a:pt x="2541" y="90"/>
                  </a:lnTo>
                  <a:lnTo>
                    <a:pt x="2744" y="166"/>
                  </a:lnTo>
                  <a:lnTo>
                    <a:pt x="2938" y="261"/>
                  </a:lnTo>
                  <a:lnTo>
                    <a:pt x="3122" y="375"/>
                  </a:lnTo>
                  <a:lnTo>
                    <a:pt x="3297" y="506"/>
                  </a:lnTo>
                  <a:lnTo>
                    <a:pt x="3457" y="653"/>
                  </a:lnTo>
                  <a:lnTo>
                    <a:pt x="3604" y="813"/>
                  </a:lnTo>
                  <a:lnTo>
                    <a:pt x="3735" y="987"/>
                  </a:lnTo>
                  <a:lnTo>
                    <a:pt x="3848" y="1171"/>
                  </a:lnTo>
                  <a:lnTo>
                    <a:pt x="3943" y="1365"/>
                  </a:lnTo>
                  <a:lnTo>
                    <a:pt x="4018" y="1568"/>
                  </a:lnTo>
                  <a:lnTo>
                    <a:pt x="4072" y="1778"/>
                  </a:lnTo>
                  <a:lnTo>
                    <a:pt x="4103" y="1993"/>
                  </a:lnTo>
                  <a:lnTo>
                    <a:pt x="4110" y="2212"/>
                  </a:lnTo>
                  <a:lnTo>
                    <a:pt x="4103" y="2431"/>
                  </a:lnTo>
                  <a:lnTo>
                    <a:pt x="4072" y="2645"/>
                  </a:lnTo>
                  <a:lnTo>
                    <a:pt x="4018" y="2856"/>
                  </a:lnTo>
                  <a:lnTo>
                    <a:pt x="3943" y="3058"/>
                  </a:lnTo>
                  <a:lnTo>
                    <a:pt x="3848" y="3253"/>
                  </a:lnTo>
                  <a:lnTo>
                    <a:pt x="3735" y="3438"/>
                  </a:lnTo>
                  <a:lnTo>
                    <a:pt x="3604" y="3611"/>
                  </a:lnTo>
                  <a:lnTo>
                    <a:pt x="3457" y="3772"/>
                  </a:lnTo>
                  <a:lnTo>
                    <a:pt x="3297" y="3919"/>
                  </a:lnTo>
                  <a:lnTo>
                    <a:pt x="3122" y="4049"/>
                  </a:lnTo>
                  <a:lnTo>
                    <a:pt x="2938" y="4164"/>
                  </a:lnTo>
                  <a:lnTo>
                    <a:pt x="2744" y="4258"/>
                  </a:lnTo>
                  <a:lnTo>
                    <a:pt x="2541" y="4333"/>
                  </a:lnTo>
                  <a:lnTo>
                    <a:pt x="2331" y="4388"/>
                  </a:lnTo>
                  <a:lnTo>
                    <a:pt x="2116" y="4418"/>
                  </a:lnTo>
                  <a:lnTo>
                    <a:pt x="1898" y="4424"/>
                  </a:lnTo>
                  <a:lnTo>
                    <a:pt x="1787" y="442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464880" y="2403360"/>
              <a:ext cx="397440" cy="415440"/>
            </a:xfrm>
            <a:custGeom>
              <a:avLst/>
              <a:gdLst/>
              <a:ahLst/>
              <a:rect l="l" t="t" r="r" b="b"/>
              <a:pathLst>
                <a:path w="3986" h="4178">
                  <a:moveTo>
                    <a:pt x="1794" y="4178"/>
                  </a:moveTo>
                  <a:lnTo>
                    <a:pt x="1794" y="4178"/>
                  </a:lnTo>
                  <a:lnTo>
                    <a:pt x="1614" y="4164"/>
                  </a:lnTo>
                  <a:lnTo>
                    <a:pt x="1438" y="4132"/>
                  </a:lnTo>
                  <a:lnTo>
                    <a:pt x="1266" y="4085"/>
                  </a:lnTo>
                  <a:lnTo>
                    <a:pt x="1098" y="4022"/>
                  </a:lnTo>
                  <a:lnTo>
                    <a:pt x="937" y="3943"/>
                  </a:lnTo>
                  <a:lnTo>
                    <a:pt x="782" y="3853"/>
                  </a:lnTo>
                  <a:lnTo>
                    <a:pt x="637" y="3748"/>
                  </a:lnTo>
                  <a:lnTo>
                    <a:pt x="499" y="3633"/>
                  </a:lnTo>
                  <a:lnTo>
                    <a:pt x="451" y="3587"/>
                  </a:lnTo>
                  <a:lnTo>
                    <a:pt x="420" y="3537"/>
                  </a:lnTo>
                  <a:lnTo>
                    <a:pt x="339" y="3391"/>
                  </a:lnTo>
                  <a:lnTo>
                    <a:pt x="266" y="3240"/>
                  </a:lnTo>
                  <a:lnTo>
                    <a:pt x="147" y="2928"/>
                  </a:lnTo>
                  <a:lnTo>
                    <a:pt x="62" y="2609"/>
                  </a:lnTo>
                  <a:lnTo>
                    <a:pt x="13" y="2284"/>
                  </a:lnTo>
                  <a:lnTo>
                    <a:pt x="0" y="1956"/>
                  </a:lnTo>
                  <a:lnTo>
                    <a:pt x="21" y="1629"/>
                  </a:lnTo>
                  <a:lnTo>
                    <a:pt x="77" y="1304"/>
                  </a:lnTo>
                  <a:lnTo>
                    <a:pt x="170" y="986"/>
                  </a:lnTo>
                  <a:lnTo>
                    <a:pt x="222" y="849"/>
                  </a:lnTo>
                  <a:lnTo>
                    <a:pt x="222" y="849"/>
                  </a:lnTo>
                  <a:lnTo>
                    <a:pt x="380" y="662"/>
                  </a:lnTo>
                  <a:lnTo>
                    <a:pt x="556" y="494"/>
                  </a:lnTo>
                  <a:lnTo>
                    <a:pt x="750" y="347"/>
                  </a:lnTo>
                  <a:lnTo>
                    <a:pt x="960" y="222"/>
                  </a:lnTo>
                  <a:lnTo>
                    <a:pt x="1181" y="123"/>
                  </a:lnTo>
                  <a:lnTo>
                    <a:pt x="1412" y="51"/>
                  </a:lnTo>
                  <a:lnTo>
                    <a:pt x="1653" y="9"/>
                  </a:lnTo>
                  <a:lnTo>
                    <a:pt x="1898" y="0"/>
                  </a:lnTo>
                  <a:lnTo>
                    <a:pt x="2104" y="6"/>
                  </a:lnTo>
                  <a:lnTo>
                    <a:pt x="2307" y="34"/>
                  </a:lnTo>
                  <a:lnTo>
                    <a:pt x="2506" y="85"/>
                  </a:lnTo>
                  <a:lnTo>
                    <a:pt x="2697" y="157"/>
                  </a:lnTo>
                  <a:lnTo>
                    <a:pt x="2881" y="246"/>
                  </a:lnTo>
                  <a:lnTo>
                    <a:pt x="3055" y="354"/>
                  </a:lnTo>
                  <a:lnTo>
                    <a:pt x="3218" y="478"/>
                  </a:lnTo>
                  <a:lnTo>
                    <a:pt x="3371" y="616"/>
                  </a:lnTo>
                  <a:lnTo>
                    <a:pt x="3509" y="768"/>
                  </a:lnTo>
                  <a:lnTo>
                    <a:pt x="3632" y="931"/>
                  </a:lnTo>
                  <a:lnTo>
                    <a:pt x="3740" y="1106"/>
                  </a:lnTo>
                  <a:lnTo>
                    <a:pt x="3830" y="1290"/>
                  </a:lnTo>
                  <a:lnTo>
                    <a:pt x="3901" y="1481"/>
                  </a:lnTo>
                  <a:lnTo>
                    <a:pt x="3952" y="1679"/>
                  </a:lnTo>
                  <a:lnTo>
                    <a:pt x="3981" y="1882"/>
                  </a:lnTo>
                  <a:lnTo>
                    <a:pt x="3986" y="2089"/>
                  </a:lnTo>
                  <a:lnTo>
                    <a:pt x="3981" y="2296"/>
                  </a:lnTo>
                  <a:lnTo>
                    <a:pt x="3952" y="2499"/>
                  </a:lnTo>
                  <a:lnTo>
                    <a:pt x="3901" y="2697"/>
                  </a:lnTo>
                  <a:lnTo>
                    <a:pt x="3830" y="2889"/>
                  </a:lnTo>
                  <a:lnTo>
                    <a:pt x="3740" y="3072"/>
                  </a:lnTo>
                  <a:lnTo>
                    <a:pt x="3632" y="3246"/>
                  </a:lnTo>
                  <a:lnTo>
                    <a:pt x="3509" y="3411"/>
                  </a:lnTo>
                  <a:lnTo>
                    <a:pt x="3371" y="3562"/>
                  </a:lnTo>
                  <a:lnTo>
                    <a:pt x="3218" y="3701"/>
                  </a:lnTo>
                  <a:lnTo>
                    <a:pt x="3055" y="3824"/>
                  </a:lnTo>
                  <a:lnTo>
                    <a:pt x="2881" y="3931"/>
                  </a:lnTo>
                  <a:lnTo>
                    <a:pt x="2697" y="4022"/>
                  </a:lnTo>
                  <a:lnTo>
                    <a:pt x="2506" y="4092"/>
                  </a:lnTo>
                  <a:lnTo>
                    <a:pt x="2307" y="4143"/>
                  </a:lnTo>
                  <a:lnTo>
                    <a:pt x="2104" y="4172"/>
                  </a:lnTo>
                  <a:lnTo>
                    <a:pt x="1898" y="4178"/>
                  </a:lnTo>
                  <a:lnTo>
                    <a:pt x="1794" y="4178"/>
                  </a:lnTo>
                  <a:close/>
                </a:path>
              </a:pathLst>
            </a:custGeom>
            <a:solidFill>
              <a:srgbClr val="fff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464880" y="2415240"/>
              <a:ext cx="384480" cy="391680"/>
            </a:xfrm>
            <a:custGeom>
              <a:avLst/>
              <a:gdLst/>
              <a:ahLst/>
              <a:rect l="l" t="t" r="r" b="b"/>
              <a:pathLst>
                <a:path w="3865" h="3933">
                  <a:moveTo>
                    <a:pt x="1801" y="3933"/>
                  </a:moveTo>
                  <a:lnTo>
                    <a:pt x="1801" y="3932"/>
                  </a:lnTo>
                  <a:lnTo>
                    <a:pt x="1560" y="3909"/>
                  </a:lnTo>
                  <a:lnTo>
                    <a:pt x="1326" y="3851"/>
                  </a:lnTo>
                  <a:lnTo>
                    <a:pt x="1102" y="3765"/>
                  </a:lnTo>
                  <a:lnTo>
                    <a:pt x="890" y="3652"/>
                  </a:lnTo>
                  <a:lnTo>
                    <a:pt x="693" y="3514"/>
                  </a:lnTo>
                  <a:lnTo>
                    <a:pt x="512" y="3353"/>
                  </a:lnTo>
                  <a:lnTo>
                    <a:pt x="351" y="3172"/>
                  </a:lnTo>
                  <a:lnTo>
                    <a:pt x="213" y="2974"/>
                  </a:lnTo>
                  <a:lnTo>
                    <a:pt x="200" y="2952"/>
                  </a:lnTo>
                  <a:lnTo>
                    <a:pt x="171" y="2876"/>
                  </a:lnTo>
                  <a:lnTo>
                    <a:pt x="110" y="2683"/>
                  </a:lnTo>
                  <a:lnTo>
                    <a:pt x="63" y="2486"/>
                  </a:lnTo>
                  <a:lnTo>
                    <a:pt x="29" y="2288"/>
                  </a:lnTo>
                  <a:lnTo>
                    <a:pt x="8" y="2088"/>
                  </a:lnTo>
                  <a:lnTo>
                    <a:pt x="0" y="1888"/>
                  </a:lnTo>
                  <a:lnTo>
                    <a:pt x="6" y="1688"/>
                  </a:lnTo>
                  <a:lnTo>
                    <a:pt x="24" y="1488"/>
                  </a:lnTo>
                  <a:lnTo>
                    <a:pt x="56" y="1289"/>
                  </a:lnTo>
                  <a:lnTo>
                    <a:pt x="64" y="1253"/>
                  </a:lnTo>
                  <a:lnTo>
                    <a:pt x="79" y="1213"/>
                  </a:lnTo>
                  <a:lnTo>
                    <a:pt x="141" y="1083"/>
                  </a:lnTo>
                  <a:lnTo>
                    <a:pt x="213" y="957"/>
                  </a:lnTo>
                  <a:lnTo>
                    <a:pt x="294" y="837"/>
                  </a:lnTo>
                  <a:lnTo>
                    <a:pt x="382" y="722"/>
                  </a:lnTo>
                  <a:lnTo>
                    <a:pt x="478" y="614"/>
                  </a:lnTo>
                  <a:lnTo>
                    <a:pt x="583" y="513"/>
                  </a:lnTo>
                  <a:lnTo>
                    <a:pt x="693" y="419"/>
                  </a:lnTo>
                  <a:lnTo>
                    <a:pt x="809" y="333"/>
                  </a:lnTo>
                  <a:lnTo>
                    <a:pt x="931" y="256"/>
                  </a:lnTo>
                  <a:lnTo>
                    <a:pt x="1059" y="187"/>
                  </a:lnTo>
                  <a:lnTo>
                    <a:pt x="1190" y="129"/>
                  </a:lnTo>
                  <a:lnTo>
                    <a:pt x="1326" y="80"/>
                  </a:lnTo>
                  <a:lnTo>
                    <a:pt x="1465" y="43"/>
                  </a:lnTo>
                  <a:lnTo>
                    <a:pt x="1608" y="16"/>
                  </a:lnTo>
                  <a:lnTo>
                    <a:pt x="1752" y="2"/>
                  </a:lnTo>
                  <a:lnTo>
                    <a:pt x="1899" y="0"/>
                  </a:lnTo>
                  <a:lnTo>
                    <a:pt x="2093" y="5"/>
                  </a:lnTo>
                  <a:lnTo>
                    <a:pt x="2284" y="33"/>
                  </a:lnTo>
                  <a:lnTo>
                    <a:pt x="2470" y="80"/>
                  </a:lnTo>
                  <a:lnTo>
                    <a:pt x="2651" y="147"/>
                  </a:lnTo>
                  <a:lnTo>
                    <a:pt x="2823" y="231"/>
                  </a:lnTo>
                  <a:lnTo>
                    <a:pt x="2988" y="333"/>
                  </a:lnTo>
                  <a:lnTo>
                    <a:pt x="3142" y="450"/>
                  </a:lnTo>
                  <a:lnTo>
                    <a:pt x="3285" y="580"/>
                  </a:lnTo>
                  <a:lnTo>
                    <a:pt x="3415" y="722"/>
                  </a:lnTo>
                  <a:lnTo>
                    <a:pt x="3532" y="877"/>
                  </a:lnTo>
                  <a:lnTo>
                    <a:pt x="3633" y="1041"/>
                  </a:lnTo>
                  <a:lnTo>
                    <a:pt x="3717" y="1213"/>
                  </a:lnTo>
                  <a:lnTo>
                    <a:pt x="3784" y="1394"/>
                  </a:lnTo>
                  <a:lnTo>
                    <a:pt x="3832" y="1581"/>
                  </a:lnTo>
                  <a:lnTo>
                    <a:pt x="3859" y="1772"/>
                  </a:lnTo>
                  <a:lnTo>
                    <a:pt x="3865" y="1966"/>
                  </a:lnTo>
                  <a:lnTo>
                    <a:pt x="3859" y="2161"/>
                  </a:lnTo>
                  <a:lnTo>
                    <a:pt x="3832" y="2352"/>
                  </a:lnTo>
                  <a:lnTo>
                    <a:pt x="3784" y="2538"/>
                  </a:lnTo>
                  <a:lnTo>
                    <a:pt x="3717" y="2718"/>
                  </a:lnTo>
                  <a:lnTo>
                    <a:pt x="3633" y="2891"/>
                  </a:lnTo>
                  <a:lnTo>
                    <a:pt x="3532" y="3056"/>
                  </a:lnTo>
                  <a:lnTo>
                    <a:pt x="3415" y="3209"/>
                  </a:lnTo>
                  <a:lnTo>
                    <a:pt x="3285" y="3353"/>
                  </a:lnTo>
                  <a:lnTo>
                    <a:pt x="3142" y="3483"/>
                  </a:lnTo>
                  <a:lnTo>
                    <a:pt x="2988" y="3599"/>
                  </a:lnTo>
                  <a:lnTo>
                    <a:pt x="2823" y="3700"/>
                  </a:lnTo>
                  <a:lnTo>
                    <a:pt x="2651" y="3785"/>
                  </a:lnTo>
                  <a:lnTo>
                    <a:pt x="2470" y="3852"/>
                  </a:lnTo>
                  <a:lnTo>
                    <a:pt x="2284" y="3900"/>
                  </a:lnTo>
                  <a:lnTo>
                    <a:pt x="2093" y="3927"/>
                  </a:lnTo>
                  <a:lnTo>
                    <a:pt x="1899" y="3932"/>
                  </a:lnTo>
                  <a:lnTo>
                    <a:pt x="1801" y="3932"/>
                  </a:lnTo>
                  <a:lnTo>
                    <a:pt x="1801" y="3933"/>
                  </a:lnTo>
                  <a:close/>
                </a:path>
              </a:pathLst>
            </a:custGeom>
            <a:solidFill>
              <a:srgbClr val="ffff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470280" y="2428200"/>
              <a:ext cx="366840" cy="366120"/>
            </a:xfrm>
            <a:custGeom>
              <a:avLst/>
              <a:gdLst/>
              <a:ahLst/>
              <a:rect l="l" t="t" r="r" b="b"/>
              <a:pathLst>
                <a:path w="3687" h="3687">
                  <a:moveTo>
                    <a:pt x="1752" y="3687"/>
                  </a:moveTo>
                  <a:lnTo>
                    <a:pt x="1752" y="3687"/>
                  </a:lnTo>
                  <a:lnTo>
                    <a:pt x="1577" y="3673"/>
                  </a:lnTo>
                  <a:lnTo>
                    <a:pt x="1405" y="3640"/>
                  </a:lnTo>
                  <a:lnTo>
                    <a:pt x="1238" y="3589"/>
                  </a:lnTo>
                  <a:lnTo>
                    <a:pt x="1077" y="3522"/>
                  </a:lnTo>
                  <a:lnTo>
                    <a:pt x="923" y="3439"/>
                  </a:lnTo>
                  <a:lnTo>
                    <a:pt x="776" y="3342"/>
                  </a:lnTo>
                  <a:lnTo>
                    <a:pt x="639" y="3233"/>
                  </a:lnTo>
                  <a:lnTo>
                    <a:pt x="512" y="3111"/>
                  </a:lnTo>
                  <a:lnTo>
                    <a:pt x="396" y="2979"/>
                  </a:lnTo>
                  <a:lnTo>
                    <a:pt x="294" y="2837"/>
                  </a:lnTo>
                  <a:lnTo>
                    <a:pt x="204" y="2687"/>
                  </a:lnTo>
                  <a:lnTo>
                    <a:pt x="129" y="2529"/>
                  </a:lnTo>
                  <a:lnTo>
                    <a:pt x="71" y="2364"/>
                  </a:lnTo>
                  <a:lnTo>
                    <a:pt x="29" y="2195"/>
                  </a:lnTo>
                  <a:lnTo>
                    <a:pt x="5" y="2020"/>
                  </a:lnTo>
                  <a:lnTo>
                    <a:pt x="0" y="1844"/>
                  </a:lnTo>
                  <a:lnTo>
                    <a:pt x="6" y="1662"/>
                  </a:lnTo>
                  <a:lnTo>
                    <a:pt x="31" y="1483"/>
                  </a:lnTo>
                  <a:lnTo>
                    <a:pt x="75" y="1308"/>
                  </a:lnTo>
                  <a:lnTo>
                    <a:pt x="138" y="1139"/>
                  </a:lnTo>
                  <a:lnTo>
                    <a:pt x="218" y="977"/>
                  </a:lnTo>
                  <a:lnTo>
                    <a:pt x="312" y="823"/>
                  </a:lnTo>
                  <a:lnTo>
                    <a:pt x="422" y="679"/>
                  </a:lnTo>
                  <a:lnTo>
                    <a:pt x="544" y="544"/>
                  </a:lnTo>
                  <a:lnTo>
                    <a:pt x="678" y="422"/>
                  </a:lnTo>
                  <a:lnTo>
                    <a:pt x="822" y="313"/>
                  </a:lnTo>
                  <a:lnTo>
                    <a:pt x="977" y="219"/>
                  </a:lnTo>
                  <a:lnTo>
                    <a:pt x="1138" y="139"/>
                  </a:lnTo>
                  <a:lnTo>
                    <a:pt x="1308" y="76"/>
                  </a:lnTo>
                  <a:lnTo>
                    <a:pt x="1482" y="31"/>
                  </a:lnTo>
                  <a:lnTo>
                    <a:pt x="1661" y="6"/>
                  </a:lnTo>
                  <a:lnTo>
                    <a:pt x="1844" y="0"/>
                  </a:lnTo>
                  <a:lnTo>
                    <a:pt x="2026" y="6"/>
                  </a:lnTo>
                  <a:lnTo>
                    <a:pt x="2205" y="31"/>
                  </a:lnTo>
                  <a:lnTo>
                    <a:pt x="2380" y="76"/>
                  </a:lnTo>
                  <a:lnTo>
                    <a:pt x="2549" y="139"/>
                  </a:lnTo>
                  <a:lnTo>
                    <a:pt x="2711" y="219"/>
                  </a:lnTo>
                  <a:lnTo>
                    <a:pt x="2864" y="313"/>
                  </a:lnTo>
                  <a:lnTo>
                    <a:pt x="3009" y="422"/>
                  </a:lnTo>
                  <a:lnTo>
                    <a:pt x="3143" y="544"/>
                  </a:lnTo>
                  <a:lnTo>
                    <a:pt x="3265" y="679"/>
                  </a:lnTo>
                  <a:lnTo>
                    <a:pt x="3374" y="823"/>
                  </a:lnTo>
                  <a:lnTo>
                    <a:pt x="3469" y="977"/>
                  </a:lnTo>
                  <a:lnTo>
                    <a:pt x="3548" y="1139"/>
                  </a:lnTo>
                  <a:lnTo>
                    <a:pt x="3611" y="1308"/>
                  </a:lnTo>
                  <a:lnTo>
                    <a:pt x="3657" y="1483"/>
                  </a:lnTo>
                  <a:lnTo>
                    <a:pt x="3682" y="1662"/>
                  </a:lnTo>
                  <a:lnTo>
                    <a:pt x="3687" y="1844"/>
                  </a:lnTo>
                  <a:lnTo>
                    <a:pt x="3682" y="2027"/>
                  </a:lnTo>
                  <a:lnTo>
                    <a:pt x="3657" y="2206"/>
                  </a:lnTo>
                  <a:lnTo>
                    <a:pt x="3611" y="2380"/>
                  </a:lnTo>
                  <a:lnTo>
                    <a:pt x="3548" y="2549"/>
                  </a:lnTo>
                  <a:lnTo>
                    <a:pt x="3469" y="2711"/>
                  </a:lnTo>
                  <a:lnTo>
                    <a:pt x="3374" y="2865"/>
                  </a:lnTo>
                  <a:lnTo>
                    <a:pt x="3265" y="3010"/>
                  </a:lnTo>
                  <a:lnTo>
                    <a:pt x="3143" y="3143"/>
                  </a:lnTo>
                  <a:lnTo>
                    <a:pt x="3009" y="3266"/>
                  </a:lnTo>
                  <a:lnTo>
                    <a:pt x="2864" y="3375"/>
                  </a:lnTo>
                  <a:lnTo>
                    <a:pt x="2711" y="3470"/>
                  </a:lnTo>
                  <a:lnTo>
                    <a:pt x="2549" y="3549"/>
                  </a:lnTo>
                  <a:lnTo>
                    <a:pt x="2380" y="3612"/>
                  </a:lnTo>
                  <a:lnTo>
                    <a:pt x="2205" y="3657"/>
                  </a:lnTo>
                  <a:lnTo>
                    <a:pt x="2026" y="3682"/>
                  </a:lnTo>
                  <a:lnTo>
                    <a:pt x="1844" y="3687"/>
                  </a:lnTo>
                  <a:lnTo>
                    <a:pt x="1752" y="3687"/>
                  </a:lnTo>
                  <a:close/>
                </a:path>
              </a:pathLst>
            </a:custGeom>
            <a:solidFill>
              <a:srgbClr val="ffff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482160" y="2440080"/>
              <a:ext cx="342360" cy="342000"/>
            </a:xfrm>
            <a:custGeom>
              <a:avLst/>
              <a:gdLst/>
              <a:ahLst/>
              <a:rect l="l" t="t" r="r" b="b"/>
              <a:pathLst>
                <a:path w="3441" h="3441">
                  <a:moveTo>
                    <a:pt x="1635" y="3441"/>
                  </a:moveTo>
                  <a:lnTo>
                    <a:pt x="1635" y="3441"/>
                  </a:lnTo>
                  <a:lnTo>
                    <a:pt x="1471" y="3427"/>
                  </a:lnTo>
                  <a:lnTo>
                    <a:pt x="1311" y="3396"/>
                  </a:lnTo>
                  <a:lnTo>
                    <a:pt x="1155" y="3348"/>
                  </a:lnTo>
                  <a:lnTo>
                    <a:pt x="1005" y="3285"/>
                  </a:lnTo>
                  <a:lnTo>
                    <a:pt x="860" y="3209"/>
                  </a:lnTo>
                  <a:lnTo>
                    <a:pt x="725" y="3119"/>
                  </a:lnTo>
                  <a:lnTo>
                    <a:pt x="597" y="3016"/>
                  </a:lnTo>
                  <a:lnTo>
                    <a:pt x="477" y="2903"/>
                  </a:lnTo>
                  <a:lnTo>
                    <a:pt x="370" y="2779"/>
                  </a:lnTo>
                  <a:lnTo>
                    <a:pt x="273" y="2647"/>
                  </a:lnTo>
                  <a:lnTo>
                    <a:pt x="191" y="2506"/>
                  </a:lnTo>
                  <a:lnTo>
                    <a:pt x="121" y="2359"/>
                  </a:lnTo>
                  <a:lnTo>
                    <a:pt x="66" y="2205"/>
                  </a:lnTo>
                  <a:lnTo>
                    <a:pt x="26" y="2047"/>
                  </a:lnTo>
                  <a:lnTo>
                    <a:pt x="4" y="1885"/>
                  </a:lnTo>
                  <a:lnTo>
                    <a:pt x="0" y="1720"/>
                  </a:lnTo>
                  <a:lnTo>
                    <a:pt x="5" y="1550"/>
                  </a:lnTo>
                  <a:lnTo>
                    <a:pt x="28" y="1382"/>
                  </a:lnTo>
                  <a:lnTo>
                    <a:pt x="70" y="1220"/>
                  </a:lnTo>
                  <a:lnTo>
                    <a:pt x="129" y="1062"/>
                  </a:lnTo>
                  <a:lnTo>
                    <a:pt x="203" y="911"/>
                  </a:lnTo>
                  <a:lnTo>
                    <a:pt x="291" y="766"/>
                  </a:lnTo>
                  <a:lnTo>
                    <a:pt x="394" y="632"/>
                  </a:lnTo>
                  <a:lnTo>
                    <a:pt x="507" y="507"/>
                  </a:lnTo>
                  <a:lnTo>
                    <a:pt x="632" y="392"/>
                  </a:lnTo>
                  <a:lnTo>
                    <a:pt x="768" y="291"/>
                  </a:lnTo>
                  <a:lnTo>
                    <a:pt x="911" y="203"/>
                  </a:lnTo>
                  <a:lnTo>
                    <a:pt x="1062" y="129"/>
                  </a:lnTo>
                  <a:lnTo>
                    <a:pt x="1220" y="70"/>
                  </a:lnTo>
                  <a:lnTo>
                    <a:pt x="1383" y="28"/>
                  </a:lnTo>
                  <a:lnTo>
                    <a:pt x="1550" y="4"/>
                  </a:lnTo>
                  <a:lnTo>
                    <a:pt x="1721" y="0"/>
                  </a:lnTo>
                  <a:lnTo>
                    <a:pt x="1891" y="4"/>
                  </a:lnTo>
                  <a:lnTo>
                    <a:pt x="2058" y="28"/>
                  </a:lnTo>
                  <a:lnTo>
                    <a:pt x="2221" y="70"/>
                  </a:lnTo>
                  <a:lnTo>
                    <a:pt x="2378" y="129"/>
                  </a:lnTo>
                  <a:lnTo>
                    <a:pt x="2530" y="203"/>
                  </a:lnTo>
                  <a:lnTo>
                    <a:pt x="2674" y="291"/>
                  </a:lnTo>
                  <a:lnTo>
                    <a:pt x="2809" y="392"/>
                  </a:lnTo>
                  <a:lnTo>
                    <a:pt x="2933" y="507"/>
                  </a:lnTo>
                  <a:lnTo>
                    <a:pt x="3048" y="632"/>
                  </a:lnTo>
                  <a:lnTo>
                    <a:pt x="3150" y="766"/>
                  </a:lnTo>
                  <a:lnTo>
                    <a:pt x="3238" y="911"/>
                  </a:lnTo>
                  <a:lnTo>
                    <a:pt x="3312" y="1062"/>
                  </a:lnTo>
                  <a:lnTo>
                    <a:pt x="3370" y="1220"/>
                  </a:lnTo>
                  <a:lnTo>
                    <a:pt x="3412" y="1382"/>
                  </a:lnTo>
                  <a:lnTo>
                    <a:pt x="3436" y="1550"/>
                  </a:lnTo>
                  <a:lnTo>
                    <a:pt x="3441" y="1720"/>
                  </a:lnTo>
                  <a:lnTo>
                    <a:pt x="3436" y="1891"/>
                  </a:lnTo>
                  <a:lnTo>
                    <a:pt x="3412" y="2057"/>
                  </a:lnTo>
                  <a:lnTo>
                    <a:pt x="3370" y="2221"/>
                  </a:lnTo>
                  <a:lnTo>
                    <a:pt x="3312" y="2378"/>
                  </a:lnTo>
                  <a:lnTo>
                    <a:pt x="3238" y="2530"/>
                  </a:lnTo>
                  <a:lnTo>
                    <a:pt x="3150" y="2673"/>
                  </a:lnTo>
                  <a:lnTo>
                    <a:pt x="3048" y="2809"/>
                  </a:lnTo>
                  <a:lnTo>
                    <a:pt x="2933" y="2933"/>
                  </a:lnTo>
                  <a:lnTo>
                    <a:pt x="2809" y="3047"/>
                  </a:lnTo>
                  <a:lnTo>
                    <a:pt x="2674" y="3150"/>
                  </a:lnTo>
                  <a:lnTo>
                    <a:pt x="2530" y="3238"/>
                  </a:lnTo>
                  <a:lnTo>
                    <a:pt x="2378" y="3312"/>
                  </a:lnTo>
                  <a:lnTo>
                    <a:pt x="2221" y="3370"/>
                  </a:lnTo>
                  <a:lnTo>
                    <a:pt x="2058" y="3412"/>
                  </a:lnTo>
                  <a:lnTo>
                    <a:pt x="1891" y="3435"/>
                  </a:lnTo>
                  <a:lnTo>
                    <a:pt x="1721" y="3441"/>
                  </a:lnTo>
                  <a:lnTo>
                    <a:pt x="1635" y="3441"/>
                  </a:lnTo>
                  <a:close/>
                </a:path>
              </a:pathLst>
            </a:custGeom>
            <a:solidFill>
              <a:srgbClr val="fff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495120" y="2451960"/>
              <a:ext cx="317520" cy="318240"/>
            </a:xfrm>
            <a:custGeom>
              <a:avLst/>
              <a:gdLst/>
              <a:ahLst/>
              <a:rect l="l" t="t" r="r" b="b"/>
              <a:pathLst>
                <a:path w="3195" h="3195">
                  <a:moveTo>
                    <a:pt x="1518" y="3195"/>
                  </a:moveTo>
                  <a:lnTo>
                    <a:pt x="1518" y="3195"/>
                  </a:lnTo>
                  <a:lnTo>
                    <a:pt x="1366" y="3183"/>
                  </a:lnTo>
                  <a:lnTo>
                    <a:pt x="1217" y="3155"/>
                  </a:lnTo>
                  <a:lnTo>
                    <a:pt x="1073" y="3110"/>
                  </a:lnTo>
                  <a:lnTo>
                    <a:pt x="933" y="3052"/>
                  </a:lnTo>
                  <a:lnTo>
                    <a:pt x="799" y="2980"/>
                  </a:lnTo>
                  <a:lnTo>
                    <a:pt x="672" y="2896"/>
                  </a:lnTo>
                  <a:lnTo>
                    <a:pt x="553" y="2801"/>
                  </a:lnTo>
                  <a:lnTo>
                    <a:pt x="444" y="2697"/>
                  </a:lnTo>
                  <a:lnTo>
                    <a:pt x="343" y="2582"/>
                  </a:lnTo>
                  <a:lnTo>
                    <a:pt x="254" y="2458"/>
                  </a:lnTo>
                  <a:lnTo>
                    <a:pt x="177" y="2328"/>
                  </a:lnTo>
                  <a:lnTo>
                    <a:pt x="112" y="2191"/>
                  </a:lnTo>
                  <a:lnTo>
                    <a:pt x="61" y="2049"/>
                  </a:lnTo>
                  <a:lnTo>
                    <a:pt x="25" y="1902"/>
                  </a:lnTo>
                  <a:lnTo>
                    <a:pt x="4" y="1751"/>
                  </a:lnTo>
                  <a:lnTo>
                    <a:pt x="0" y="1598"/>
                  </a:lnTo>
                  <a:lnTo>
                    <a:pt x="5" y="1440"/>
                  </a:lnTo>
                  <a:lnTo>
                    <a:pt x="27" y="1284"/>
                  </a:lnTo>
                  <a:lnTo>
                    <a:pt x="65" y="1133"/>
                  </a:lnTo>
                  <a:lnTo>
                    <a:pt x="119" y="986"/>
                  </a:lnTo>
                  <a:lnTo>
                    <a:pt x="188" y="846"/>
                  </a:lnTo>
                  <a:lnTo>
                    <a:pt x="271" y="713"/>
                  </a:lnTo>
                  <a:lnTo>
                    <a:pt x="365" y="587"/>
                  </a:lnTo>
                  <a:lnTo>
                    <a:pt x="471" y="471"/>
                  </a:lnTo>
                  <a:lnTo>
                    <a:pt x="587" y="365"/>
                  </a:lnTo>
                  <a:lnTo>
                    <a:pt x="712" y="270"/>
                  </a:lnTo>
                  <a:lnTo>
                    <a:pt x="845" y="189"/>
                  </a:lnTo>
                  <a:lnTo>
                    <a:pt x="987" y="120"/>
                  </a:lnTo>
                  <a:lnTo>
                    <a:pt x="1132" y="65"/>
                  </a:lnTo>
                  <a:lnTo>
                    <a:pt x="1284" y="27"/>
                  </a:lnTo>
                  <a:lnTo>
                    <a:pt x="1439" y="5"/>
                  </a:lnTo>
                  <a:lnTo>
                    <a:pt x="1598" y="0"/>
                  </a:lnTo>
                  <a:lnTo>
                    <a:pt x="1756" y="5"/>
                  </a:lnTo>
                  <a:lnTo>
                    <a:pt x="1911" y="27"/>
                  </a:lnTo>
                  <a:lnTo>
                    <a:pt x="2062" y="65"/>
                  </a:lnTo>
                  <a:lnTo>
                    <a:pt x="2209" y="120"/>
                  </a:lnTo>
                  <a:lnTo>
                    <a:pt x="2349" y="189"/>
                  </a:lnTo>
                  <a:lnTo>
                    <a:pt x="2483" y="270"/>
                  </a:lnTo>
                  <a:lnTo>
                    <a:pt x="2608" y="365"/>
                  </a:lnTo>
                  <a:lnTo>
                    <a:pt x="2724" y="471"/>
                  </a:lnTo>
                  <a:lnTo>
                    <a:pt x="2830" y="587"/>
                  </a:lnTo>
                  <a:lnTo>
                    <a:pt x="2924" y="713"/>
                  </a:lnTo>
                  <a:lnTo>
                    <a:pt x="3007" y="846"/>
                  </a:lnTo>
                  <a:lnTo>
                    <a:pt x="3075" y="986"/>
                  </a:lnTo>
                  <a:lnTo>
                    <a:pt x="3130" y="1133"/>
                  </a:lnTo>
                  <a:lnTo>
                    <a:pt x="3169" y="1284"/>
                  </a:lnTo>
                  <a:lnTo>
                    <a:pt x="3191" y="1440"/>
                  </a:lnTo>
                  <a:lnTo>
                    <a:pt x="3195" y="1598"/>
                  </a:lnTo>
                  <a:lnTo>
                    <a:pt x="3191" y="1757"/>
                  </a:lnTo>
                  <a:lnTo>
                    <a:pt x="3169" y="1911"/>
                  </a:lnTo>
                  <a:lnTo>
                    <a:pt x="3130" y="2063"/>
                  </a:lnTo>
                  <a:lnTo>
                    <a:pt x="3075" y="2209"/>
                  </a:lnTo>
                  <a:lnTo>
                    <a:pt x="3007" y="2350"/>
                  </a:lnTo>
                  <a:lnTo>
                    <a:pt x="2924" y="2484"/>
                  </a:lnTo>
                  <a:lnTo>
                    <a:pt x="2830" y="2608"/>
                  </a:lnTo>
                  <a:lnTo>
                    <a:pt x="2724" y="2724"/>
                  </a:lnTo>
                  <a:lnTo>
                    <a:pt x="2608" y="2830"/>
                  </a:lnTo>
                  <a:lnTo>
                    <a:pt x="2483" y="2925"/>
                  </a:lnTo>
                  <a:lnTo>
                    <a:pt x="2349" y="3008"/>
                  </a:lnTo>
                  <a:lnTo>
                    <a:pt x="2209" y="3076"/>
                  </a:lnTo>
                  <a:lnTo>
                    <a:pt x="2062" y="3130"/>
                  </a:lnTo>
                  <a:lnTo>
                    <a:pt x="1911" y="3169"/>
                  </a:lnTo>
                  <a:lnTo>
                    <a:pt x="1756" y="3191"/>
                  </a:lnTo>
                  <a:lnTo>
                    <a:pt x="1598" y="3195"/>
                  </a:lnTo>
                  <a:lnTo>
                    <a:pt x="1518" y="3195"/>
                  </a:lnTo>
                  <a:close/>
                </a:path>
              </a:pathLst>
            </a:custGeom>
            <a:solidFill>
              <a:srgbClr val="fff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507000" y="2464920"/>
              <a:ext cx="293760" cy="292680"/>
            </a:xfrm>
            <a:custGeom>
              <a:avLst/>
              <a:gdLst/>
              <a:ahLst/>
              <a:rect l="l" t="t" r="r" b="b"/>
              <a:pathLst>
                <a:path w="2950" h="2950">
                  <a:moveTo>
                    <a:pt x="1401" y="2950"/>
                  </a:moveTo>
                  <a:lnTo>
                    <a:pt x="1401" y="2950"/>
                  </a:lnTo>
                  <a:lnTo>
                    <a:pt x="1261" y="2938"/>
                  </a:lnTo>
                  <a:lnTo>
                    <a:pt x="1124" y="2911"/>
                  </a:lnTo>
                  <a:lnTo>
                    <a:pt x="989" y="2870"/>
                  </a:lnTo>
                  <a:lnTo>
                    <a:pt x="861" y="2817"/>
                  </a:lnTo>
                  <a:lnTo>
                    <a:pt x="738" y="2751"/>
                  </a:lnTo>
                  <a:lnTo>
                    <a:pt x="621" y="2674"/>
                  </a:lnTo>
                  <a:lnTo>
                    <a:pt x="511" y="2586"/>
                  </a:lnTo>
                  <a:lnTo>
                    <a:pt x="409" y="2489"/>
                  </a:lnTo>
                  <a:lnTo>
                    <a:pt x="316" y="2383"/>
                  </a:lnTo>
                  <a:lnTo>
                    <a:pt x="235" y="2269"/>
                  </a:lnTo>
                  <a:lnTo>
                    <a:pt x="163" y="2149"/>
                  </a:lnTo>
                  <a:lnTo>
                    <a:pt x="103" y="2023"/>
                  </a:lnTo>
                  <a:lnTo>
                    <a:pt x="56" y="1891"/>
                  </a:lnTo>
                  <a:lnTo>
                    <a:pt x="23" y="1755"/>
                  </a:lnTo>
                  <a:lnTo>
                    <a:pt x="3" y="1616"/>
                  </a:lnTo>
                  <a:lnTo>
                    <a:pt x="0" y="1475"/>
                  </a:lnTo>
                  <a:lnTo>
                    <a:pt x="4" y="1329"/>
                  </a:lnTo>
                  <a:lnTo>
                    <a:pt x="24" y="1186"/>
                  </a:lnTo>
                  <a:lnTo>
                    <a:pt x="60" y="1046"/>
                  </a:lnTo>
                  <a:lnTo>
                    <a:pt x="110" y="911"/>
                  </a:lnTo>
                  <a:lnTo>
                    <a:pt x="174" y="781"/>
                  </a:lnTo>
                  <a:lnTo>
                    <a:pt x="249" y="658"/>
                  </a:lnTo>
                  <a:lnTo>
                    <a:pt x="337" y="542"/>
                  </a:lnTo>
                  <a:lnTo>
                    <a:pt x="434" y="435"/>
                  </a:lnTo>
                  <a:lnTo>
                    <a:pt x="541" y="337"/>
                  </a:lnTo>
                  <a:lnTo>
                    <a:pt x="657" y="250"/>
                  </a:lnTo>
                  <a:lnTo>
                    <a:pt x="781" y="174"/>
                  </a:lnTo>
                  <a:lnTo>
                    <a:pt x="910" y="111"/>
                  </a:lnTo>
                  <a:lnTo>
                    <a:pt x="1046" y="60"/>
                  </a:lnTo>
                  <a:lnTo>
                    <a:pt x="1186" y="25"/>
                  </a:lnTo>
                  <a:lnTo>
                    <a:pt x="1328" y="4"/>
                  </a:lnTo>
                  <a:lnTo>
                    <a:pt x="1475" y="0"/>
                  </a:lnTo>
                  <a:lnTo>
                    <a:pt x="1620" y="4"/>
                  </a:lnTo>
                  <a:lnTo>
                    <a:pt x="1764" y="25"/>
                  </a:lnTo>
                  <a:lnTo>
                    <a:pt x="1904" y="60"/>
                  </a:lnTo>
                  <a:lnTo>
                    <a:pt x="2039" y="111"/>
                  </a:lnTo>
                  <a:lnTo>
                    <a:pt x="2169" y="174"/>
                  </a:lnTo>
                  <a:lnTo>
                    <a:pt x="2291" y="250"/>
                  </a:lnTo>
                  <a:lnTo>
                    <a:pt x="2407" y="337"/>
                  </a:lnTo>
                  <a:lnTo>
                    <a:pt x="2514" y="435"/>
                  </a:lnTo>
                  <a:lnTo>
                    <a:pt x="2612" y="542"/>
                  </a:lnTo>
                  <a:lnTo>
                    <a:pt x="2699" y="658"/>
                  </a:lnTo>
                  <a:lnTo>
                    <a:pt x="2776" y="781"/>
                  </a:lnTo>
                  <a:lnTo>
                    <a:pt x="2838" y="911"/>
                  </a:lnTo>
                  <a:lnTo>
                    <a:pt x="2889" y="1046"/>
                  </a:lnTo>
                  <a:lnTo>
                    <a:pt x="2925" y="1186"/>
                  </a:lnTo>
                  <a:lnTo>
                    <a:pt x="2946" y="1329"/>
                  </a:lnTo>
                  <a:lnTo>
                    <a:pt x="2950" y="1475"/>
                  </a:lnTo>
                  <a:lnTo>
                    <a:pt x="2946" y="1621"/>
                  </a:lnTo>
                  <a:lnTo>
                    <a:pt x="2925" y="1764"/>
                  </a:lnTo>
                  <a:lnTo>
                    <a:pt x="2889" y="1904"/>
                  </a:lnTo>
                  <a:lnTo>
                    <a:pt x="2838" y="2040"/>
                  </a:lnTo>
                  <a:lnTo>
                    <a:pt x="2776" y="2169"/>
                  </a:lnTo>
                  <a:lnTo>
                    <a:pt x="2699" y="2292"/>
                  </a:lnTo>
                  <a:lnTo>
                    <a:pt x="2612" y="2408"/>
                  </a:lnTo>
                  <a:lnTo>
                    <a:pt x="2514" y="2515"/>
                  </a:lnTo>
                  <a:lnTo>
                    <a:pt x="2407" y="2612"/>
                  </a:lnTo>
                  <a:lnTo>
                    <a:pt x="2291" y="2701"/>
                  </a:lnTo>
                  <a:lnTo>
                    <a:pt x="2169" y="2776"/>
                  </a:lnTo>
                  <a:lnTo>
                    <a:pt x="2039" y="2840"/>
                  </a:lnTo>
                  <a:lnTo>
                    <a:pt x="1904" y="2889"/>
                  </a:lnTo>
                  <a:lnTo>
                    <a:pt x="1764" y="2926"/>
                  </a:lnTo>
                  <a:lnTo>
                    <a:pt x="1620" y="2945"/>
                  </a:lnTo>
                  <a:lnTo>
                    <a:pt x="1475" y="2950"/>
                  </a:lnTo>
                  <a:lnTo>
                    <a:pt x="1401" y="2950"/>
                  </a:lnTo>
                  <a:close/>
                </a:path>
              </a:pathLst>
            </a:custGeom>
            <a:solidFill>
              <a:srgbClr val="fff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518880" y="2476800"/>
              <a:ext cx="268920" cy="268920"/>
            </a:xfrm>
            <a:custGeom>
              <a:avLst/>
              <a:gdLst/>
              <a:ahLst/>
              <a:rect l="l" t="t" r="r" b="b"/>
              <a:pathLst>
                <a:path w="2704" h="2704">
                  <a:moveTo>
                    <a:pt x="1353" y="2704"/>
                  </a:moveTo>
                  <a:lnTo>
                    <a:pt x="1218" y="2700"/>
                  </a:lnTo>
                  <a:lnTo>
                    <a:pt x="1087" y="2681"/>
                  </a:lnTo>
                  <a:lnTo>
                    <a:pt x="959" y="2649"/>
                  </a:lnTo>
                  <a:lnTo>
                    <a:pt x="835" y="2603"/>
                  </a:lnTo>
                  <a:lnTo>
                    <a:pt x="716" y="2544"/>
                  </a:lnTo>
                  <a:lnTo>
                    <a:pt x="604" y="2475"/>
                  </a:lnTo>
                  <a:lnTo>
                    <a:pt x="498" y="2395"/>
                  </a:lnTo>
                  <a:lnTo>
                    <a:pt x="400" y="2305"/>
                  </a:lnTo>
                  <a:lnTo>
                    <a:pt x="309" y="2207"/>
                  </a:lnTo>
                  <a:lnTo>
                    <a:pt x="230" y="2101"/>
                  </a:lnTo>
                  <a:lnTo>
                    <a:pt x="160" y="1988"/>
                  </a:lnTo>
                  <a:lnTo>
                    <a:pt x="102" y="1869"/>
                  </a:lnTo>
                  <a:lnTo>
                    <a:pt x="55" y="1746"/>
                  </a:lnTo>
                  <a:lnTo>
                    <a:pt x="23" y="1618"/>
                  </a:lnTo>
                  <a:lnTo>
                    <a:pt x="5" y="1485"/>
                  </a:lnTo>
                  <a:lnTo>
                    <a:pt x="0" y="1352"/>
                  </a:lnTo>
                  <a:lnTo>
                    <a:pt x="5" y="1218"/>
                  </a:lnTo>
                  <a:lnTo>
                    <a:pt x="23" y="1087"/>
                  </a:lnTo>
                  <a:lnTo>
                    <a:pt x="55" y="959"/>
                  </a:lnTo>
                  <a:lnTo>
                    <a:pt x="102" y="834"/>
                  </a:lnTo>
                  <a:lnTo>
                    <a:pt x="160" y="716"/>
                  </a:lnTo>
                  <a:lnTo>
                    <a:pt x="230" y="603"/>
                  </a:lnTo>
                  <a:lnTo>
                    <a:pt x="309" y="497"/>
                  </a:lnTo>
                  <a:lnTo>
                    <a:pt x="400" y="398"/>
                  </a:lnTo>
                  <a:lnTo>
                    <a:pt x="498" y="309"/>
                  </a:lnTo>
                  <a:lnTo>
                    <a:pt x="604" y="229"/>
                  </a:lnTo>
                  <a:lnTo>
                    <a:pt x="716" y="159"/>
                  </a:lnTo>
                  <a:lnTo>
                    <a:pt x="835" y="102"/>
                  </a:lnTo>
                  <a:lnTo>
                    <a:pt x="959" y="55"/>
                  </a:lnTo>
                  <a:lnTo>
                    <a:pt x="1087" y="22"/>
                  </a:lnTo>
                  <a:lnTo>
                    <a:pt x="1218" y="3"/>
                  </a:lnTo>
                  <a:lnTo>
                    <a:pt x="1353" y="0"/>
                  </a:lnTo>
                  <a:lnTo>
                    <a:pt x="1486" y="3"/>
                  </a:lnTo>
                  <a:lnTo>
                    <a:pt x="1618" y="22"/>
                  </a:lnTo>
                  <a:lnTo>
                    <a:pt x="1746" y="55"/>
                  </a:lnTo>
                  <a:lnTo>
                    <a:pt x="1870" y="102"/>
                  </a:lnTo>
                  <a:lnTo>
                    <a:pt x="1988" y="159"/>
                  </a:lnTo>
                  <a:lnTo>
                    <a:pt x="2102" y="229"/>
                  </a:lnTo>
                  <a:lnTo>
                    <a:pt x="2208" y="309"/>
                  </a:lnTo>
                  <a:lnTo>
                    <a:pt x="2306" y="398"/>
                  </a:lnTo>
                  <a:lnTo>
                    <a:pt x="2395" y="497"/>
                  </a:lnTo>
                  <a:lnTo>
                    <a:pt x="2475" y="603"/>
                  </a:lnTo>
                  <a:lnTo>
                    <a:pt x="2545" y="716"/>
                  </a:lnTo>
                  <a:lnTo>
                    <a:pt x="2603" y="834"/>
                  </a:lnTo>
                  <a:lnTo>
                    <a:pt x="2649" y="959"/>
                  </a:lnTo>
                  <a:lnTo>
                    <a:pt x="2682" y="1087"/>
                  </a:lnTo>
                  <a:lnTo>
                    <a:pt x="2701" y="1218"/>
                  </a:lnTo>
                  <a:lnTo>
                    <a:pt x="2704" y="1352"/>
                  </a:lnTo>
                  <a:lnTo>
                    <a:pt x="2701" y="1485"/>
                  </a:lnTo>
                  <a:lnTo>
                    <a:pt x="2682" y="1618"/>
                  </a:lnTo>
                  <a:lnTo>
                    <a:pt x="2649" y="1746"/>
                  </a:lnTo>
                  <a:lnTo>
                    <a:pt x="2603" y="1869"/>
                  </a:lnTo>
                  <a:lnTo>
                    <a:pt x="2545" y="1988"/>
                  </a:lnTo>
                  <a:lnTo>
                    <a:pt x="2475" y="2101"/>
                  </a:lnTo>
                  <a:lnTo>
                    <a:pt x="2395" y="2207"/>
                  </a:lnTo>
                  <a:lnTo>
                    <a:pt x="2306" y="2305"/>
                  </a:lnTo>
                  <a:lnTo>
                    <a:pt x="2208" y="2395"/>
                  </a:lnTo>
                  <a:lnTo>
                    <a:pt x="2102" y="2475"/>
                  </a:lnTo>
                  <a:lnTo>
                    <a:pt x="1988" y="2544"/>
                  </a:lnTo>
                  <a:lnTo>
                    <a:pt x="1870" y="2603"/>
                  </a:lnTo>
                  <a:lnTo>
                    <a:pt x="1746" y="2649"/>
                  </a:lnTo>
                  <a:lnTo>
                    <a:pt x="1618" y="2681"/>
                  </a:lnTo>
                  <a:lnTo>
                    <a:pt x="1486" y="2700"/>
                  </a:lnTo>
                  <a:lnTo>
                    <a:pt x="1353" y="2704"/>
                  </a:lnTo>
                  <a:close/>
                </a:path>
              </a:pathLst>
            </a:custGeom>
            <a:solidFill>
              <a:srgbClr val="fff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531840" y="2488680"/>
              <a:ext cx="244080" cy="245160"/>
            </a:xfrm>
            <a:custGeom>
              <a:avLst/>
              <a:gdLst/>
              <a:ahLst/>
              <a:rect l="l" t="t" r="r" b="b"/>
              <a:pathLst>
                <a:path w="2458" h="2458">
                  <a:moveTo>
                    <a:pt x="1229" y="2458"/>
                  </a:moveTo>
                  <a:lnTo>
                    <a:pt x="1106" y="2455"/>
                  </a:lnTo>
                  <a:lnTo>
                    <a:pt x="987" y="2438"/>
                  </a:lnTo>
                  <a:lnTo>
                    <a:pt x="871" y="2408"/>
                  </a:lnTo>
                  <a:lnTo>
                    <a:pt x="759" y="2366"/>
                  </a:lnTo>
                  <a:lnTo>
                    <a:pt x="650" y="2313"/>
                  </a:lnTo>
                  <a:lnTo>
                    <a:pt x="547" y="2250"/>
                  </a:lnTo>
                  <a:lnTo>
                    <a:pt x="451" y="2178"/>
                  </a:lnTo>
                  <a:lnTo>
                    <a:pt x="362" y="2096"/>
                  </a:lnTo>
                  <a:lnTo>
                    <a:pt x="280" y="2007"/>
                  </a:lnTo>
                  <a:lnTo>
                    <a:pt x="207" y="1909"/>
                  </a:lnTo>
                  <a:lnTo>
                    <a:pt x="144" y="1807"/>
                  </a:lnTo>
                  <a:lnTo>
                    <a:pt x="91" y="1699"/>
                  </a:lnTo>
                  <a:lnTo>
                    <a:pt x="49" y="1586"/>
                  </a:lnTo>
                  <a:lnTo>
                    <a:pt x="20" y="1470"/>
                  </a:lnTo>
                  <a:lnTo>
                    <a:pt x="3" y="1351"/>
                  </a:lnTo>
                  <a:lnTo>
                    <a:pt x="0" y="1229"/>
                  </a:lnTo>
                  <a:lnTo>
                    <a:pt x="3" y="1107"/>
                  </a:lnTo>
                  <a:lnTo>
                    <a:pt x="20" y="988"/>
                  </a:lnTo>
                  <a:lnTo>
                    <a:pt x="49" y="871"/>
                  </a:lnTo>
                  <a:lnTo>
                    <a:pt x="91" y="759"/>
                  </a:lnTo>
                  <a:lnTo>
                    <a:pt x="144" y="651"/>
                  </a:lnTo>
                  <a:lnTo>
                    <a:pt x="207" y="548"/>
                  </a:lnTo>
                  <a:lnTo>
                    <a:pt x="280" y="452"/>
                  </a:lnTo>
                  <a:lnTo>
                    <a:pt x="362" y="363"/>
                  </a:lnTo>
                  <a:lnTo>
                    <a:pt x="451" y="281"/>
                  </a:lnTo>
                  <a:lnTo>
                    <a:pt x="547" y="208"/>
                  </a:lnTo>
                  <a:lnTo>
                    <a:pt x="650" y="145"/>
                  </a:lnTo>
                  <a:lnTo>
                    <a:pt x="759" y="92"/>
                  </a:lnTo>
                  <a:lnTo>
                    <a:pt x="871" y="50"/>
                  </a:lnTo>
                  <a:lnTo>
                    <a:pt x="987" y="21"/>
                  </a:lnTo>
                  <a:lnTo>
                    <a:pt x="1106" y="3"/>
                  </a:lnTo>
                  <a:lnTo>
                    <a:pt x="1229" y="0"/>
                  </a:lnTo>
                  <a:lnTo>
                    <a:pt x="1350" y="3"/>
                  </a:lnTo>
                  <a:lnTo>
                    <a:pt x="1469" y="21"/>
                  </a:lnTo>
                  <a:lnTo>
                    <a:pt x="1586" y="50"/>
                  </a:lnTo>
                  <a:lnTo>
                    <a:pt x="1699" y="92"/>
                  </a:lnTo>
                  <a:lnTo>
                    <a:pt x="1807" y="145"/>
                  </a:lnTo>
                  <a:lnTo>
                    <a:pt x="1910" y="208"/>
                  </a:lnTo>
                  <a:lnTo>
                    <a:pt x="2006" y="281"/>
                  </a:lnTo>
                  <a:lnTo>
                    <a:pt x="2095" y="363"/>
                  </a:lnTo>
                  <a:lnTo>
                    <a:pt x="2177" y="452"/>
                  </a:lnTo>
                  <a:lnTo>
                    <a:pt x="2249" y="548"/>
                  </a:lnTo>
                  <a:lnTo>
                    <a:pt x="2312" y="651"/>
                  </a:lnTo>
                  <a:lnTo>
                    <a:pt x="2365" y="759"/>
                  </a:lnTo>
                  <a:lnTo>
                    <a:pt x="2407" y="871"/>
                  </a:lnTo>
                  <a:lnTo>
                    <a:pt x="2437" y="988"/>
                  </a:lnTo>
                  <a:lnTo>
                    <a:pt x="2455" y="1107"/>
                  </a:lnTo>
                  <a:lnTo>
                    <a:pt x="2458" y="1229"/>
                  </a:lnTo>
                  <a:lnTo>
                    <a:pt x="2455" y="1351"/>
                  </a:lnTo>
                  <a:lnTo>
                    <a:pt x="2437" y="1470"/>
                  </a:lnTo>
                  <a:lnTo>
                    <a:pt x="2407" y="1586"/>
                  </a:lnTo>
                  <a:lnTo>
                    <a:pt x="2365" y="1699"/>
                  </a:lnTo>
                  <a:lnTo>
                    <a:pt x="2312" y="1807"/>
                  </a:lnTo>
                  <a:lnTo>
                    <a:pt x="2249" y="1909"/>
                  </a:lnTo>
                  <a:lnTo>
                    <a:pt x="2177" y="2007"/>
                  </a:lnTo>
                  <a:lnTo>
                    <a:pt x="2095" y="2096"/>
                  </a:lnTo>
                  <a:lnTo>
                    <a:pt x="2006" y="2178"/>
                  </a:lnTo>
                  <a:lnTo>
                    <a:pt x="1910" y="2250"/>
                  </a:lnTo>
                  <a:lnTo>
                    <a:pt x="1807" y="2313"/>
                  </a:lnTo>
                  <a:lnTo>
                    <a:pt x="1699" y="2366"/>
                  </a:lnTo>
                  <a:lnTo>
                    <a:pt x="1586" y="2408"/>
                  </a:lnTo>
                  <a:lnTo>
                    <a:pt x="1469" y="2438"/>
                  </a:lnTo>
                  <a:lnTo>
                    <a:pt x="1350" y="2455"/>
                  </a:lnTo>
                  <a:lnTo>
                    <a:pt x="1229" y="2458"/>
                  </a:lnTo>
                  <a:close/>
                </a:path>
              </a:pathLst>
            </a:custGeom>
            <a:solidFill>
              <a:srgbClr val="fff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543720" y="2501280"/>
              <a:ext cx="220320" cy="219600"/>
            </a:xfrm>
            <a:custGeom>
              <a:avLst/>
              <a:gdLst/>
              <a:ahLst/>
              <a:rect l="l" t="t" r="r" b="b"/>
              <a:pathLst>
                <a:path w="2213" h="2213">
                  <a:moveTo>
                    <a:pt x="1107" y="2213"/>
                  </a:moveTo>
                  <a:lnTo>
                    <a:pt x="998" y="2210"/>
                  </a:lnTo>
                  <a:lnTo>
                    <a:pt x="889" y="2195"/>
                  </a:lnTo>
                  <a:lnTo>
                    <a:pt x="785" y="2168"/>
                  </a:lnTo>
                  <a:lnTo>
                    <a:pt x="683" y="2131"/>
                  </a:lnTo>
                  <a:lnTo>
                    <a:pt x="586" y="2083"/>
                  </a:lnTo>
                  <a:lnTo>
                    <a:pt x="493" y="2026"/>
                  </a:lnTo>
                  <a:lnTo>
                    <a:pt x="407" y="1961"/>
                  </a:lnTo>
                  <a:lnTo>
                    <a:pt x="327" y="1887"/>
                  </a:lnTo>
                  <a:lnTo>
                    <a:pt x="253" y="1806"/>
                  </a:lnTo>
                  <a:lnTo>
                    <a:pt x="188" y="1720"/>
                  </a:lnTo>
                  <a:lnTo>
                    <a:pt x="130" y="1627"/>
                  </a:lnTo>
                  <a:lnTo>
                    <a:pt x="83" y="1530"/>
                  </a:lnTo>
                  <a:lnTo>
                    <a:pt x="45" y="1429"/>
                  </a:lnTo>
                  <a:lnTo>
                    <a:pt x="19" y="1324"/>
                  </a:lnTo>
                  <a:lnTo>
                    <a:pt x="4" y="1216"/>
                  </a:lnTo>
                  <a:lnTo>
                    <a:pt x="0" y="1107"/>
                  </a:lnTo>
                  <a:lnTo>
                    <a:pt x="4" y="997"/>
                  </a:lnTo>
                  <a:lnTo>
                    <a:pt x="19" y="890"/>
                  </a:lnTo>
                  <a:lnTo>
                    <a:pt x="45" y="786"/>
                  </a:lnTo>
                  <a:lnTo>
                    <a:pt x="83" y="684"/>
                  </a:lnTo>
                  <a:lnTo>
                    <a:pt x="130" y="587"/>
                  </a:lnTo>
                  <a:lnTo>
                    <a:pt x="188" y="494"/>
                  </a:lnTo>
                  <a:lnTo>
                    <a:pt x="253" y="407"/>
                  </a:lnTo>
                  <a:lnTo>
                    <a:pt x="327" y="327"/>
                  </a:lnTo>
                  <a:lnTo>
                    <a:pt x="407" y="254"/>
                  </a:lnTo>
                  <a:lnTo>
                    <a:pt x="493" y="188"/>
                  </a:lnTo>
                  <a:lnTo>
                    <a:pt x="586" y="131"/>
                  </a:lnTo>
                  <a:lnTo>
                    <a:pt x="683" y="84"/>
                  </a:lnTo>
                  <a:lnTo>
                    <a:pt x="785" y="46"/>
                  </a:lnTo>
                  <a:lnTo>
                    <a:pt x="889" y="19"/>
                  </a:lnTo>
                  <a:lnTo>
                    <a:pt x="998" y="3"/>
                  </a:lnTo>
                  <a:lnTo>
                    <a:pt x="1107" y="0"/>
                  </a:lnTo>
                  <a:lnTo>
                    <a:pt x="1216" y="3"/>
                  </a:lnTo>
                  <a:lnTo>
                    <a:pt x="1323" y="19"/>
                  </a:lnTo>
                  <a:lnTo>
                    <a:pt x="1428" y="46"/>
                  </a:lnTo>
                  <a:lnTo>
                    <a:pt x="1529" y="84"/>
                  </a:lnTo>
                  <a:lnTo>
                    <a:pt x="1626" y="131"/>
                  </a:lnTo>
                  <a:lnTo>
                    <a:pt x="1719" y="188"/>
                  </a:lnTo>
                  <a:lnTo>
                    <a:pt x="1806" y="254"/>
                  </a:lnTo>
                  <a:lnTo>
                    <a:pt x="1887" y="327"/>
                  </a:lnTo>
                  <a:lnTo>
                    <a:pt x="1960" y="407"/>
                  </a:lnTo>
                  <a:lnTo>
                    <a:pt x="2026" y="494"/>
                  </a:lnTo>
                  <a:lnTo>
                    <a:pt x="2082" y="587"/>
                  </a:lnTo>
                  <a:lnTo>
                    <a:pt x="2130" y="684"/>
                  </a:lnTo>
                  <a:lnTo>
                    <a:pt x="2167" y="786"/>
                  </a:lnTo>
                  <a:lnTo>
                    <a:pt x="2195" y="890"/>
                  </a:lnTo>
                  <a:lnTo>
                    <a:pt x="2210" y="997"/>
                  </a:lnTo>
                  <a:lnTo>
                    <a:pt x="2213" y="1107"/>
                  </a:lnTo>
                  <a:lnTo>
                    <a:pt x="2210" y="1216"/>
                  </a:lnTo>
                  <a:lnTo>
                    <a:pt x="2195" y="1324"/>
                  </a:lnTo>
                  <a:lnTo>
                    <a:pt x="2167" y="1429"/>
                  </a:lnTo>
                  <a:lnTo>
                    <a:pt x="2130" y="1530"/>
                  </a:lnTo>
                  <a:lnTo>
                    <a:pt x="2082" y="1627"/>
                  </a:lnTo>
                  <a:lnTo>
                    <a:pt x="2026" y="1720"/>
                  </a:lnTo>
                  <a:lnTo>
                    <a:pt x="1960" y="1806"/>
                  </a:lnTo>
                  <a:lnTo>
                    <a:pt x="1887" y="1887"/>
                  </a:lnTo>
                  <a:lnTo>
                    <a:pt x="1806" y="1961"/>
                  </a:lnTo>
                  <a:lnTo>
                    <a:pt x="1719" y="2026"/>
                  </a:lnTo>
                  <a:lnTo>
                    <a:pt x="1626" y="2083"/>
                  </a:lnTo>
                  <a:lnTo>
                    <a:pt x="1529" y="2131"/>
                  </a:lnTo>
                  <a:lnTo>
                    <a:pt x="1428" y="2168"/>
                  </a:lnTo>
                  <a:lnTo>
                    <a:pt x="1323" y="2195"/>
                  </a:lnTo>
                  <a:lnTo>
                    <a:pt x="1216" y="2210"/>
                  </a:lnTo>
                  <a:lnTo>
                    <a:pt x="1107" y="2213"/>
                  </a:lnTo>
                  <a:close/>
                </a:path>
              </a:pathLst>
            </a:custGeom>
            <a:solidFill>
              <a:srgbClr val="fff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555600" y="2513520"/>
              <a:ext cx="195840" cy="195480"/>
            </a:xfrm>
            <a:custGeom>
              <a:avLst/>
              <a:gdLst/>
              <a:ahLst/>
              <a:rect l="l" t="t" r="r" b="b"/>
              <a:pathLst>
                <a:path w="1967" h="1967">
                  <a:moveTo>
                    <a:pt x="984" y="1967"/>
                  </a:moveTo>
                  <a:lnTo>
                    <a:pt x="886" y="1964"/>
                  </a:lnTo>
                  <a:lnTo>
                    <a:pt x="791" y="1950"/>
                  </a:lnTo>
                  <a:lnTo>
                    <a:pt x="697" y="1926"/>
                  </a:lnTo>
                  <a:lnTo>
                    <a:pt x="608" y="1893"/>
                  </a:lnTo>
                  <a:lnTo>
                    <a:pt x="520" y="1851"/>
                  </a:lnTo>
                  <a:lnTo>
                    <a:pt x="439" y="1800"/>
                  </a:lnTo>
                  <a:lnTo>
                    <a:pt x="362" y="1742"/>
                  </a:lnTo>
                  <a:lnTo>
                    <a:pt x="290" y="1677"/>
                  </a:lnTo>
                  <a:lnTo>
                    <a:pt x="225" y="1605"/>
                  </a:lnTo>
                  <a:lnTo>
                    <a:pt x="166" y="1528"/>
                  </a:lnTo>
                  <a:lnTo>
                    <a:pt x="116" y="1446"/>
                  </a:lnTo>
                  <a:lnTo>
                    <a:pt x="74" y="1359"/>
                  </a:lnTo>
                  <a:lnTo>
                    <a:pt x="40" y="1270"/>
                  </a:lnTo>
                  <a:lnTo>
                    <a:pt x="16" y="1176"/>
                  </a:lnTo>
                  <a:lnTo>
                    <a:pt x="3" y="1080"/>
                  </a:lnTo>
                  <a:lnTo>
                    <a:pt x="0" y="983"/>
                  </a:lnTo>
                  <a:lnTo>
                    <a:pt x="3" y="886"/>
                  </a:lnTo>
                  <a:lnTo>
                    <a:pt x="16" y="790"/>
                  </a:lnTo>
                  <a:lnTo>
                    <a:pt x="40" y="697"/>
                  </a:lnTo>
                  <a:lnTo>
                    <a:pt x="74" y="606"/>
                  </a:lnTo>
                  <a:lnTo>
                    <a:pt x="116" y="520"/>
                  </a:lnTo>
                  <a:lnTo>
                    <a:pt x="166" y="438"/>
                  </a:lnTo>
                  <a:lnTo>
                    <a:pt x="225" y="362"/>
                  </a:lnTo>
                  <a:lnTo>
                    <a:pt x="290" y="290"/>
                  </a:lnTo>
                  <a:lnTo>
                    <a:pt x="362" y="225"/>
                  </a:lnTo>
                  <a:lnTo>
                    <a:pt x="439" y="166"/>
                  </a:lnTo>
                  <a:lnTo>
                    <a:pt x="520" y="116"/>
                  </a:lnTo>
                  <a:lnTo>
                    <a:pt x="608" y="74"/>
                  </a:lnTo>
                  <a:lnTo>
                    <a:pt x="697" y="39"/>
                  </a:lnTo>
                  <a:lnTo>
                    <a:pt x="791" y="16"/>
                  </a:lnTo>
                  <a:lnTo>
                    <a:pt x="886" y="2"/>
                  </a:lnTo>
                  <a:lnTo>
                    <a:pt x="984" y="0"/>
                  </a:lnTo>
                  <a:lnTo>
                    <a:pt x="1081" y="2"/>
                  </a:lnTo>
                  <a:lnTo>
                    <a:pt x="1177" y="16"/>
                  </a:lnTo>
                  <a:lnTo>
                    <a:pt x="1270" y="39"/>
                  </a:lnTo>
                  <a:lnTo>
                    <a:pt x="1360" y="74"/>
                  </a:lnTo>
                  <a:lnTo>
                    <a:pt x="1446" y="116"/>
                  </a:lnTo>
                  <a:lnTo>
                    <a:pt x="1529" y="166"/>
                  </a:lnTo>
                  <a:lnTo>
                    <a:pt x="1605" y="225"/>
                  </a:lnTo>
                  <a:lnTo>
                    <a:pt x="1677" y="290"/>
                  </a:lnTo>
                  <a:lnTo>
                    <a:pt x="1742" y="362"/>
                  </a:lnTo>
                  <a:lnTo>
                    <a:pt x="1800" y="438"/>
                  </a:lnTo>
                  <a:lnTo>
                    <a:pt x="1851" y="520"/>
                  </a:lnTo>
                  <a:lnTo>
                    <a:pt x="1893" y="606"/>
                  </a:lnTo>
                  <a:lnTo>
                    <a:pt x="1927" y="697"/>
                  </a:lnTo>
                  <a:lnTo>
                    <a:pt x="1950" y="790"/>
                  </a:lnTo>
                  <a:lnTo>
                    <a:pt x="1965" y="886"/>
                  </a:lnTo>
                  <a:lnTo>
                    <a:pt x="1967" y="983"/>
                  </a:lnTo>
                  <a:lnTo>
                    <a:pt x="1965" y="1080"/>
                  </a:lnTo>
                  <a:lnTo>
                    <a:pt x="1950" y="1176"/>
                  </a:lnTo>
                  <a:lnTo>
                    <a:pt x="1927" y="1270"/>
                  </a:lnTo>
                  <a:lnTo>
                    <a:pt x="1893" y="1359"/>
                  </a:lnTo>
                  <a:lnTo>
                    <a:pt x="1851" y="1446"/>
                  </a:lnTo>
                  <a:lnTo>
                    <a:pt x="1800" y="1528"/>
                  </a:lnTo>
                  <a:lnTo>
                    <a:pt x="1742" y="1605"/>
                  </a:lnTo>
                  <a:lnTo>
                    <a:pt x="1677" y="1677"/>
                  </a:lnTo>
                  <a:lnTo>
                    <a:pt x="1605" y="1742"/>
                  </a:lnTo>
                  <a:lnTo>
                    <a:pt x="1529" y="1800"/>
                  </a:lnTo>
                  <a:lnTo>
                    <a:pt x="1446" y="1851"/>
                  </a:lnTo>
                  <a:lnTo>
                    <a:pt x="1360" y="1893"/>
                  </a:lnTo>
                  <a:lnTo>
                    <a:pt x="1270" y="1926"/>
                  </a:lnTo>
                  <a:lnTo>
                    <a:pt x="1177" y="1950"/>
                  </a:lnTo>
                  <a:lnTo>
                    <a:pt x="1081" y="1964"/>
                  </a:lnTo>
                  <a:lnTo>
                    <a:pt x="984" y="1967"/>
                  </a:lnTo>
                  <a:close/>
                </a:path>
              </a:pathLst>
            </a:custGeom>
            <a:solidFill>
              <a:srgbClr val="fff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568200" y="2525400"/>
              <a:ext cx="171360" cy="171720"/>
            </a:xfrm>
            <a:custGeom>
              <a:avLst/>
              <a:gdLst/>
              <a:ahLst/>
              <a:rect l="l" t="t" r="r" b="b"/>
              <a:pathLst>
                <a:path w="1721" h="1721">
                  <a:moveTo>
                    <a:pt x="861" y="1721"/>
                  </a:moveTo>
                  <a:lnTo>
                    <a:pt x="692" y="1707"/>
                  </a:lnTo>
                  <a:lnTo>
                    <a:pt x="531" y="1657"/>
                  </a:lnTo>
                  <a:lnTo>
                    <a:pt x="384" y="1576"/>
                  </a:lnTo>
                  <a:lnTo>
                    <a:pt x="254" y="1468"/>
                  </a:lnTo>
                  <a:lnTo>
                    <a:pt x="146" y="1337"/>
                  </a:lnTo>
                  <a:lnTo>
                    <a:pt x="64" y="1191"/>
                  </a:lnTo>
                  <a:lnTo>
                    <a:pt x="15" y="1030"/>
                  </a:lnTo>
                  <a:lnTo>
                    <a:pt x="0" y="861"/>
                  </a:lnTo>
                  <a:lnTo>
                    <a:pt x="15" y="692"/>
                  </a:lnTo>
                  <a:lnTo>
                    <a:pt x="64" y="532"/>
                  </a:lnTo>
                  <a:lnTo>
                    <a:pt x="146" y="384"/>
                  </a:lnTo>
                  <a:lnTo>
                    <a:pt x="254" y="254"/>
                  </a:lnTo>
                  <a:lnTo>
                    <a:pt x="384" y="146"/>
                  </a:lnTo>
                  <a:lnTo>
                    <a:pt x="531" y="65"/>
                  </a:lnTo>
                  <a:lnTo>
                    <a:pt x="692" y="14"/>
                  </a:lnTo>
                  <a:lnTo>
                    <a:pt x="861" y="0"/>
                  </a:lnTo>
                  <a:lnTo>
                    <a:pt x="1030" y="14"/>
                  </a:lnTo>
                  <a:lnTo>
                    <a:pt x="1190" y="65"/>
                  </a:lnTo>
                  <a:lnTo>
                    <a:pt x="1337" y="146"/>
                  </a:lnTo>
                  <a:lnTo>
                    <a:pt x="1468" y="254"/>
                  </a:lnTo>
                  <a:lnTo>
                    <a:pt x="1576" y="384"/>
                  </a:lnTo>
                  <a:lnTo>
                    <a:pt x="1656" y="532"/>
                  </a:lnTo>
                  <a:lnTo>
                    <a:pt x="1707" y="692"/>
                  </a:lnTo>
                  <a:lnTo>
                    <a:pt x="1721" y="861"/>
                  </a:lnTo>
                  <a:lnTo>
                    <a:pt x="1707" y="1030"/>
                  </a:lnTo>
                  <a:lnTo>
                    <a:pt x="1656" y="1191"/>
                  </a:lnTo>
                  <a:lnTo>
                    <a:pt x="1576" y="1337"/>
                  </a:lnTo>
                  <a:lnTo>
                    <a:pt x="1468" y="1468"/>
                  </a:lnTo>
                  <a:lnTo>
                    <a:pt x="1337" y="1576"/>
                  </a:lnTo>
                  <a:lnTo>
                    <a:pt x="1190" y="1657"/>
                  </a:lnTo>
                  <a:lnTo>
                    <a:pt x="1030" y="1707"/>
                  </a:lnTo>
                  <a:lnTo>
                    <a:pt x="861" y="1721"/>
                  </a:lnTo>
                  <a:close/>
                </a:path>
              </a:pathLst>
            </a:custGeom>
            <a:solidFill>
              <a:srgbClr val="ffff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580440" y="2538000"/>
              <a:ext cx="146880" cy="146520"/>
            </a:xfrm>
            <a:custGeom>
              <a:avLst/>
              <a:gdLst/>
              <a:ahLst/>
              <a:rect l="l" t="t" r="r" b="b"/>
              <a:pathLst>
                <a:path w="1476" h="1476">
                  <a:moveTo>
                    <a:pt x="738" y="1476"/>
                  </a:moveTo>
                  <a:lnTo>
                    <a:pt x="593" y="1464"/>
                  </a:lnTo>
                  <a:lnTo>
                    <a:pt x="455" y="1421"/>
                  </a:lnTo>
                  <a:lnTo>
                    <a:pt x="328" y="1351"/>
                  </a:lnTo>
                  <a:lnTo>
                    <a:pt x="217" y="1258"/>
                  </a:lnTo>
                  <a:lnTo>
                    <a:pt x="124" y="1147"/>
                  </a:lnTo>
                  <a:lnTo>
                    <a:pt x="55" y="1020"/>
                  </a:lnTo>
                  <a:lnTo>
                    <a:pt x="12" y="882"/>
                  </a:lnTo>
                  <a:lnTo>
                    <a:pt x="0" y="738"/>
                  </a:lnTo>
                  <a:lnTo>
                    <a:pt x="12" y="593"/>
                  </a:lnTo>
                  <a:lnTo>
                    <a:pt x="55" y="455"/>
                  </a:lnTo>
                  <a:lnTo>
                    <a:pt x="124" y="329"/>
                  </a:lnTo>
                  <a:lnTo>
                    <a:pt x="217" y="218"/>
                  </a:lnTo>
                  <a:lnTo>
                    <a:pt x="328" y="125"/>
                  </a:lnTo>
                  <a:lnTo>
                    <a:pt x="455" y="56"/>
                  </a:lnTo>
                  <a:lnTo>
                    <a:pt x="593" y="13"/>
                  </a:lnTo>
                  <a:lnTo>
                    <a:pt x="738" y="0"/>
                  </a:lnTo>
                  <a:lnTo>
                    <a:pt x="882" y="13"/>
                  </a:lnTo>
                  <a:lnTo>
                    <a:pt x="1020" y="56"/>
                  </a:lnTo>
                  <a:lnTo>
                    <a:pt x="1146" y="125"/>
                  </a:lnTo>
                  <a:lnTo>
                    <a:pt x="1257" y="218"/>
                  </a:lnTo>
                  <a:lnTo>
                    <a:pt x="1350" y="329"/>
                  </a:lnTo>
                  <a:lnTo>
                    <a:pt x="1420" y="455"/>
                  </a:lnTo>
                  <a:lnTo>
                    <a:pt x="1463" y="593"/>
                  </a:lnTo>
                  <a:lnTo>
                    <a:pt x="1476" y="738"/>
                  </a:lnTo>
                  <a:lnTo>
                    <a:pt x="1463" y="882"/>
                  </a:lnTo>
                  <a:lnTo>
                    <a:pt x="1420" y="1020"/>
                  </a:lnTo>
                  <a:lnTo>
                    <a:pt x="1350" y="1147"/>
                  </a:lnTo>
                  <a:lnTo>
                    <a:pt x="1257" y="1258"/>
                  </a:lnTo>
                  <a:lnTo>
                    <a:pt x="1146" y="1351"/>
                  </a:lnTo>
                  <a:lnTo>
                    <a:pt x="1020" y="1421"/>
                  </a:lnTo>
                  <a:lnTo>
                    <a:pt x="882" y="1464"/>
                  </a:lnTo>
                  <a:lnTo>
                    <a:pt x="738" y="1476"/>
                  </a:lnTo>
                  <a:close/>
                </a:path>
              </a:pathLst>
            </a:custGeom>
            <a:solidFill>
              <a:srgbClr val="ffff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593040" y="2549880"/>
              <a:ext cx="121680" cy="122760"/>
            </a:xfrm>
            <a:custGeom>
              <a:avLst/>
              <a:gdLst/>
              <a:ahLst/>
              <a:rect l="l" t="t" r="r" b="b"/>
              <a:pathLst>
                <a:path w="1230" h="1230">
                  <a:moveTo>
                    <a:pt x="616" y="1230"/>
                  </a:moveTo>
                  <a:lnTo>
                    <a:pt x="494" y="1219"/>
                  </a:lnTo>
                  <a:lnTo>
                    <a:pt x="380" y="1184"/>
                  </a:lnTo>
                  <a:lnTo>
                    <a:pt x="275" y="1126"/>
                  </a:lnTo>
                  <a:lnTo>
                    <a:pt x="182" y="1048"/>
                  </a:lnTo>
                  <a:lnTo>
                    <a:pt x="105" y="956"/>
                  </a:lnTo>
                  <a:lnTo>
                    <a:pt x="47" y="850"/>
                  </a:lnTo>
                  <a:lnTo>
                    <a:pt x="11" y="736"/>
                  </a:lnTo>
                  <a:lnTo>
                    <a:pt x="0" y="615"/>
                  </a:lnTo>
                  <a:lnTo>
                    <a:pt x="11" y="494"/>
                  </a:lnTo>
                  <a:lnTo>
                    <a:pt x="47" y="380"/>
                  </a:lnTo>
                  <a:lnTo>
                    <a:pt x="105" y="274"/>
                  </a:lnTo>
                  <a:lnTo>
                    <a:pt x="182" y="181"/>
                  </a:lnTo>
                  <a:lnTo>
                    <a:pt x="275" y="104"/>
                  </a:lnTo>
                  <a:lnTo>
                    <a:pt x="380" y="47"/>
                  </a:lnTo>
                  <a:lnTo>
                    <a:pt x="494" y="10"/>
                  </a:lnTo>
                  <a:lnTo>
                    <a:pt x="616" y="0"/>
                  </a:lnTo>
                  <a:lnTo>
                    <a:pt x="736" y="10"/>
                  </a:lnTo>
                  <a:lnTo>
                    <a:pt x="851" y="47"/>
                  </a:lnTo>
                  <a:lnTo>
                    <a:pt x="956" y="104"/>
                  </a:lnTo>
                  <a:lnTo>
                    <a:pt x="1049" y="181"/>
                  </a:lnTo>
                  <a:lnTo>
                    <a:pt x="1127" y="274"/>
                  </a:lnTo>
                  <a:lnTo>
                    <a:pt x="1184" y="380"/>
                  </a:lnTo>
                  <a:lnTo>
                    <a:pt x="1220" y="494"/>
                  </a:lnTo>
                  <a:lnTo>
                    <a:pt x="1230" y="615"/>
                  </a:lnTo>
                  <a:lnTo>
                    <a:pt x="1220" y="736"/>
                  </a:lnTo>
                  <a:lnTo>
                    <a:pt x="1184" y="850"/>
                  </a:lnTo>
                  <a:lnTo>
                    <a:pt x="1127" y="956"/>
                  </a:lnTo>
                  <a:lnTo>
                    <a:pt x="1049" y="1048"/>
                  </a:lnTo>
                  <a:lnTo>
                    <a:pt x="956" y="1126"/>
                  </a:lnTo>
                  <a:lnTo>
                    <a:pt x="851" y="1184"/>
                  </a:lnTo>
                  <a:lnTo>
                    <a:pt x="736" y="1219"/>
                  </a:lnTo>
                  <a:lnTo>
                    <a:pt x="616" y="1230"/>
                  </a:lnTo>
                  <a:close/>
                </a:path>
              </a:pathLst>
            </a:custGeom>
            <a:solidFill>
              <a:srgbClr val="fff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604920" y="2562120"/>
              <a:ext cx="97920" cy="97560"/>
            </a:xfrm>
            <a:custGeom>
              <a:avLst/>
              <a:gdLst/>
              <a:ahLst/>
              <a:rect l="l" t="t" r="r" b="b"/>
              <a:pathLst>
                <a:path w="984" h="984">
                  <a:moveTo>
                    <a:pt x="492" y="984"/>
                  </a:moveTo>
                  <a:lnTo>
                    <a:pt x="395" y="976"/>
                  </a:lnTo>
                  <a:lnTo>
                    <a:pt x="303" y="947"/>
                  </a:lnTo>
                  <a:lnTo>
                    <a:pt x="219" y="901"/>
                  </a:lnTo>
                  <a:lnTo>
                    <a:pt x="144" y="839"/>
                  </a:lnTo>
                  <a:lnTo>
                    <a:pt x="82" y="764"/>
                  </a:lnTo>
                  <a:lnTo>
                    <a:pt x="36" y="680"/>
                  </a:lnTo>
                  <a:lnTo>
                    <a:pt x="7" y="589"/>
                  </a:lnTo>
                  <a:lnTo>
                    <a:pt x="0" y="492"/>
                  </a:lnTo>
                  <a:lnTo>
                    <a:pt x="7" y="396"/>
                  </a:lnTo>
                  <a:lnTo>
                    <a:pt x="36" y="304"/>
                  </a:lnTo>
                  <a:lnTo>
                    <a:pt x="82" y="219"/>
                  </a:lnTo>
                  <a:lnTo>
                    <a:pt x="144" y="145"/>
                  </a:lnTo>
                  <a:lnTo>
                    <a:pt x="219" y="83"/>
                  </a:lnTo>
                  <a:lnTo>
                    <a:pt x="303" y="37"/>
                  </a:lnTo>
                  <a:lnTo>
                    <a:pt x="395" y="8"/>
                  </a:lnTo>
                  <a:lnTo>
                    <a:pt x="492" y="0"/>
                  </a:lnTo>
                  <a:lnTo>
                    <a:pt x="588" y="8"/>
                  </a:lnTo>
                  <a:lnTo>
                    <a:pt x="679" y="37"/>
                  </a:lnTo>
                  <a:lnTo>
                    <a:pt x="764" y="83"/>
                  </a:lnTo>
                  <a:lnTo>
                    <a:pt x="838" y="145"/>
                  </a:lnTo>
                  <a:lnTo>
                    <a:pt x="900" y="219"/>
                  </a:lnTo>
                  <a:lnTo>
                    <a:pt x="946" y="304"/>
                  </a:lnTo>
                  <a:lnTo>
                    <a:pt x="975" y="396"/>
                  </a:lnTo>
                  <a:lnTo>
                    <a:pt x="984" y="492"/>
                  </a:lnTo>
                  <a:lnTo>
                    <a:pt x="975" y="589"/>
                  </a:lnTo>
                  <a:lnTo>
                    <a:pt x="946" y="680"/>
                  </a:lnTo>
                  <a:lnTo>
                    <a:pt x="900" y="764"/>
                  </a:lnTo>
                  <a:lnTo>
                    <a:pt x="838" y="839"/>
                  </a:lnTo>
                  <a:lnTo>
                    <a:pt x="764" y="901"/>
                  </a:lnTo>
                  <a:lnTo>
                    <a:pt x="679" y="947"/>
                  </a:lnTo>
                  <a:lnTo>
                    <a:pt x="588" y="976"/>
                  </a:lnTo>
                  <a:lnTo>
                    <a:pt x="492" y="984"/>
                  </a:lnTo>
                  <a:close/>
                </a:path>
              </a:pathLst>
            </a:custGeom>
            <a:solidFill>
              <a:srgbClr val="ffff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616800" y="2574720"/>
              <a:ext cx="74160" cy="73080"/>
            </a:xfrm>
            <a:custGeom>
              <a:avLst/>
              <a:gdLst/>
              <a:ahLst/>
              <a:rect l="l" t="t" r="r" b="b"/>
              <a:pathLst>
                <a:path w="739" h="739">
                  <a:moveTo>
                    <a:pt x="370" y="739"/>
                  </a:moveTo>
                  <a:lnTo>
                    <a:pt x="297" y="733"/>
                  </a:lnTo>
                  <a:lnTo>
                    <a:pt x="229" y="712"/>
                  </a:lnTo>
                  <a:lnTo>
                    <a:pt x="165" y="676"/>
                  </a:lnTo>
                  <a:lnTo>
                    <a:pt x="109" y="630"/>
                  </a:lnTo>
                  <a:lnTo>
                    <a:pt x="63" y="575"/>
                  </a:lnTo>
                  <a:lnTo>
                    <a:pt x="28" y="511"/>
                  </a:lnTo>
                  <a:lnTo>
                    <a:pt x="7" y="443"/>
                  </a:lnTo>
                  <a:lnTo>
                    <a:pt x="0" y="370"/>
                  </a:lnTo>
                  <a:lnTo>
                    <a:pt x="7" y="298"/>
                  </a:lnTo>
                  <a:lnTo>
                    <a:pt x="28" y="228"/>
                  </a:lnTo>
                  <a:lnTo>
                    <a:pt x="63" y="166"/>
                  </a:lnTo>
                  <a:lnTo>
                    <a:pt x="109" y="109"/>
                  </a:lnTo>
                  <a:lnTo>
                    <a:pt x="165" y="63"/>
                  </a:lnTo>
                  <a:lnTo>
                    <a:pt x="229" y="29"/>
                  </a:lnTo>
                  <a:lnTo>
                    <a:pt x="297" y="7"/>
                  </a:lnTo>
                  <a:lnTo>
                    <a:pt x="370" y="0"/>
                  </a:lnTo>
                  <a:lnTo>
                    <a:pt x="442" y="7"/>
                  </a:lnTo>
                  <a:lnTo>
                    <a:pt x="511" y="29"/>
                  </a:lnTo>
                  <a:lnTo>
                    <a:pt x="574" y="63"/>
                  </a:lnTo>
                  <a:lnTo>
                    <a:pt x="630" y="109"/>
                  </a:lnTo>
                  <a:lnTo>
                    <a:pt x="677" y="166"/>
                  </a:lnTo>
                  <a:lnTo>
                    <a:pt x="711" y="228"/>
                  </a:lnTo>
                  <a:lnTo>
                    <a:pt x="733" y="298"/>
                  </a:lnTo>
                  <a:lnTo>
                    <a:pt x="739" y="370"/>
                  </a:lnTo>
                  <a:lnTo>
                    <a:pt x="733" y="443"/>
                  </a:lnTo>
                  <a:lnTo>
                    <a:pt x="711" y="511"/>
                  </a:lnTo>
                  <a:lnTo>
                    <a:pt x="677" y="575"/>
                  </a:lnTo>
                  <a:lnTo>
                    <a:pt x="630" y="630"/>
                  </a:lnTo>
                  <a:lnTo>
                    <a:pt x="574" y="676"/>
                  </a:lnTo>
                  <a:lnTo>
                    <a:pt x="511" y="712"/>
                  </a:lnTo>
                  <a:lnTo>
                    <a:pt x="442" y="733"/>
                  </a:lnTo>
                  <a:lnTo>
                    <a:pt x="370" y="739"/>
                  </a:lnTo>
                  <a:close/>
                </a:path>
              </a:pathLst>
            </a:custGeom>
            <a:solidFill>
              <a:srgbClr val="ffff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629760" y="2586600"/>
              <a:ext cx="48240" cy="49320"/>
            </a:xfrm>
            <a:custGeom>
              <a:avLst/>
              <a:gdLst/>
              <a:ahLst/>
              <a:rect l="l" t="t" r="r" b="b"/>
              <a:pathLst>
                <a:path w="493" h="493">
                  <a:moveTo>
                    <a:pt x="247" y="493"/>
                  </a:moveTo>
                  <a:lnTo>
                    <a:pt x="198" y="488"/>
                  </a:lnTo>
                  <a:lnTo>
                    <a:pt x="152" y="474"/>
                  </a:lnTo>
                  <a:lnTo>
                    <a:pt x="110" y="451"/>
                  </a:lnTo>
                  <a:lnTo>
                    <a:pt x="72" y="420"/>
                  </a:lnTo>
                  <a:lnTo>
                    <a:pt x="42" y="383"/>
                  </a:lnTo>
                  <a:lnTo>
                    <a:pt x="18" y="341"/>
                  </a:lnTo>
                  <a:lnTo>
                    <a:pt x="4" y="294"/>
                  </a:lnTo>
                  <a:lnTo>
                    <a:pt x="0" y="246"/>
                  </a:lnTo>
                  <a:lnTo>
                    <a:pt x="4" y="197"/>
                  </a:lnTo>
                  <a:lnTo>
                    <a:pt x="18" y="152"/>
                  </a:lnTo>
                  <a:lnTo>
                    <a:pt x="42" y="109"/>
                  </a:lnTo>
                  <a:lnTo>
                    <a:pt x="72" y="73"/>
                  </a:lnTo>
                  <a:lnTo>
                    <a:pt x="110" y="42"/>
                  </a:lnTo>
                  <a:lnTo>
                    <a:pt x="152" y="18"/>
                  </a:lnTo>
                  <a:lnTo>
                    <a:pt x="198" y="4"/>
                  </a:lnTo>
                  <a:lnTo>
                    <a:pt x="247" y="0"/>
                  </a:lnTo>
                  <a:lnTo>
                    <a:pt x="295" y="4"/>
                  </a:lnTo>
                  <a:lnTo>
                    <a:pt x="341" y="18"/>
                  </a:lnTo>
                  <a:lnTo>
                    <a:pt x="383" y="42"/>
                  </a:lnTo>
                  <a:lnTo>
                    <a:pt x="420" y="73"/>
                  </a:lnTo>
                  <a:lnTo>
                    <a:pt x="451" y="109"/>
                  </a:lnTo>
                  <a:lnTo>
                    <a:pt x="474" y="152"/>
                  </a:lnTo>
                  <a:lnTo>
                    <a:pt x="488" y="197"/>
                  </a:lnTo>
                  <a:lnTo>
                    <a:pt x="493" y="246"/>
                  </a:lnTo>
                  <a:lnTo>
                    <a:pt x="488" y="294"/>
                  </a:lnTo>
                  <a:lnTo>
                    <a:pt x="474" y="341"/>
                  </a:lnTo>
                  <a:lnTo>
                    <a:pt x="451" y="383"/>
                  </a:lnTo>
                  <a:lnTo>
                    <a:pt x="420" y="420"/>
                  </a:lnTo>
                  <a:lnTo>
                    <a:pt x="383" y="451"/>
                  </a:lnTo>
                  <a:lnTo>
                    <a:pt x="341" y="474"/>
                  </a:lnTo>
                  <a:lnTo>
                    <a:pt x="295" y="488"/>
                  </a:lnTo>
                  <a:lnTo>
                    <a:pt x="247" y="493"/>
                  </a:lnTo>
                  <a:close/>
                </a:path>
              </a:pathLst>
            </a:custGeom>
            <a:solidFill>
              <a:srgbClr val="fff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641640" y="2599200"/>
              <a:ext cx="24480" cy="23760"/>
            </a:xfrm>
            <a:custGeom>
              <a:avLst/>
              <a:gdLst/>
              <a:ahLst/>
              <a:rect l="l" t="t" r="r" b="b"/>
              <a:pathLst>
                <a:path w="247" h="247">
                  <a:moveTo>
                    <a:pt x="124" y="247"/>
                  </a:moveTo>
                  <a:lnTo>
                    <a:pt x="76" y="238"/>
                  </a:lnTo>
                  <a:lnTo>
                    <a:pt x="37" y="211"/>
                  </a:lnTo>
                  <a:lnTo>
                    <a:pt x="9" y="171"/>
                  </a:lnTo>
                  <a:lnTo>
                    <a:pt x="0" y="124"/>
                  </a:lnTo>
                  <a:lnTo>
                    <a:pt x="9" y="76"/>
                  </a:lnTo>
                  <a:lnTo>
                    <a:pt x="37" y="37"/>
                  </a:lnTo>
                  <a:lnTo>
                    <a:pt x="76" y="10"/>
                  </a:lnTo>
                  <a:lnTo>
                    <a:pt x="124" y="0"/>
                  </a:lnTo>
                  <a:lnTo>
                    <a:pt x="171" y="10"/>
                  </a:lnTo>
                  <a:lnTo>
                    <a:pt x="211" y="37"/>
                  </a:lnTo>
                  <a:lnTo>
                    <a:pt x="237" y="76"/>
                  </a:lnTo>
                  <a:lnTo>
                    <a:pt x="247" y="124"/>
                  </a:lnTo>
                  <a:lnTo>
                    <a:pt x="237" y="171"/>
                  </a:lnTo>
                  <a:lnTo>
                    <a:pt x="211" y="211"/>
                  </a:lnTo>
                  <a:lnTo>
                    <a:pt x="171" y="238"/>
                  </a:lnTo>
                  <a:lnTo>
                    <a:pt x="124" y="247"/>
                  </a:lnTo>
                  <a:close/>
                </a:path>
              </a:pathLst>
            </a:custGeom>
            <a:solidFill>
              <a:srgbClr val="fff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464880" y="2301480"/>
              <a:ext cx="424440" cy="600120"/>
            </a:xfrm>
            <a:custGeom>
              <a:avLst/>
              <a:gdLst/>
              <a:ahLst/>
              <a:rect l="l" t="t" r="r" b="b"/>
              <a:pathLst>
                <a:path w="4266" h="6037">
                  <a:moveTo>
                    <a:pt x="3002" y="0"/>
                  </a:moveTo>
                  <a:lnTo>
                    <a:pt x="2713" y="13"/>
                  </a:lnTo>
                  <a:lnTo>
                    <a:pt x="2428" y="54"/>
                  </a:lnTo>
                  <a:lnTo>
                    <a:pt x="2149" y="120"/>
                  </a:lnTo>
                  <a:lnTo>
                    <a:pt x="1878" y="214"/>
                  </a:lnTo>
                  <a:lnTo>
                    <a:pt x="1614" y="335"/>
                  </a:lnTo>
                  <a:lnTo>
                    <a:pt x="1360" y="484"/>
                  </a:lnTo>
                  <a:lnTo>
                    <a:pt x="1119" y="662"/>
                  </a:lnTo>
                  <a:lnTo>
                    <a:pt x="890" y="868"/>
                  </a:lnTo>
                  <a:lnTo>
                    <a:pt x="682" y="1100"/>
                  </a:lnTo>
                  <a:lnTo>
                    <a:pt x="501" y="1346"/>
                  </a:lnTo>
                  <a:lnTo>
                    <a:pt x="348" y="1604"/>
                  </a:lnTo>
                  <a:lnTo>
                    <a:pt x="223" y="1875"/>
                  </a:lnTo>
                  <a:lnTo>
                    <a:pt x="126" y="2153"/>
                  </a:lnTo>
                  <a:lnTo>
                    <a:pt x="56" y="2438"/>
                  </a:lnTo>
                  <a:lnTo>
                    <a:pt x="14" y="2727"/>
                  </a:lnTo>
                  <a:lnTo>
                    <a:pt x="0" y="3019"/>
                  </a:lnTo>
                  <a:lnTo>
                    <a:pt x="14" y="3310"/>
                  </a:lnTo>
                  <a:lnTo>
                    <a:pt x="56" y="3599"/>
                  </a:lnTo>
                  <a:lnTo>
                    <a:pt x="126" y="3885"/>
                  </a:lnTo>
                  <a:lnTo>
                    <a:pt x="223" y="4163"/>
                  </a:lnTo>
                  <a:lnTo>
                    <a:pt x="348" y="4433"/>
                  </a:lnTo>
                  <a:lnTo>
                    <a:pt x="501" y="4691"/>
                  </a:lnTo>
                  <a:lnTo>
                    <a:pt x="682" y="4937"/>
                  </a:lnTo>
                  <a:lnTo>
                    <a:pt x="890" y="5168"/>
                  </a:lnTo>
                  <a:lnTo>
                    <a:pt x="1120" y="5375"/>
                  </a:lnTo>
                  <a:lnTo>
                    <a:pt x="1362" y="5553"/>
                  </a:lnTo>
                  <a:lnTo>
                    <a:pt x="1615" y="5703"/>
                  </a:lnTo>
                  <a:lnTo>
                    <a:pt x="1879" y="5823"/>
                  </a:lnTo>
                  <a:lnTo>
                    <a:pt x="2151" y="5917"/>
                  </a:lnTo>
                  <a:lnTo>
                    <a:pt x="2432" y="5985"/>
                  </a:lnTo>
                  <a:lnTo>
                    <a:pt x="2716" y="6024"/>
                  </a:lnTo>
                  <a:lnTo>
                    <a:pt x="3005" y="6037"/>
                  </a:lnTo>
                  <a:lnTo>
                    <a:pt x="3076" y="6025"/>
                  </a:lnTo>
                  <a:lnTo>
                    <a:pt x="3159" y="5988"/>
                  </a:lnTo>
                  <a:lnTo>
                    <a:pt x="3249" y="5926"/>
                  </a:lnTo>
                  <a:lnTo>
                    <a:pt x="3347" y="5840"/>
                  </a:lnTo>
                  <a:lnTo>
                    <a:pt x="3451" y="5731"/>
                  </a:lnTo>
                  <a:lnTo>
                    <a:pt x="3556" y="5597"/>
                  </a:lnTo>
                  <a:lnTo>
                    <a:pt x="3662" y="5441"/>
                  </a:lnTo>
                  <a:lnTo>
                    <a:pt x="3766" y="5260"/>
                  </a:lnTo>
                  <a:lnTo>
                    <a:pt x="3865" y="5058"/>
                  </a:lnTo>
                  <a:lnTo>
                    <a:pt x="3959" y="4832"/>
                  </a:lnTo>
                  <a:lnTo>
                    <a:pt x="4044" y="4583"/>
                  </a:lnTo>
                  <a:lnTo>
                    <a:pt x="4119" y="4314"/>
                  </a:lnTo>
                  <a:lnTo>
                    <a:pt x="4180" y="4022"/>
                  </a:lnTo>
                  <a:lnTo>
                    <a:pt x="4227" y="3708"/>
                  </a:lnTo>
                  <a:lnTo>
                    <a:pt x="4257" y="3374"/>
                  </a:lnTo>
                  <a:lnTo>
                    <a:pt x="4266" y="3019"/>
                  </a:lnTo>
                  <a:lnTo>
                    <a:pt x="4257" y="2661"/>
                  </a:lnTo>
                  <a:lnTo>
                    <a:pt x="4227" y="2326"/>
                  </a:lnTo>
                  <a:lnTo>
                    <a:pt x="4179" y="2012"/>
                  </a:lnTo>
                  <a:lnTo>
                    <a:pt x="4118" y="1720"/>
                  </a:lnTo>
                  <a:lnTo>
                    <a:pt x="4043" y="1450"/>
                  </a:lnTo>
                  <a:lnTo>
                    <a:pt x="3958" y="1202"/>
                  </a:lnTo>
                  <a:lnTo>
                    <a:pt x="3864" y="976"/>
                  </a:lnTo>
                  <a:lnTo>
                    <a:pt x="3763" y="773"/>
                  </a:lnTo>
                  <a:lnTo>
                    <a:pt x="3660" y="595"/>
                  </a:lnTo>
                  <a:lnTo>
                    <a:pt x="3554" y="438"/>
                  </a:lnTo>
                  <a:lnTo>
                    <a:pt x="3448" y="305"/>
                  </a:lnTo>
                  <a:lnTo>
                    <a:pt x="3344" y="195"/>
                  </a:lnTo>
                  <a:lnTo>
                    <a:pt x="3246" y="110"/>
                  </a:lnTo>
                  <a:lnTo>
                    <a:pt x="3154" y="49"/>
                  </a:lnTo>
                  <a:lnTo>
                    <a:pt x="3073" y="12"/>
                  </a:lnTo>
                  <a:lnTo>
                    <a:pt x="3002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0" y="765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Comic Sans MS"/>
                <a:ea typeface="Arial"/>
              </a:rPr>
              <a:t>Metamorphic rocks are formed by the combined effect of heat and pressure on other rocks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2050920" y="3933720"/>
            <a:ext cx="4826160" cy="2882880"/>
          </a:xfrm>
          <a:prstGeom prst="rect">
            <a:avLst/>
          </a:prstGeom>
          <a:ln w="0">
            <a:noFill/>
          </a:ln>
        </p:spPr>
      </p:pic>
      <p:grpSp>
        <p:nvGrpSpPr>
          <p:cNvPr id="245" name=""/>
          <p:cNvGrpSpPr/>
          <p:nvPr/>
        </p:nvGrpSpPr>
        <p:grpSpPr>
          <a:xfrm>
            <a:off x="395280" y="1844280"/>
            <a:ext cx="6048360" cy="531720"/>
            <a:chOff x="395280" y="1844280"/>
            <a:chExt cx="6048360" cy="531720"/>
          </a:xfrm>
        </p:grpSpPr>
        <p:sp>
          <p:nvSpPr>
            <p:cNvPr id="246" name=""/>
            <p:cNvSpPr/>
            <p:nvPr/>
          </p:nvSpPr>
          <p:spPr>
            <a:xfrm>
              <a:off x="395280" y="1916280"/>
              <a:ext cx="446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8000"/>
                  </a:solidFill>
                  <a:latin typeface="Comic Sans MS"/>
                  <a:ea typeface="Arial"/>
                </a:rPr>
                <a:t>Pressure from rocks above…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4500720" y="1844280"/>
              <a:ext cx="1942920" cy="289080"/>
            </a:xfrm>
            <a:prstGeom prst="line">
              <a:avLst/>
            </a:prstGeom>
            <a:ln w="31680">
              <a:solidFill>
                <a:srgbClr val="99ff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250920" y="2276280"/>
            <a:ext cx="6192720" cy="891720"/>
            <a:chOff x="250920" y="2276280"/>
            <a:chExt cx="6192720" cy="891720"/>
          </a:xfrm>
        </p:grpSpPr>
        <p:sp>
          <p:nvSpPr>
            <p:cNvPr id="249" name=""/>
            <p:cNvSpPr/>
            <p:nvPr/>
          </p:nvSpPr>
          <p:spPr>
            <a:xfrm>
              <a:off x="250920" y="2708280"/>
              <a:ext cx="49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6699"/>
                  </a:solidFill>
                  <a:latin typeface="Comic Sans MS"/>
                  <a:ea typeface="Arial"/>
                </a:rPr>
                <a:t>…</a:t>
              </a:r>
              <a:r>
                <a:rPr b="0" lang="en-GB" sz="2400" spc="-1" strike="noStrike">
                  <a:solidFill>
                    <a:srgbClr val="006699"/>
                  </a:solidFill>
                  <a:latin typeface="Comic Sans MS"/>
                  <a:ea typeface="Arial"/>
                </a:rPr>
                <a:t>and heat from magma nearby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4788000" y="2276280"/>
              <a:ext cx="1655640" cy="649080"/>
            </a:xfrm>
            <a:prstGeom prst="line">
              <a:avLst/>
            </a:prstGeom>
            <a:ln w="31680">
              <a:solidFill>
                <a:srgbClr val="33cc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9B6F5-A5DD-4F0D-B9E7-04B07ACA32C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66"/>
                </a:solidFill>
                <a:latin typeface="Comic Sans MS"/>
              </a:rPr>
              <a:t>Metamorphic rocks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003640" y="1413000"/>
            <a:ext cx="3802320" cy="3340800"/>
            <a:chOff x="5003640" y="1413000"/>
            <a:chExt cx="3802320" cy="3340800"/>
          </a:xfrm>
        </p:grpSpPr>
        <p:pic>
          <p:nvPicPr>
            <p:cNvPr id="253" name="" descr=""/>
            <p:cNvPicPr/>
            <p:nvPr/>
          </p:nvPicPr>
          <p:blipFill>
            <a:blip r:embed="rId1"/>
            <a:stretch/>
          </p:blipFill>
          <p:spPr>
            <a:xfrm>
              <a:off x="5003640" y="1413000"/>
              <a:ext cx="3802320" cy="28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5867280" y="4294080"/>
              <a:ext cx="244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6699"/>
                  </a:solidFill>
                  <a:latin typeface="Comic Sans MS"/>
                  <a:ea typeface="Arial"/>
                </a:rPr>
                <a:t>Slate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539640" y="3692520"/>
            <a:ext cx="5041800" cy="3165480"/>
            <a:chOff x="539640" y="3692520"/>
            <a:chExt cx="5041800" cy="3165480"/>
          </a:xfrm>
        </p:grpSpPr>
        <p:pic>
          <p:nvPicPr>
            <p:cNvPr id="256" name="" descr=""/>
            <p:cNvPicPr/>
            <p:nvPr/>
          </p:nvPicPr>
          <p:blipFill>
            <a:blip r:embed="rId2"/>
            <a:stretch/>
          </p:blipFill>
          <p:spPr>
            <a:xfrm>
              <a:off x="539640" y="3692520"/>
              <a:ext cx="3384720" cy="316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3924360" y="6093000"/>
              <a:ext cx="165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6699"/>
                  </a:solidFill>
                  <a:latin typeface="Comic Sans MS"/>
                  <a:ea typeface="Arial"/>
                </a:rPr>
                <a:t>Marble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324000" y="836640"/>
            <a:ext cx="5760720" cy="2670120"/>
            <a:chOff x="324000" y="836640"/>
            <a:chExt cx="5760720" cy="2670120"/>
          </a:xfrm>
        </p:grpSpPr>
        <p:pic>
          <p:nvPicPr>
            <p:cNvPr id="259" name="" descr=""/>
            <p:cNvPicPr/>
            <p:nvPr/>
          </p:nvPicPr>
          <p:blipFill>
            <a:blip r:embed="rId3"/>
            <a:stretch/>
          </p:blipFill>
          <p:spPr>
            <a:xfrm>
              <a:off x="324000" y="836640"/>
              <a:ext cx="3554280" cy="267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3635280" y="907920"/>
              <a:ext cx="244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6699"/>
                  </a:solidFill>
                  <a:latin typeface="Comic Sans MS"/>
                  <a:ea typeface="Arial"/>
                </a:rPr>
                <a:t>Quartzite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6227640" y="5229360"/>
            <a:ext cx="2232000" cy="1224000"/>
          </a:xfrm>
          <a:prstGeom prst="wedgeRoundRectCallout">
            <a:avLst>
              <a:gd name="adj1" fmla="val 13939"/>
              <a:gd name="adj2" fmla="val -164916"/>
              <a:gd name="adj3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id you know I was once clay?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211640" y="4365720"/>
            <a:ext cx="1873080" cy="863640"/>
          </a:xfrm>
          <a:prstGeom prst="wedgeRoundRectCallout">
            <a:avLst>
              <a:gd name="adj1" fmla="val -78726"/>
              <a:gd name="adj2" fmla="val 17277"/>
              <a:gd name="adj3" fmla="val 16667"/>
            </a:avLst>
          </a:prstGeom>
          <a:solidFill>
            <a:srgbClr val="ebf7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 was limeston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059280" y="1916280"/>
            <a:ext cx="1873080" cy="1296720"/>
          </a:xfrm>
          <a:prstGeom prst="wedgeRoundRectCallout">
            <a:avLst>
              <a:gd name="adj1" fmla="val -78726"/>
              <a:gd name="adj2" fmla="val -5203"/>
              <a:gd name="adj3" fmla="val 16667"/>
            </a:avLst>
          </a:prstGeom>
          <a:solidFill>
            <a:srgbClr val="ffffcc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 was sand-ston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538B7-242C-4899-BFF1-2B66BB301C7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What are metamorphic rocks like?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They were made from other rocks were acted on by heat and pressure over a long time</a:t>
            </a: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ometimes have tiny crystals, no fossils because any remaining animal and plant bits would have been cooked in the process!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They always hard and sometimes arranged in layers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4EEC0-D5CB-48D6-8EF5-142D2FC36E1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66"/>
                </a:solidFill>
                <a:latin typeface="Comic Sans MS"/>
              </a:rPr>
              <a:t>Sedimentary rocks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765000"/>
            <a:ext cx="4630680" cy="609300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5508720" y="836640"/>
            <a:ext cx="2879640" cy="8254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How sedimentary rocks are formed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788000" y="2205000"/>
            <a:ext cx="4105080" cy="45972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1)  Weathering and erosio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rot="1310400">
            <a:off x="2771640" y="1773000"/>
            <a:ext cx="2160720" cy="287280"/>
          </a:xfrm>
          <a:prstGeom prst="leftArrow">
            <a:avLst>
              <a:gd name="adj1" fmla="val 50000"/>
              <a:gd name="adj2" fmla="val 188033"/>
            </a:avLst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2694240" y="3429000"/>
            <a:ext cx="4973400" cy="459720"/>
            <a:chOff x="2694240" y="3429000"/>
            <a:chExt cx="4973400" cy="459720"/>
          </a:xfrm>
        </p:grpSpPr>
        <p:sp>
          <p:nvSpPr>
            <p:cNvPr id="272" name=""/>
            <p:cNvSpPr/>
            <p:nvPr/>
          </p:nvSpPr>
          <p:spPr>
            <a:xfrm>
              <a:off x="4788000" y="3429000"/>
              <a:ext cx="2879640" cy="45972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  <a:ea typeface="Arial"/>
                </a:rPr>
                <a:t>2)  Transportation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21411000">
              <a:off x="2700360" y="3500280"/>
              <a:ext cx="2160720" cy="287640"/>
            </a:xfrm>
            <a:prstGeom prst="leftArrow">
              <a:avLst>
                <a:gd name="adj1" fmla="val 50000"/>
                <a:gd name="adj2" fmla="val 187797"/>
              </a:avLst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4046400" y="5877000"/>
            <a:ext cx="3621240" cy="888840"/>
            <a:chOff x="4046400" y="5877000"/>
            <a:chExt cx="3621240" cy="888840"/>
          </a:xfrm>
        </p:grpSpPr>
        <p:sp>
          <p:nvSpPr>
            <p:cNvPr id="275" name=""/>
            <p:cNvSpPr/>
            <p:nvPr/>
          </p:nvSpPr>
          <p:spPr>
            <a:xfrm>
              <a:off x="4788000" y="5877000"/>
              <a:ext cx="2879640" cy="4597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  <a:ea typeface="Arial"/>
                </a:rPr>
                <a:t>4)  Burial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9908600">
              <a:off x="4067280" y="6308640"/>
              <a:ext cx="792000" cy="287280"/>
            </a:xfrm>
            <a:prstGeom prst="leftArrow">
              <a:avLst>
                <a:gd name="adj1" fmla="val 50000"/>
                <a:gd name="adj2" fmla="val 68922"/>
              </a:avLst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2971080" y="4653000"/>
            <a:ext cx="4696560" cy="1414800"/>
            <a:chOff x="2971080" y="4653000"/>
            <a:chExt cx="4696560" cy="1414800"/>
          </a:xfrm>
        </p:grpSpPr>
        <p:sp>
          <p:nvSpPr>
            <p:cNvPr id="278" name=""/>
            <p:cNvSpPr/>
            <p:nvPr/>
          </p:nvSpPr>
          <p:spPr>
            <a:xfrm rot="19959600">
              <a:off x="2916360" y="5300280"/>
              <a:ext cx="2160360" cy="287280"/>
            </a:xfrm>
            <a:prstGeom prst="leftArrow">
              <a:avLst>
                <a:gd name="adj1" fmla="val 50000"/>
                <a:gd name="adj2" fmla="val 188001"/>
              </a:avLst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788000" y="4653000"/>
              <a:ext cx="2879640" cy="45972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  <a:ea typeface="Arial"/>
                </a:rPr>
                <a:t>3)  Deposition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2CD98-9600-4CFC-A65E-136E16B41DD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9T15:13:21Z</dcterms:created>
  <dc:creator>Lindy</dc:creator>
  <dc:description/>
  <dc:language>en-US</dc:language>
  <cp:lastModifiedBy>Lindy</cp:lastModifiedBy>
  <dcterms:modified xsi:type="dcterms:W3CDTF">2008-12-14T14:14:36Z</dcterms:modified>
  <cp:revision>8</cp:revision>
  <dc:subject/>
  <dc:title>Rock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